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DAFC-A6EB-4740-81F2-4745C35E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53C-5A61-4E20-B47B-0BF29E45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37F-7F4F-40DF-B509-119E7526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8F6-58F0-446D-BD61-6E823554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1A3-1E48-4FA5-A6C0-4E1017AD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667-02C7-4C91-B068-12918AE0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621-CC51-4F19-864F-94589C48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A5C-28A6-4AFA-B190-6D16621C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CB9-3DE2-44C1-BEFB-FA074B68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155-2743-40A8-81DF-B4AAE8EF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26D-1B1D-47E4-90A8-D2BB8500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51AA-61C2-4D3E-994C-EE283E5C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2D32-532C-4E55-9F8C-EB791FF04B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260280"/>
            <a:ext cx="8137800" cy="381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ши духовные ценности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340000" y="907920"/>
            <a:ext cx="4059360" cy="4822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24000" y="4292640"/>
            <a:ext cx="8280360" cy="22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ев Николаевич Толстой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632720" cy="482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8360" y="333360"/>
            <a:ext cx="792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дание дворянского собр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архитекторы М.П.Коринфский, И.П.Ефимов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2394000"/>
            <a:ext cx="7489800" cy="4203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95280" y="404640"/>
            <a:ext cx="8353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ом, в котором жили Толсты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 1841 по 1845 год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7848360" cy="4680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24000" y="33336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занский университе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987640" y="2706840"/>
            <a:ext cx="3090960" cy="3817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8360" y="260280"/>
            <a:ext cx="83516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Лев Николаевич Толстой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тудент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50920" y="333360"/>
            <a:ext cx="86421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ом, в котором жили Толсты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1845-1846 годах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131640" y="1484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…у него такие выразительные черты лица, умные глаза, что я убежден, что при доброй воле и самостоятельности он мог бы сделаться замечательным человек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Мей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2664000" cy="3311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95280" y="404640"/>
            <a:ext cx="82580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Дмитрий Иванович Мейер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рофессор права Казанского университет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373560" cy="4321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84360" y="404640"/>
            <a:ext cx="748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инаида Модестовна Молоствов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634920" y="1700280"/>
            <a:ext cx="483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544680" indent="0">
              <a:spcBef>
                <a:spcPts val="499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авно позабыл я о счасть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44680" indent="0">
              <a:spcBef>
                <a:spcPts val="499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ечте позабытой душ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44680" indent="0">
              <a:spcBef>
                <a:spcPts val="499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о смолкли ничтожные стр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44680" indent="0">
              <a:spcBef>
                <a:spcPts val="499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голос проснулся любв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44680" indent="0">
              <a:spcBef>
                <a:spcPts val="499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небе рассыпаны звез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44680" indent="0">
              <a:spcBef>
                <a:spcPts val="499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сё тихо и темно, всё сп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44680" indent="0">
              <a:spcBef>
                <a:spcPts val="499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гни все потухли: уж позд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44680" indent="0">
              <a:spcBef>
                <a:spcPts val="499"/>
              </a:spcBef>
              <a:buNone/>
              <a:tabLst>
                <a:tab algn="l" pos="0"/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дна моя свечка гор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9640" y="404640"/>
            <a:ext cx="7920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азанские губернские ведомости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756144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 многом рассказывали «Казанские губернские ведомости»: о новогодних праздниках, о постановках любительского театра, где Лев Николаевич был актер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Мы … вправе ожидать, что выйдем из этого храма знающими людьми. А что мы вынесем из университета? Подумайте и отвечайте по совести – что вынесем мы из этого святилища? На что будем пригодны, кому нужны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3672000" cy="4464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324000" y="189000"/>
            <a:ext cx="8424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Прошение Льва Толст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об исключении его из чис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тудентов университет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42920" y="213372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го превосходительству, Господину Ректору Императорского Казанского Университета, Действительному Статскому Советнику и Кавалеру Ивану Михайловичу Симонов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воекоштного Студента 2-го курса Юридического факультета Графа Льва Николаевича Толст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ш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расстроенному здоровью и домашним обстоятельствам, не желая больше продолжать курса наук в Университете, покорнейше прошу Ваше Превосходительство, сделать зависящее от Вас распоряжение о исключении меня из числа Студентов и о выдаче мне всех моих докум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сему прошению руку прилож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удент Граф Лев Толс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преля 12-го дня 1847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5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5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75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5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24000" y="549360"/>
            <a:ext cx="856908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занские испыт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ф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ьва Толстог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58920" y="2633760"/>
            <a:ext cx="6264360" cy="4035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95280" y="189000"/>
            <a:ext cx="8280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лигель дома №11 по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л. Дзержинского-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следняя квартира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. Н. Толстого в Казан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492360" y="0"/>
            <a:ext cx="2295720" cy="367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498600">
            <a:off x="6070320" y="188640"/>
            <a:ext cx="2520720" cy="3454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rcRect l="2946" t="7880" r="49806" b="9440"/>
          <a:stretch/>
        </p:blipFill>
        <p:spPr>
          <a:xfrm rot="20759400">
            <a:off x="826920" y="189000"/>
            <a:ext cx="2346480" cy="352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 rot="21131400">
            <a:off x="1042920" y="3141720"/>
            <a:ext cx="2433600" cy="3527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 rot="598200">
            <a:off x="6084720" y="2997000"/>
            <a:ext cx="2448000" cy="3573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3419640" y="3247920"/>
            <a:ext cx="2592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258920" y="404640"/>
            <a:ext cx="63342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юст Л.Н.Толстог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скверике имени Льва Толстог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1403280" y="1700280"/>
            <a:ext cx="58327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 Такие имена, как Лобачевский, Шаляпин,Толстой, Бехтеров и другие, наравне с Марджани, Тукаем, Камаем, Жигановым, Сайдашевым и другими стали неотъемлемой частью нашей культуры, мы с полным основанием можем гордиться их вкладом в мировую культуру. Они любили и гордились своим городом и внесли свою лепту в его славную историю». (из выступления Президента Республики Татарстан М.Ш.Шаймиева на торжественном собрании по случаю установления даты основания города Казан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2737080" cy="273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403280" y="333360"/>
            <a:ext cx="62676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ед Илья Андреевич Толстой-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занский губернатор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1815 - 1820 год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924360" y="2924280"/>
            <a:ext cx="4206960" cy="2960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4360" y="1413000"/>
            <a:ext cx="7877160" cy="25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нувших лет зовущее начало...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00000" y="3716280"/>
            <a:ext cx="7272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Казань времен Толстого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209080" cy="4535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55640" y="333360"/>
            <a:ext cx="7129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занский Кремл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I половины XIX ве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058840"/>
            <a:ext cx="7777080" cy="353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900000" y="404640"/>
            <a:ext cx="76294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Чёрное озеро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любимое место общественных гуляни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5280" y="333360"/>
            <a:ext cx="8280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дионовский институт благородных девиц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архитекторы М.П.Коринфский, Ф.И.Петонди, А.И.Песке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042920" y="2349360"/>
            <a:ext cx="6697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26920" y="404640"/>
            <a:ext cx="7417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торая мужская гимназ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87280" y="2276640"/>
            <a:ext cx="6769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9:56:14Z</dcterms:created>
  <dc:creator>1</dc:creator>
  <dc:description/>
  <dc:language>en-US</dc:language>
  <cp:lastModifiedBy>SamLab.ws</cp:lastModifiedBy>
  <dcterms:modified xsi:type="dcterms:W3CDTF">2010-01-02T16:10:41Z</dcterms:modified>
  <cp:revision>62</cp:revision>
  <dc:subject/>
  <dc:title>Слайд 1</dc:title>
</cp:coreProperties>
</file>