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B34-0EAC-45DB-98C6-54E98D96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800-2787-41DC-9056-5F062A12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DC5-D26B-40A3-978A-D7382897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999-0B3C-430D-918B-84AEC89D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BFE-3096-4D53-ADE4-4DE62EED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114-8E01-4516-AD80-50793002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22E-19A7-4CB0-9DBA-E045576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3A5-B9B0-486D-89B3-A2A72AB8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E2E-7E1D-4307-995B-C463E9E5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081-8E43-4CC4-85BA-56C48F77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F02-07C2-4DD5-8FF6-F4B60C52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ABA-B6A6-4D85-8C60-35F01073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3BB8-7D67-4FA7-BEE5-37890293C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hyperlink" Target="http://ru.wikipedia.org/wiki/&#1060;&#1072;&#1081;&#1083;:Vastnetsov_1914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9385"/>
          <p:cNvPicPr/>
          <p:nvPr/>
        </p:nvPicPr>
        <p:blipFill>
          <a:blip r:embed="rId1"/>
          <a:stretch/>
        </p:blipFill>
        <p:spPr>
          <a:xfrm>
            <a:off x="4427640" y="260280"/>
            <a:ext cx="4392360" cy="3260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68360" y="40464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Леск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писатель будущего, и его жизнь в литературе глубоко поучительна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 rot="567000">
            <a:off x="250560" y="2420640"/>
            <a:ext cx="80643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Традиции фольклора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древнерусской литературы  в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вести Н. С. Лескова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чарованный странник"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760" y="2143080"/>
            <a:ext cx="42861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Повесть временных лет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аиболее ранний из дошедших до нас летописных св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от повести минувших лет, откуда пошла Русская Земля, кто в Киеве первым стал княжить и как возникла Русская Зем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572080" y="2266920"/>
            <a:ext cx="2190960" cy="319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929120" y="2000160"/>
            <a:ext cx="37530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́топ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— это исторический жанр древнерусской литературы, представляющий собой погодовую, более или менее подробную запись исторических соб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зчик Иван Северьчныч превращается в хроникера, излагающего события последовательно, как летописец, под определенным углом зрения, хотя его речи и несут на себя яркий отпечаток личности повествователя, что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иемлемо в летопи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1403280" y="404640"/>
            <a:ext cx="7056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обенности повествов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связь с жанром летописи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ья́ Му́ром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один из главных героев русского былинного эпоса, богатырь, воплощающий народный идеал героя-воина, народного заступ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2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броней с простым набо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а кус жу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аркий полдень едет б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душка И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ет бором, только слыш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ряцает бро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чет папоротник пыш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атырский ко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746360"/>
            <a:ext cx="39607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0001"/>
          <p:cNvPicPr/>
          <p:nvPr/>
        </p:nvPicPr>
        <p:blipFill>
          <a:blip r:embed="rId1"/>
          <a:stretch/>
        </p:blipFill>
        <p:spPr>
          <a:xfrm>
            <a:off x="468360" y="1989000"/>
            <a:ext cx="3327480" cy="4527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3646440" cy="4608720"/>
          </a:xfrm>
          <a:prstGeom prst="rect">
            <a:avLst/>
          </a:prstGeom>
          <a:ln w="0">
            <a:noFill/>
          </a:ln>
        </p:spPr>
      </p:pic>
      <p:sp>
        <p:nvSpPr>
          <p:cNvPr id="77" name="WordArt 6"/>
          <p:cNvSpPr txBox="1"/>
          <p:nvPr/>
        </p:nvSpPr>
        <p:spPr>
          <a:xfrm>
            <a:off x="4427640" y="620640"/>
            <a:ext cx="3762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лья Муромец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ий богатыр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324000" y="620640"/>
            <a:ext cx="388620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ван Северьяны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ляги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ылины — русские народные эпические песни о подвигах богатырей. Основой сюжета былины является какое-либо героическое событие, либо примечательный эпизод русской ист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2195640" y="260280"/>
            <a:ext cx="475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зь с былино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5219640" y="3186000"/>
            <a:ext cx="263844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льклорная сказ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эпический жанр устного народного творчества: прозаический устный рассказ о вымышленных событиях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1938240" cy="146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1871640" cy="140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211640" y="2060640"/>
            <a:ext cx="1901880" cy="1431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796000" y="3357720"/>
            <a:ext cx="1255680" cy="101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5"/>
          <a:stretch/>
        </p:blipFill>
        <p:spPr>
          <a:xfrm>
            <a:off x="7308720" y="1989000"/>
            <a:ext cx="1560600" cy="2014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8360" y="4795200"/>
            <a:ext cx="8207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ван-дура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ванушка-дурач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дин из главных прототипических персонажей русских сказок.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</a:rPr>
              <a:t> Воплощ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ет особую сказочную стратегию, исходящую не из стандартных постулатов практического разума, а опирающуюся на поиск собственных решений, часто противоречащих здравому смыслу, но, в конечном счете, приносящих успех. Его социальный статус низкий - крестьянский сын или сын старика со старухой.С помощью волшебных средств и особенно благодаря своему «не уму» Иван-дурак успешно проходит все испытания и достигает высших ценностей: он побеждает против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юче́нческая (авантю́рная) литерату́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типичный и очень распознаваемый литературный жанр: на протяжении всей сюжетной линии, автор помещает героя в рискованные проблематичные положения, из которых он выбирается на глазах у читателя; следует эпохе, обычаям, литературным взглядам автора; показывает красивую сторону изобретательности и находчивости, риска и авантюры, напряженного ожи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-42840" y="66600"/>
            <a:ext cx="93819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Вертикальный свиток 3"/>
          <p:cNvSpPr/>
          <p:nvPr/>
        </p:nvSpPr>
        <p:spPr>
          <a:xfrm>
            <a:off x="1285920" y="500040"/>
            <a:ext cx="6357960" cy="61437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у бы жизнь нас не уч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сердце верит в чуд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нескудеющая с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и нетленная кр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вядание зем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ов не тронет незем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т полуденного зн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а не высохнет на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эта вера не обма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о, кто ею лишь жив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ё, что здесь цвело, увян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ё, что было здесь, прой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этой вере для немног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шь тем доступна благод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в искушеньях жизни строги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, умел, любя стра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жие врачевать нед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им страданием ум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души положил за др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о конца всё претерп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139840" y="85680"/>
            <a:ext cx="5364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4360" y="404640"/>
            <a:ext cx="8135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Мысль о создании цикла рассказов, посвящённых праведникам земли русской, возникла у Лескова в 70 – е годы 19 века после спора с писателем Писемским. Писемский писал Лескову о том, что нет уже святости на Руси, а в душе каждого человека «ничего, кроме мерзости», не видно. Такое признание поразило Лескова: «Как, - думал я, - неужели, в самом деле, не видать ничего, кроме дряни? Неужели всё доброе и хорошее, что когда – либо заметил художественный глаз других писателей одна выдумка и вздор? Это не только грустно, но и страшно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4360" y="404640"/>
            <a:ext cx="784836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Если без трёх праведных, по народному верованию, не стоит ни один город, то как же устоять целой земле с одной дрянью, которая живёт в моей и твоей душе. И пошёл я искать праведных, но куда я ни обращался, кого ни спрашивал – все отвечали, что праведных людей не видывали, потому что все люди грешные, а так, кое – каких хороших людей знавал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 С. Леск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Очарование – чарующая сила, прелес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Очаровать – произвести неотразимое, чарующее впечат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Очарователь – тот, кто очаровыв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Очарованный – тот, кто поддается очаровани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1" descr=""/>
          <p:cNvPicPr/>
          <p:nvPr/>
        </p:nvPicPr>
        <p:blipFill>
          <a:blip r:embed="rId1"/>
          <a:stretch/>
        </p:blipFill>
        <p:spPr>
          <a:xfrm>
            <a:off x="689040" y="1773360"/>
            <a:ext cx="7723080" cy="48956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420840" y="19080"/>
            <a:ext cx="85150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46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анр церковной литературы, в котором описывается жизнь и деяния святых. Житие создавалось после смерти святого, но не всегда после формальной канонизации. Для жития характерны строгие содержательные и структурные ограничения (канон, литературный  этикет), сильно отличающие его от светских биографи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тие повествует о человеке, достигшем идеала святости, рассказывает об испытаниях и искушениях, преодолеваемых героем на пути к Богу. С детства житийный герой знает о цел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тие не предполагает повествование о самом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2484360" y="18900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т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"/>
          <p:cNvPicPr/>
          <p:nvPr/>
        </p:nvPicPr>
        <p:blipFill>
          <a:blip r:embed="rId1"/>
          <a:stretch/>
        </p:blipFill>
        <p:spPr>
          <a:xfrm>
            <a:off x="642960" y="1714680"/>
            <a:ext cx="3274920" cy="4414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4429080" y="1857240"/>
            <a:ext cx="428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традиционных, житийных героев Флягин желает изменить свою судьбу, сознательно отойти от предопределенной ему дор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южет “Очарованного странника” — это рассказ Флягина о своей жизни и судьбе. В этом также нарушен житийный зак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58376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евнерусское произведение в стиле дневниковых записей. Автор - тверской купец Афанасий Никитин - описывает свое путешествие через Дербент и Баку сухим путем в Персию и потом в Инд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ревнерусской литературе слово “путь” предполагало два значения, которые условно можно обозначить как географическое и нравственное. Географическое — это познание мира, представлений о нем. Нравственное значение предполагает самопознание и самосовершенствование, его итог — внутреннее преображение. Именно так А. Никитин, отправившийся по торговым делам, познакомившийся с другой верой, не только расширил свой кругозор, но и испытал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786480" cy="4451400"/>
          </a:xfrm>
          <a:prstGeom prst="rect">
            <a:avLst/>
          </a:prstGeom>
          <a:ln w="0">
            <a:noFill/>
          </a:ln>
        </p:spPr>
      </p:pic>
      <p:sp>
        <p:nvSpPr>
          <p:cNvPr id="58" name="WordArt 9"/>
          <p:cNvSpPr txBox="1"/>
          <p:nvPr/>
        </p:nvSpPr>
        <p:spPr>
          <a:xfrm>
            <a:off x="2268360" y="189000"/>
            <a:ext cx="484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жение за три моря"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одержимое 3"/>
          <p:cNvSpPr/>
          <p:nvPr/>
        </p:nvSpPr>
        <p:spPr>
          <a:xfrm>
            <a:off x="3995640" y="1700280"/>
            <a:ext cx="4786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же пересечение двух целей путешествия мы находим и в странствиях Ивана Флягина, оттого что он проходит по европейской России от черноземных степей русского юга до Ладоги и Нижнего Новгорода, от столиц до Кавказа и астраханских солончаковых пустынь, оттого что действует в самой пестрой национально-этнической среде: встречает символическую масштабность. Он мыслится олицетворением н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378000" y="1628640"/>
            <a:ext cx="3517560" cy="5229360"/>
          </a:xfrm>
          <a:prstGeom prst="rect">
            <a:avLst/>
          </a:prstGeom>
          <a:ln w="28440">
            <a:solidFill>
              <a:srgbClr val="cf3e00"/>
            </a:solidFill>
            <a:miter/>
          </a:ln>
        </p:spPr>
      </p:pic>
      <p:sp>
        <p:nvSpPr>
          <p:cNvPr id="63" name=""/>
          <p:cNvSpPr txBox="1"/>
          <p:nvPr/>
        </p:nvSpPr>
        <p:spPr>
          <a:xfrm>
            <a:off x="755640" y="260280"/>
            <a:ext cx="734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утешествие, странств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основа сюже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6:41:07Z</dcterms:created>
  <dc:creator>User</dc:creator>
  <dc:description/>
  <dc:language>en-US</dc:language>
  <cp:lastModifiedBy>АБАК</cp:lastModifiedBy>
  <dcterms:modified xsi:type="dcterms:W3CDTF">2011-02-15T09:39:30Z</dcterms:modified>
  <cp:revision>34</cp:revision>
  <dc:subject/>
  <dc:title>Слайд 1</dc:title>
</cp:coreProperties>
</file>