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913-C034-4F46-BFBB-0742EE37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DE9-751E-4FC0-A8B6-64E8B794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7B1-0FDF-4B67-8208-D51CE7EA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474-2E0E-4931-974E-3F220D8F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9E6-2EBA-45CE-A35D-2AE4E11E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7208-B230-4F2F-A001-28B90E0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FDA-26C7-4FD2-9CD3-468FBBAD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C9F6-0C3F-4512-B1D3-80D361D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16D-580E-4F85-AEE0-25BE5B0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2C77-C3C8-4B5C-B88A-87F52A9C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F7A9-3C6A-49B7-AE11-A3102C0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85E-E97E-4135-937A-F4201B6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2588-A426-458A-8E3B-A53A331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9051-3229-4422-A2F1-94D47D9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0CDD-0F00-4A8E-8DCF-FB47EDDE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D36-A7E3-4A6D-8D9D-62D8BB66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D288-2A67-447D-8DD2-7916BC85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2C7A-F519-4CD0-B7C5-07959AD6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089D-914F-4EF0-A799-5118252B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A9D1-C3DF-49E1-B98D-8D592697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2D7E-8E86-4130-9222-987A8D0F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00AB-8578-49E3-B7B1-9B77633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EE4-55F0-43FE-95BA-612DF9D7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F9C1-354B-41CD-B955-160CA75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7B78-0C7F-4224-8139-37C49DF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9FE6-9479-4530-BEA6-DBC26B49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4543-3C99-4041-BC60-9A58E67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F44C-92CD-4443-B927-5429F9C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43D5-13C0-4F6C-A6CB-25CC1C65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7A92-0AFE-41AF-9DF7-D7D5F74E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EBEA-EB3C-4075-A843-02A720D3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771D-A500-4C13-B24C-B37007F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CA3E0-A88A-4A1A-AC83-4B6D833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506-8C5D-4BB8-B0FB-88723B83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7C8A-731C-4DB5-A3E8-A79F0A1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500C-CBB8-4A50-A2FB-7915517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A137-9DF2-482D-8036-C72F3E18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526C-7D80-4D97-9963-3B9157D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19B8-A8F3-4346-BE73-F0E5558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11A7-D528-43A8-976C-9BEA8FF8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49A7-C026-4076-99B3-2238D3B7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DDB1-F81C-4C58-A9F9-E232ACF3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9282-AF8D-4BF8-BB35-DACDED83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607-F44E-41AA-A02F-1B71591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618-EE70-48B6-809C-24ABFEF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4C9-B2A4-4B0E-A715-C095D4EF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B1F-B230-40FC-A31B-FE7ED7D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4BA-BD3C-487F-A34F-81D2B1F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E15-AABC-4D9B-97C3-1FB5D7501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6B4-CDA8-43E4-8E6E-213AF18E8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B1E-ED7E-49A7-ADC6-A9D341655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267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10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11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2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B9C2-C3A6-48F3-9BE5-E03C0A34B5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5329080" cy="28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Интеллектуально – личностный марафон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«Твои возможности, студент!»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64360" y="6308640"/>
            <a:ext cx="1871640" cy="432000"/>
          </a:xfrm>
          <a:prstGeom prst="rect">
            <a:avLst/>
          </a:prstGeom>
          <a:solidFill>
            <a:srgbClr val="1132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велева М.С.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028000" y="115920"/>
            <a:ext cx="936720" cy="433440"/>
          </a:xfrm>
          <a:prstGeom prst="rect">
            <a:avLst/>
          </a:pr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096240" cy="3095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60962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8000" cy="32432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58802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45080" cy="28242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52308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248000" cy="31780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5616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095880" cy="2924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583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375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«Верните зверей в слова»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172200" y="2825640"/>
            <a:ext cx="2971800" cy="4032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4176720" cy="29048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2373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1. ГИ _ _ _ _ _</a:t>
            </a:r>
            <a:r>
              <a:rPr b="0" lang="ru-RU" sz="4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правила сохранения здоровья)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8080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_ _ _ _ _ _ _ ИУМ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растение семейства лютиковых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3.  _ _ _ _ ОСТ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покорность, смиренность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4. ПА  _ _ _ _  ДНИ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огороженный садик перед домом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5. ДВУСТ  _ _ _ _  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охотничье ружье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404640"/>
            <a:ext cx="25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Г И Е Н 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42920" y="1557360"/>
            <a:ext cx="33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Д Е Л Ь Ф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И Н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16000" y="270828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К Р О Т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8000" y="3860640"/>
            <a:ext cx="20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Л И С А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16360" y="501336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В О Л К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1. П  _ _ _ _  ОК</a:t>
            </a:r>
            <a:r>
              <a:rPr b="0" lang="ru-RU" sz="4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небольшой населенный пункт)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8080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 _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 К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«вкусное» прозвище автомобильного руля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3.  Г 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 _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часть ноги от колена до стопы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4. БРА  _ _ _ _  ЕР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охотник вне закона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5. ЗА 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 К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печная дверь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76360" y="40464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О С Ё Л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32000" y="1557360"/>
            <a:ext cx="33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Б А Р А Н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19280" y="2779560"/>
            <a:ext cx="31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О Л Е Н Ь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68360" y="3932280"/>
            <a:ext cx="20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К О Н Ь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08000" y="5156280"/>
            <a:ext cx="22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С Л О Н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1.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 МАНИЕ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познавание, постижение)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8080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 _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 Ч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наблюдательная пожарная вышка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3.  ГЛЮ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 </a:t>
            </a: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виноградный сахар в плодах и меде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4. ПО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 _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окраска поверхностей мелом или известью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5. Д </a:t>
            </a:r>
            <a:r>
              <a:rPr b="1" lang="ru-RU" sz="4200" spc="-1" strike="noStrike">
                <a:solidFill>
                  <a:srgbClr val="080808"/>
                </a:solidFill>
                <a:latin typeface="Arial"/>
              </a:rPr>
              <a:t>_ _ _ _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(рука, ладонь в старину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71640" y="404640"/>
            <a:ext cx="21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П О Н И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87280" y="1628640"/>
            <a:ext cx="33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К А Л А Н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11280" y="2781360"/>
            <a:ext cx="31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К О З А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08000" y="400356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Б Е Л К А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76360" y="5229360"/>
            <a:ext cx="22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"/>
              </a:rPr>
              <a:t>Л А Н Ь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51577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Михаил Васильевич Ломоносов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935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МИР ВОКРУГ НАС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9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«Хвостатая» викторина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508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Михаил Юрьевич Лермонтов 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730600" y="404640"/>
            <a:ext cx="3941640" cy="459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508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Александр Порфирьевич Бородин 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3454200" cy="4462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2560" y="508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Софья Ковалевская 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3229200" cy="46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5329080" cy="28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Интеллектуально – личностный марафон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«Твои возможности, студент!»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4360" y="6308640"/>
            <a:ext cx="1871640" cy="432000"/>
          </a:xfrm>
          <a:prstGeom prst="rect">
            <a:avLst/>
          </a:prstGeom>
          <a:solidFill>
            <a:srgbClr val="1132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велева М.С.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028000" y="115920"/>
            <a:ext cx="936720" cy="433440"/>
          </a:xfrm>
          <a:prstGeom prst="rect">
            <a:avLst/>
          </a:pr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780000" cy="3225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80808"/>
                </a:solidFill>
                <a:latin typeface="Arial"/>
              </a:rPr>
              <a:t>Викторина</a:t>
            </a:r>
            <a:r>
              <a:rPr b="1" i="1" lang="en-US" sz="6500" spc="-1" strike="noStrike">
                <a:solidFill>
                  <a:srgbClr val="080808"/>
                </a:solidFill>
                <a:latin typeface="Arial"/>
              </a:rPr>
              <a:t> «Забавная анатомия»</a:t>
            </a:r>
            <a:endParaRPr b="1" i="1" lang="en-US" sz="65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«Черный ящик»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72200" cy="4486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843280" y="220500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27280" y="436572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16720" y="213372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43640" y="537372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916360" y="364500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7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8360" y="170028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7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020000" y="443700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7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24360" y="220500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5280" y="515772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93080" y="314172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ab1e4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080808"/>
                </a:solidFill>
                <a:latin typeface="Arial"/>
              </a:rPr>
              <a:t>«Эрудит»</a:t>
            </a:r>
            <a:br>
              <a:rPr sz="6500"/>
            </a:br>
            <a:br>
              <a:rPr sz="4500"/>
            </a:br>
            <a:r>
              <a:rPr b="1" i="1" lang="en-US" sz="4500" spc="-1" strike="noStrike">
                <a:solidFill>
                  <a:srgbClr val="080808"/>
                </a:solidFill>
                <a:latin typeface="Arial"/>
              </a:rPr>
              <a:t>по географии</a:t>
            </a:r>
            <a:endParaRPr b="1" i="1" lang="en-US" sz="45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867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2:34:41Z</dcterms:created>
  <dc:creator>User</dc:creator>
  <dc:description/>
  <dc:language>en-US</dc:language>
  <cp:lastModifiedBy>HYDE</cp:lastModifiedBy>
  <dcterms:modified xsi:type="dcterms:W3CDTF">2012-02-26T19:44:50Z</dcterms:modified>
  <cp:revision>135</cp:revision>
  <dc:subject/>
  <dc:title>Интеллектуально – личностный марафон «Твои возможности, гимназист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