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55.jpeg" ContentType="image/jpeg"/>
  <Override PartName="/ppt/media/image58.jpeg" ContentType="image/jpeg"/>
  <Override PartName="/ppt/media/image4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43.jpeg" ContentType="image/jpeg"/>
  <Override PartName="/ppt/media/image15.jpeg" ContentType="image/jpeg"/>
  <Override PartName="/ppt/media/image64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46.jpeg" ContentType="image/jpeg"/>
  <Override PartName="/ppt/media/image20.jpeg" ContentType="image/jpeg"/>
  <Override PartName="/ppt/media/image3.png" ContentType="image/pn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.png" ContentType="image/png"/>
  <Override PartName="/ppt/media/image14.png" ContentType="image/png"/>
  <Override PartName="/ppt/media/image49.png" ContentType="image/png"/>
  <Override PartName="/ppt/media/image51.jpeg" ContentType="image/jpeg"/>
  <Override PartName="/ppt/media/image26.jpeg" ContentType="image/jpeg"/>
  <Override PartName="/ppt/media/image24.jpeg" ContentType="image/jpeg"/>
  <Override PartName="/ppt/media/image63.jpeg" ContentType="image/jpeg"/>
  <Override PartName="/ppt/media/image19.jpeg" ContentType="image/jpeg"/>
  <Override PartName="/ppt/media/image65.png" ContentType="image/png"/>
  <Override PartName="/ppt/media/image21.jpeg" ContentType="image/jpeg"/>
  <Override PartName="/ppt/media/image18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1.jpeg" ContentType="image/jpeg"/>
  <Override PartName="/ppt/media/image54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6.jpeg" ContentType="image/jpeg"/>
  <Override PartName="/ppt/media/image5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9AE-6389-4124-B9E7-7EF96C01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105-456F-4AF7-B858-49C69720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A40-A595-415A-836C-E551D59C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2B8-B7E3-4356-A365-62CC5252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C6F8-E4E7-49CE-8B23-A23094F6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093F-FDBB-4D4C-95D1-D82308EF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6F77-6129-465E-8455-1776F762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4F1A-2C07-43EB-AD6C-37D40669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BFA7-8CE4-4C43-B7D5-93192873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8415-CADE-4A12-BC6F-8504EB2B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5393-80D3-46F2-9D83-D1BB56DD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74E-9B73-441D-8A20-0039C101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3523-880D-45DF-914F-D2A2A90D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4A18-3D19-4302-B010-56B138B6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A3AA-CAE5-439B-B5CF-9B76F355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D5F5-20C4-4C0A-A154-097F930B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1376-444C-4992-8D55-5F717CF2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8172-2601-4299-9E64-252C55F3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EF3F-3456-4208-B33C-BFE027C2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FDEB-C02E-4CC2-ACA8-13A3F771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F51A-29AC-4485-B0AA-C4B4CFB7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FB54B-C40C-458C-B06A-8B0FD896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CFA-750F-4523-A99F-31C3AC26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03F4-184D-47E4-9C3B-C9520BFA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B43A-9F18-4C69-B1E1-209BF81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13EE-EDD2-47C8-8BAB-C3175E8D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AC54-1157-41E1-9AAA-0D4DB38E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5A8A-B74C-4311-885D-3911B56D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A287-A452-4217-877C-C727E5E6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A1BCF-DAEF-4834-8833-75076DD5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A3BA-30B8-4927-B4AC-323D5772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B427-0B24-463A-BC00-82980453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7DF1-B824-47AC-9B28-E840E282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233-20EE-4AC8-BB73-8F6530B4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4494-6282-488A-8956-93F9FE08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36DB-A42D-4066-8535-A5008B7F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A0140-6CDB-44C5-A09A-DF056395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64DD-58D7-4CC2-A5A6-CC1F723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C61E-A84F-4847-8BB2-FBFD1A6C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2F1C-BC03-49C9-B3DF-352E406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CD04-5077-457B-979C-AC857B4F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BF47-749C-4792-8B26-C31D42FD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4C2F-1FDB-4E1B-AE5F-E1127E5D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5C436-3E07-40A3-BB36-A3B79486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B57-34BB-440B-B6A9-40FB623A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6E2E1-F61C-4C05-B73F-02B4EB60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E0E63-1BBE-42A3-8012-10A54551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3015D-CF9C-4900-8AC2-9B45336C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0444-E129-49BD-B04B-6F58AE4B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578C-784A-4F46-9BAF-BD0712C5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93EA4-6073-445F-9DC6-98B562F6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53B0-06AF-4A75-8AC5-3F596DC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0E077-2AAA-4B44-A59A-DD63658E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8744-C5D2-48F2-A867-C06BF0A5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F0545-2386-496D-8F52-88D1994C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DAC-2F99-4866-A4ED-DCACCCA1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1784-B96B-404F-9EA7-98406453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154-D5DE-4348-964A-61C1B01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041-3BB7-4D7A-974B-0145E5BA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51B-191D-4C96-9819-7628FCD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E1C-68B4-4284-A881-E027862AC1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8157-D00F-46FC-B0D8-45A35A7A08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6FD1-5F16-4245-AB6C-870D06CA73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266" name="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dt" idx="10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11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12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A768-C418-40DE-85C9-6462A9400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4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A1B8-DB2F-443A-8797-028094AF0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0560" y="4149360"/>
            <a:ext cx="4825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cc00"/>
                </a:solidFill>
                <a:latin typeface="Arial"/>
              </a:rPr>
              <a:t>Филологи </a:t>
            </a:r>
            <a:br>
              <a:rPr sz="5800"/>
            </a:br>
            <a:r>
              <a:rPr b="1" i="1" lang="en-US" sz="5800" spc="-1" strike="noStrike">
                <a:solidFill>
                  <a:srgbClr val="ffcc00"/>
                </a:solidFill>
                <a:latin typeface="Arial"/>
              </a:rPr>
              <a:t>+</a:t>
            </a:r>
            <a:br>
              <a:rPr sz="5800"/>
            </a:br>
            <a:r>
              <a:rPr b="1" i="1" lang="en-US" sz="5800" spc="-1" strike="noStrike">
                <a:solidFill>
                  <a:srgbClr val="ffcc00"/>
                </a:solidFill>
                <a:latin typeface="Arial"/>
              </a:rPr>
              <a:t>Биологи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«Бегущие минутки»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47782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181080" y="28872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ДУБ            2. ОЛЬХА            3. ВЯ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-360" y="3499920"/>
            <a:ext cx="939636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ВЕТЛА        5. ОСИНА    6. ЧЁРНЫЙ КЛЁ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26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2951280" cy="2637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1979640" y="126828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5148360" y="1413000"/>
            <a:ext cx="809640" cy="11746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5588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8191440" y="1341360"/>
            <a:ext cx="952560" cy="12384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7"/>
          <a:stretch/>
        </p:blipFill>
        <p:spPr>
          <a:xfrm>
            <a:off x="0" y="3500280"/>
            <a:ext cx="2916360" cy="25210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8"/>
          <a:stretch/>
        </p:blipFill>
        <p:spPr>
          <a:xfrm>
            <a:off x="1979640" y="4869000"/>
            <a:ext cx="880920" cy="10936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2987640" y="3500280"/>
            <a:ext cx="2952720" cy="25210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10"/>
          <a:stretch/>
        </p:blipFill>
        <p:spPr>
          <a:xfrm>
            <a:off x="5003640" y="4797360"/>
            <a:ext cx="885960" cy="12193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1"/>
          <a:stretch/>
        </p:blipFill>
        <p:spPr>
          <a:xfrm>
            <a:off x="6012000" y="3500280"/>
            <a:ext cx="3132000" cy="25210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8048520" y="4869000"/>
            <a:ext cx="1095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9144000" cy="35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300"/>
            </a:br>
            <a:br>
              <a:rPr sz="3300"/>
            </a:br>
            <a:br>
              <a:rPr sz="33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КЛЮКВА     2. ПОДОРОЖНИК    3. КОВЫ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81080" y="388944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ЗВЕРОБОЙ       5. РОГОЗ         6. СФАГН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56360" y="3573360"/>
            <a:ext cx="2987640" cy="252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76720" y="3645000"/>
            <a:ext cx="2374920" cy="237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249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3276720" y="0"/>
            <a:ext cx="2447640" cy="249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227640" y="0"/>
            <a:ext cx="2916360" cy="24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6"/>
          <a:stretch/>
        </p:blipFill>
        <p:spPr>
          <a:xfrm>
            <a:off x="179280" y="3638520"/>
            <a:ext cx="2664000" cy="242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600" spc="-1" strike="noStrike">
                <a:solidFill>
                  <a:srgbClr val="080808"/>
                </a:solidFill>
                <a:latin typeface="Arial"/>
              </a:rPr>
              <a:t>Клюква</a:t>
            </a:r>
            <a:endParaRPr b="1" i="1" lang="en-US" sz="7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1356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ВЕНЕРИН        2.БРАНДУШКА  3. ВЕЧЕРНИЦА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АШМАЧОК           РУСС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91440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ЛЮБКА                5.ЛЕВКОЙ         6.ХОХЛАТ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ДВУЛИСТНАЯ                                        ГАЛЛЕР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50920" y="0"/>
            <a:ext cx="2484360" cy="24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659640" y="0"/>
            <a:ext cx="2266920" cy="24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6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987640" y="0"/>
            <a:ext cx="3384720" cy="24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7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804000" y="3500280"/>
            <a:ext cx="1800360" cy="223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8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95280" y="3500280"/>
            <a:ext cx="2160720" cy="223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9" name="" descr="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3708360" y="3500280"/>
            <a:ext cx="1873440" cy="223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06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ЩУКА                              4. С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ЛИНЬ                               6. САЗ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3280" y="260280"/>
            <a:ext cx="4500720" cy="1557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33" name=""/>
          <p:cNvSpPr/>
          <p:nvPr/>
        </p:nvSpPr>
        <p:spPr>
          <a:xfrm>
            <a:off x="0" y="2492280"/>
            <a:ext cx="914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ЛЕЩ                               5. СУДАК</a:t>
            </a:r>
            <a:br>
              <a:rPr sz="3200"/>
            </a:b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43280" y="2492280"/>
            <a:ext cx="450072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5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572000" y="4653000"/>
            <a:ext cx="4572000" cy="158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6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260280"/>
            <a:ext cx="4500720" cy="158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0" y="2492280"/>
            <a:ext cx="4511520" cy="151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8" name="" descr=""/>
          <p:cNvPicPr/>
          <p:nvPr/>
        </p:nvPicPr>
        <p:blipFill>
          <a:blip r:embed="rId6"/>
          <a:stretch/>
        </p:blipFill>
        <p:spPr>
          <a:xfrm>
            <a:off x="0" y="4653000"/>
            <a:ext cx="4356000" cy="158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ВОЛК             2. ЛОСЬ           3. МЕДВЕД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357336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КАБАН                 5 .ОЛ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2916360" cy="24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300720" y="0"/>
            <a:ext cx="2843280" cy="24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1042920" y="3645000"/>
            <a:ext cx="3313080" cy="2442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4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076720" y="3645000"/>
            <a:ext cx="3240360" cy="243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5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3132000" y="0"/>
            <a:ext cx="2952720" cy="24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БОБР              2.ОНДАТРА          3.БЕЛ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8000" y="299736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КУНИЦА           5.ВЫХУХОЛЬ            6.КР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22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27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50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987640" y="0"/>
            <a:ext cx="3168720" cy="22766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0" y="3573360"/>
            <a:ext cx="2843280" cy="2308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6443640" y="3573360"/>
            <a:ext cx="2700360" cy="2379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>
            <a:off x="3059280" y="3573360"/>
            <a:ext cx="316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468360" y="1555560"/>
            <a:ext cx="5329440" cy="2881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e626"/>
                </a:solidFill>
                <a:latin typeface="Century Gothic"/>
              </a:rPr>
              <a:t>«Корень ученья горек, </a:t>
            </a:r>
            <a:br>
              <a:rPr sz="4000"/>
            </a:br>
            <a:r>
              <a:rPr b="1" i="1" lang="en-US" sz="4000" spc="-1" strike="noStrike">
                <a:solidFill>
                  <a:srgbClr val="00e626"/>
                </a:solidFill>
                <a:latin typeface="Century Gothic"/>
              </a:rPr>
              <a:t>а плоды его сладки»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e626"/>
                </a:solidFill>
                <a:latin typeface="Century Gothic"/>
              </a:rPr>
              <a:t>Аристотель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164360" y="6308640"/>
            <a:ext cx="1871640" cy="432000"/>
          </a:xfrm>
          <a:prstGeom prst="rect">
            <a:avLst/>
          </a:prstGeom>
          <a:solidFill>
            <a:srgbClr val="1132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9a55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евелева М.С.</a:t>
            </a:r>
            <a:br>
              <a:rPr sz="1800"/>
            </a:b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028000" y="115920"/>
            <a:ext cx="936720" cy="433440"/>
          </a:xfrm>
          <a:prstGeom prst="rect">
            <a:avLst/>
          </a:prstGeom>
          <a:solidFill>
            <a:srgbClr val="4ab1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6084720" cy="40766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476244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-396720" y="-387360"/>
            <a:ext cx="9864720" cy="75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10188720" cy="725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-1189080" y="-243000"/>
            <a:ext cx="1076472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84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-181080" y="-204840"/>
            <a:ext cx="10980720" cy="70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2:34:41Z</dcterms:created>
  <dc:creator>User</dc:creator>
  <dc:description/>
  <dc:language>en-US</dc:language>
  <cp:lastModifiedBy>HYDE</cp:lastModifiedBy>
  <dcterms:modified xsi:type="dcterms:W3CDTF">2012-02-26T19:51:02Z</dcterms:modified>
  <cp:revision>138</cp:revision>
  <dc:subject/>
  <dc:title>Интеллектуально – личностный марафон «Твои возможности, гимназист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