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8CE-DDA9-4838-AFE0-07B08072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801-BA61-49C1-96D6-176785A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D73-DFC4-4352-A2F9-11267A28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C22-31C7-477B-9C0B-B73D62D5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932-2441-4989-BA18-06DC474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125-9B37-4BF6-96B8-F382D071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1FA-8D05-441D-B0B6-45FC9EF4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B06-D766-4502-93EA-9B451CD9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85E-2E4E-492C-BC78-E621362E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A83-ACDA-4695-8AA0-7B6FEF5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690-36D5-487C-9A86-A2FCAEC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923-C19A-44B6-8FC1-FDD2708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C3EA-F099-43FF-8218-994C270F6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ipp.ru/help.aspx?id=980" TargetMode="External"/><Relationship Id="rId2" Type="http://schemas.openxmlformats.org/officeDocument/2006/relationships/hyperlink" Target="http://www.gripp.ru/help.aspx?id=980" TargetMode="External"/><Relationship Id="rId3" Type="http://schemas.openxmlformats.org/officeDocument/2006/relationships/hyperlink" Target="http://www.gripp.ru/help.aspx?id=980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8;&#1072;&#1075;&#1088;&#1080;&#1087;&#1087;" TargetMode="External"/><Relationship Id="rId2" Type="http://schemas.openxmlformats.org/officeDocument/2006/relationships/hyperlink" Target="http://ru.wikipedia.org/wiki/&#1043;&#1088;&#1080;&#1087;&#1087;" TargetMode="External"/><Relationship Id="rId3" Type="http://schemas.openxmlformats.org/officeDocument/2006/relationships/hyperlink" Target="http://ru.wikipedia.org/wiki/&#1040;&#1076;&#1077;&#1085;&#1086;&#1074;&#1080;&#1088;&#1091;&#1089;" TargetMode="External"/><Relationship Id="rId4" Type="http://schemas.openxmlformats.org/officeDocument/2006/relationships/hyperlink" Target="http://ru.wikipedia.org/wiki/&#1056;&#1080;&#1085;&#1086;&#1074;&#1080;&#1088;&#1091;&#1089;" TargetMode="External"/><Relationship Id="rId5" Type="http://schemas.openxmlformats.org/officeDocument/2006/relationships/hyperlink" Target="http://ru.wikipedia.org/w/index.php?title=&#1056;&#1077;&#1086;&#1074;&#1080;&#1088;&#1091;&#1089;&amp;action=edit&amp;redlink=1" TargetMode="External"/><Relationship Id="rId6" Type="http://schemas.openxmlformats.org/officeDocument/2006/relationships/hyperlink" Target="http://ru.wikipedia.org/wiki/&#1040;&#1085;&#1090;&#1080;&#1073;&#1080;&#1086;&#1090;&#1080;&#1082;&#1080;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9;&#1076;&#1086;&#1088;&#1086;&#1074;&#1083;&#1077;&#1085;&#1080;&#1077;" TargetMode="External"/><Relationship Id="rId2" Type="http://schemas.openxmlformats.org/officeDocument/2006/relationships/hyperlink" Target="http://ru.wikipedia.org/wiki/&#1047;&#1072;&#1082;&#1072;&#1083;&#1080;&#1074;&#1072;&#1085;&#1080;&#1077;" TargetMode="External"/><Relationship Id="rId3" Type="http://schemas.openxmlformats.org/officeDocument/2006/relationships/hyperlink" Target="http://ru.wikipedia.org/wiki/&#1051;&#1077;&#1095;&#1077;&#1073;&#1085;&#1072;&#1103;_&#1092;&#1080;&#1079;&#1082;&#1091;&#1083;&#1100;&#1090;&#1091;&#1088;&#1072;" TargetMode="External"/><Relationship Id="rId4" Type="http://schemas.openxmlformats.org/officeDocument/2006/relationships/hyperlink" Target="http://ru.wikipedia.org/wiki/&#1051;&#1099;&#1078;&#1080;" TargetMode="External"/><Relationship Id="rId5" Type="http://schemas.openxmlformats.org/officeDocument/2006/relationships/hyperlink" Target="http://ru.wikipedia.org/wiki/&#1050;&#1086;&#1085;&#1100;&#1082;&#1080;" TargetMode="External"/><Relationship Id="rId6" Type="http://schemas.openxmlformats.org/officeDocument/2006/relationships/hyperlink" Target="http://ru.wikipedia.org/wiki/&#1055;&#1083;&#1072;&#1074;&#1072;&#1085;&#1080;&#1077;" TargetMode="External"/><Relationship Id="rId7" Type="http://schemas.openxmlformats.org/officeDocument/2006/relationships/hyperlink" Target="http://ru.wikipedia.org/wiki/&#1042;&#1080;&#1090;&#1072;&#1084;&#1080;&#1085;" TargetMode="External"/><Relationship Id="rId8" Type="http://schemas.openxmlformats.org/officeDocument/2006/relationships/hyperlink" Target="http://ru.wikipedia.org/wiki/&#1055;&#1080;&#1097;&#1072;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87;&#1090;&#1086;&#1084;" TargetMode="External"/><Relationship Id="rId2" Type="http://schemas.openxmlformats.org/officeDocument/2006/relationships/hyperlink" Target="http://ru.wikipedia.org/wiki/&#1042;&#1080;&#1090;&#1072;&#1084;&#1080;&#1085;_C" TargetMode="External"/><Relationship Id="rId3" Type="http://schemas.openxmlformats.org/officeDocument/2006/relationships/hyperlink" Target="http://ru.wikipedia.org/wiki/&#1040;&#1085;&#1090;&#1080;&#1073;&#1080;&#1086;&#1090;&#1080;&#1082;&#1080;" TargetMode="External"/><Relationship Id="rId4" Type="http://schemas.openxmlformats.org/officeDocument/2006/relationships/hyperlink" Target="http://ru.wikipedia.org/wiki/&#1042;&#1088;&#1072;&#1095;" TargetMode="External"/><Relationship Id="rId5" Type="http://schemas.openxmlformats.org/officeDocument/2006/relationships/hyperlink" Target="http://ru.wikipedia.org/wiki/&#1050;&#1080;&#1096;&#1077;&#1095;&#1085;&#1080;&#1082;" TargetMode="External"/><Relationship Id="rId6" Type="http://schemas.openxmlformats.org/officeDocument/2006/relationships/hyperlink" Target="http://ru.wikipedia.org/wiki/&#1044;&#1080;&#1089;&#1073;&#1072;&#1082;&#1090;&#1077;&#1088;&#1080;&#1086;&#1079;" TargetMode="External"/><Relationship Id="rId7" Type="http://schemas.openxmlformats.org/officeDocument/2006/relationships/hyperlink" Target="http://ru.wikipedia.org/wiki/&#1043;&#1088;&#1072;&#1076;&#1091;&#1089;_&#1062;&#1077;&#1083;&#1100;&#1089;&#1080;&#1103;" TargetMode="External"/><Relationship Id="rId8" Type="http://schemas.openxmlformats.org/officeDocument/2006/relationships/hyperlink" Target="http://ru.wikipedia.org/wiki/&#1055;&#1072;&#1088;&#1072;&#1094;&#1077;&#1090;&#1072;&#1084;&#1086;&#1083;" TargetMode="External"/><Relationship Id="rId9" Type="http://schemas.openxmlformats.org/officeDocument/2006/relationships/hyperlink" Target="http://ru.wikipedia.org/wiki/&#1048;&#1073;&#1091;&#1087;&#1088;&#1086;&#1092;&#1077;&#1085;" TargetMode="External"/><Relationship Id="rId10" Type="http://schemas.openxmlformats.org/officeDocument/2006/relationships/hyperlink" Target="http://ru.wikipedia.org/wiki/&#1055;&#1088;&#1086;&#1090;&#1080;&#1074;&#1086;&#1074;&#1080;&#1088;&#1091;&#1089;&#1085;&#1099;&#1077;_&#1087;&#1088;&#1077;&#1087;&#1072;&#1088;&#1072;&#1090;&#1099;" TargetMode="External"/><Relationship Id="rId11" Type="http://schemas.openxmlformats.org/officeDocument/2006/relationships/hyperlink" Target="http://ru.wikipedia.org/wiki/&#1048;&#1085;&#1090;&#1077;&#1088;&#1092;&#1077;&#1088;&#1086;&#1085;" TargetMode="External"/><Relationship Id="rId12" Type="http://schemas.openxmlformats.org/officeDocument/2006/relationships/hyperlink" Target="http://ru.wikipedia.org/wiki/&#1040;&#1084;&#1080;&#1082;&#1089;&#1080;&#1085;" TargetMode="External"/><Relationship Id="rId13" Type="http://schemas.openxmlformats.org/officeDocument/2006/relationships/hyperlink" Target="http://ru.wikipedia.org/wiki/&#1040;&#1088;&#1073;&#1080;&#1076;&#1086;&#1083;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www.gripp.r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540720" cy="7389720"/>
          </a:xfrm>
          <a:prstGeom prst="rect">
            <a:avLst/>
          </a:prstGeom>
          <a:gradFill rotWithShape="0">
            <a:gsLst>
              <a:gs pos="0">
                <a:srgbClr val="6fbd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ОРЗ (ОРВИ, грипп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е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пираторное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боле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Дьякова Надежда 8 «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абрь 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С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г.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2592360" cy="18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28000" y="3284640"/>
            <a:ext cx="2016000" cy="193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524720" y="115920"/>
            <a:ext cx="1471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fbd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упоминания о гриппе были отмечены много веков назад - еще в 412 году до н.э. описание гриппо-подобного заболевания было сделано Гиппократом. Также гриппо-подобные вспышки были отмечены в 1173 году. Первая задокументированна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анде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иппа, унесшая много жизней, случилась в 1580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89-1891 гг произошл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ндем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й тяжести, вызванная вирусом типа H3N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льно известная "Испанка", вызванная вирусом H1N1 произошла в 1918-1920 гг. Это самая сильная из известны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андем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несшая по самым скромным подсчетам более 20 млн. жизней. От "испанки" серьезно пострадало 20-40% населения земного шара. Смерть наступала крайне быстро. Человек мог быть еще абсолютно здоров утром, к полудню он заболевал и умирал к ночи. Те же, кто не умер в первые дни, часто умирали от осложнений, вызванных гриппом, например, пневмонии. Необычной особенностью "испанки" было то, что она часто поражала молодых людей (обычно от гриппа в первую очередь страдают дети и пожилые лиц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будитель заболевания, вирус гриппа, был открыт Richard Shope в 1931 году. Вирус гриппа А впервые был идентифицирован английскими вирусологами Smith, Andrews и Laidlaw (National Institute for Medical Research, Лондон) в 1933 году. Тремя годами позже Francis выделил вирус гриппа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40 году было сделано важное открытие - вирус гриппа может быть культивирован на куриных эмбрионах. Благодаря этому появились новые возможности для изучения вируса гри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47 году Тейлором был впервые выделен вирус гриппа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57-1958 гг случилась пандемия, которая получила название "азиатский грипп", вызванная вирусом H2N2. Пандемия началась в феврале 1957 года на Дальнем Востоке и быстро распространилась по всему миру. Только в США во время этой пандемии скончалось более 700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68-1969 гг произошел средний по тяжести "Гонконгский грипп", вызванный вирусом H3N2. Пандемия началась в Гонконге в начале 1968 года. Наиболее часто от вируса страдали пожилые люди старше 65 летнего возраста. Всего число погибших от этой пандемии составило 338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7-1978 гг произошла относительно легкая по степени тяжести пандемия, названная "русским" гриппом. Вирус гриппа (H1N1), вызвавший эту пандемию уже вызывал эпидемию в 50-х гг. Поэтому в первую очередь пострадали лица, родившиеся после 195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4000" y="4437000"/>
            <a:ext cx="1706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ространение и эт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ВИ является самым распространённым инфекционным заболеванием в развитых странах, в среднем за год взрослый болеет ОРВИ не реже 2−3 раз, ребёнок — 6−10 раз в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ВИ вызывается большим числом возбудителей, среди которых не менее 5 различных групп вирусов (вирус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арагри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ри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деновиру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иновиру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еовиру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) и более 300 их подтипов. Их всех объединяет то, что они очень заразны, так как передаются воздушно-капельным путем, не лечатс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ть данные, что вирусы ОРВИ эффективно распространяются и при телесном контакте, например, при рукопожа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13000"/>
            <a:ext cx="6588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актика ОРВИ состоит в обще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здоровле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креплении организма и стимуляции иммунитета путё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али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занятий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зкуль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свежем воздухе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ыж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атанием 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оньк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лавани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потреблением полноценной, богатой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итамин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ищ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в конце зимы и начале весны — умеренного количества витаминных препаратов, лучше естественного происх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згар инфекции рекомендуется ограничить посещение массовых мероприятий, особенно в закрытых помещениях, избегать слишком тесного контакта с больными, как можно чаще мыть руки. Те же правила следует соблюдать и больным: взять больничный лист, не посещать массовые мероприятия, стремиться как можно меньше пользоваться общественным транспортом, избегать тесного контакта со здоровыми, носить марлевую повяз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каментозная профилактика ОРВИ проводиться препаратами бронхомунал, ИРС-19, рибомуни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кцинопрофилактика гриппа проводится организованно в школах, детских садах и взрослому населению в поликлиниках и др. медпунктах. С этого года вакцинирование детей против гриппа введено в национальный календарь привив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516720" y="18900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516720" y="3284640"/>
            <a:ext cx="2448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8400" y="1674720"/>
            <a:ext cx="8085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ние ОРВИ в основн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имптоматическ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бильное тёплое (но не горячее) питьё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тамин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ледует знать, что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нтибиот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менять при ОРВИ без прямого указани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рач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атегорически нельзя, поскольку они не влияют на вирусы, однако угнетают иммунитет и естественную микрофлору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ишеч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ызыва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исбактерио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а жаропонижающие и болеутоляющие средства не рекомендуется применять при температуре тела, не превышающей 38−38,5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°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оскольку умеренное повышение температуры представляет собой естественную защитную реакцию организма и помогает иммунитету бороться с вирусами. Из жаропонижающих средств применяю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арацетам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цетаминофен), а в последнее врем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ибупроф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ак более безопасный и эффективный препарат. Сосудосуживающие капли в нос (ксимелин, називин, отривин, виброцил и др.) Полоскание горла растворами ротокана,ромазулана, сангвиритрина, можно самим готовить настои для полоскания из трав ромашки, календулы, шалфея. При болевом синдроме в горле- орошение местными анестетика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галипт, тантумверде, йокс, каметон, стопангин, гексорал и др.Возможно применение для рассасывания в полости рта леденцов и пастил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псилс, фарингомед, фарингопилс, фаренгосепт, шалфей таблетки-пастилк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для лечения и профилактики ОРВИ всё более активно применяютс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ротивовирусные препара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интерфе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амикс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арбид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наферон,цитавир-3, оциллококцину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54165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0" y="1413000"/>
            <a:ext cx="1403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d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взят с сай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ripp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помощь практического вр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Dollar"/>
              </a:rPr>
              <a:t>     </a:t>
            </a:r>
            <a:r>
              <a:rPr b="0" lang="en-US" sz="2800" spc="-1" strike="noStrike">
                <a:solidFill>
                  <a:srgbClr val="cc0000"/>
                </a:solidFill>
                <a:latin typeface="Dollar"/>
              </a:rPr>
              <a:t>Будьте все здоров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0:55:46Z</dcterms:created>
  <dc:creator>Надежда</dc:creator>
  <dc:description/>
  <dc:language>en-US</dc:language>
  <cp:lastModifiedBy>Т.С.Кулькова</cp:lastModifiedBy>
  <dcterms:modified xsi:type="dcterms:W3CDTF">2009-01-19T08:56:47Z</dcterms:modified>
  <cp:revision>9</cp:revision>
  <dc:subject/>
  <dc:title>ОРЗ- Острое  Респираторное  Заболевание </dc:title>
</cp:coreProperties>
</file>