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41F-540D-45E2-9C4E-27CE50F9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2F0-50E0-4D88-BC77-E699CA20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607-C9F3-438B-A9C3-1086338E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C2F-6954-4A82-8388-ABF18758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54F9-1CFC-4D46-8D98-BBA2A969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DE8D-9CAD-4EA0-B70C-C846456D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839F-F17F-4889-B993-86590AF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612-42EA-4066-B610-AB437155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497D-1F6F-4E8F-93BF-F96FDABC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C3F3-25D7-464C-AF56-CBFEE03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0EDA-C561-42E0-AA7C-C514851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3C7-76EF-4337-8271-62FE67F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C86-405E-43FA-A955-2D7B720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EB1-B45A-422A-B86C-2458D28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A7AD-D924-4017-87E1-0C0EC647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1948-E2E1-4D30-8A09-8C8ED08D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104-2E87-40B8-831C-ABD32954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13B-43A4-4F92-A51E-6B178660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962-EC91-492A-AF2D-83541192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5E2-244C-431E-9B8E-CA50D73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F80-042E-4659-AA3F-4D0FA6DB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6C6-66E0-475E-B60C-85AE969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63A-805A-483E-9687-6CA9ABA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055-5B42-43A3-985C-4BA4421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FB8-67A1-4D35-AB51-2CDB53F56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F0B3-28B7-4D8D-AFA8-395C5BF593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2640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чечные заболе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Выполнил: Аксенов Максим 8 « Г » кла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581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уберкулез поче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112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иническая картина туберкулеза почек зависит от стадии заболевания. Вначале наблюдаются учащенное мочеиспускание и жжение в конце мочеотделения. Появляется никтурия (мочеиспускание ночью). Отмечаются тупые боли в поясничной области, иногда возникают приступы болей по типу почечной кол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eview_pochkado"/>
          <p:cNvPicPr/>
          <p:nvPr/>
        </p:nvPicPr>
        <p:blipFill>
          <a:blip r:embed="rId1"/>
          <a:stretch/>
        </p:blipFill>
        <p:spPr>
          <a:xfrm>
            <a:off x="228600" y="1676520"/>
            <a:ext cx="37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403920" y="1447920"/>
            <a:ext cx="56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циклопедии по Анатом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циклопедии для поступающих в мед учре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иелонефри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чекаменная болез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булоинтерстициальные пора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фри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к по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икистоз поч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хинококкоз по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беркулез поч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иелонефри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елонефр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заболевание почек, встречающееся во всех возрастных группах, однако более 70% больных пиелонефритом относятся к возрастной группе от 20 до 40 лет, то есть это заболевание поражает людей в наиболее трудоспособном возра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развития пиелонефрита лежат нарушение уродинамики и потеря резистентности ткани почек к инфекции с последующим развитием воспалительного процесса, последовательно захватывающего все структуры почечной тка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0187_1.jpg"/>
          <p:cNvPicPr/>
          <p:nvPr/>
        </p:nvPicPr>
        <p:blipFill>
          <a:blip r:embed="rId1"/>
          <a:stretch/>
        </p:blipFill>
        <p:spPr>
          <a:xfrm>
            <a:off x="304920" y="11430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очекаменная болезн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24280" y="761760"/>
            <a:ext cx="4191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чекаменная болезнь (уролитиаз) – характеризуется образованием камней в мочевой системе (почках, мочеточниках и мочевом пузыре). В настоящее время отмечается значительная распространеннойсть этого заболевания. Больные с уролитиазом составляют практически половину всех больных, обращающихся за урологической помощью. Лечение этого заболевания требует широких знаний о современных методах его диагностики, рациональном лечении мочекаменной болезни и современных принципах удаления камн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mkb"/>
          <p:cNvPicPr/>
          <p:nvPr/>
        </p:nvPicPr>
        <p:blipFill>
          <a:blip r:embed="rId1"/>
          <a:stretch/>
        </p:blipFill>
        <p:spPr>
          <a:xfrm>
            <a:off x="152280" y="762120"/>
            <a:ext cx="4534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булоинтерстициальные пораж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булоинтерстициальные   поражения – это болезни почек, при которых доминирует повреждение канальцев и интрестиция, являясь субстратом развития заболевания или обеспечивая кл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i-main-pic" descr="Картинка 109 из 2037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ефрит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95320" y="-360"/>
            <a:ext cx="4343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е воспаление почек возникает в результате перенесенного заболевания (ангины, скарлатины, рожи); способствует этому резкое охлаждение тела, вызванное промокшей одеждой, обувью. Болезнь начинается через 10-15 дней после инфекционного заболевания, проявляется в легком общем недомогании и небольших болях в поясничной области. Другие признаки - отечность лица, тела, повышение давления, уменьшение количества мочи и изменение ее состава. Как правило, болезнь продолжается 1-3 мес. и заканчивается выздоровл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i-main-pic" descr="Картинка 8 из 2169"/>
          <p:cNvPicPr/>
          <p:nvPr/>
        </p:nvPicPr>
        <p:blipFill>
          <a:blip r:embed="rId1"/>
          <a:stretch/>
        </p:blipFill>
        <p:spPr>
          <a:xfrm>
            <a:off x="152280" y="7621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35268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ак поч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43400" y="3045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к почки – злокачественное образование почечной ткани (паренхимы) – составляет 3% от всех злокачественных опухолей (однако в детской онкопатологии данный показатель достигает 40%) и встречается в популяции преимущественно в возрасте от 50 до 70 лет, чаще у мужч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Рак почки - опухоль почки"/>
          <p:cNvPicPr/>
          <p:nvPr/>
        </p:nvPicPr>
        <p:blipFill>
          <a:blip r:embed="rId1"/>
          <a:stretch/>
        </p:blipFill>
        <p:spPr>
          <a:xfrm>
            <a:off x="152280" y="914400"/>
            <a:ext cx="4114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ликистоз почек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43040" y="0"/>
            <a:ext cx="48006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Поликистоз почек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наследственное заболевание, для которого характерно образование множественных кист (полостных образований) в ткани по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Поликистоз почек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о сочетается с образованием кист в печени, а иногда в поджелудочной железе, вилочковой железе и др., в основном в паренхиматозных органах. Выделяют неонатальную и взрослую форму заболевания.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Поликистоз поче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новорожденных проявляется уже в первые недели жизни почечной недостаточностью и приводит к ранним летальны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поликистоз почек"/>
          <p:cNvPicPr/>
          <p:nvPr/>
        </p:nvPicPr>
        <p:blipFill>
          <a:blip r:embed="rId1"/>
          <a:stretch/>
        </p:blipFill>
        <p:spPr>
          <a:xfrm>
            <a:off x="228600" y="16002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581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Эхинококкоз поч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114800" y="22824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эхинококкоз почки встречается весьма редко. Случаев заболевания сразу двух почек почти не зарегистрировано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уют следующие виды эхинококкоза почки: одиночная капсула и множественный альвеолярный эхинококкоз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ой вид бывает очень неча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23901-1229939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797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2-02-25T16:52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