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06A1-AD84-4172-8E76-A6408238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785E-2504-4E02-9EA4-AAEE376A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E4E-E019-4800-AD76-22EEF7CC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E2E1-0B1C-418D-85EA-2FC33E7B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8E253-9D6A-42A3-8197-A1597983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0F7CE-8011-425E-B84D-290032CD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7D39F-D65A-4F04-A110-A2184C3C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74573-6194-4477-A1D4-4B88446A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307CD-F504-4935-99B8-76F0A44F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F4F04-BF5F-4C39-9EA6-5CEB6A65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2CE52-50E3-4500-AF4F-01532F92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ED5-AF2B-4265-A93F-81CDF318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2A278-400E-498D-B2B5-17A86BEF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B48B5-2B63-4CD9-AA72-F6F87C41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57962-52DB-4238-83E3-390D35DF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E8EC5-7FA7-4AE4-B2E0-86763C8E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3EFCF-BF52-41BE-8C51-EC937506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CA65F-CF2A-4798-9D8A-D0C72958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43BB4-7267-47D7-A785-90BF36BA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945A3-29C6-4A36-BEF6-A946247C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387AB-C442-4F65-AD0B-CA59EC14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CDC00-D4C6-42A5-9FC0-97A147A5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51AD-BC19-4F01-A0AB-643643DC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613AB-F4A8-4937-9F80-94A6B8DC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96C7B-ABFF-4121-AC72-8DC09B43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5DE9C-0244-4745-B353-E0A05803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DD0A3-5224-4916-8B26-2DA519E3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35975-F607-4BEB-B2DD-F289DAE8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4EC4B-B7AF-4190-AB53-A76A74E1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789C8-D98E-4B44-AACB-2B714BEC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67902-50E9-46B7-8F6D-02CC119A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1844F-6EA1-46DF-8E97-11B4AD8C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EB41C-24B4-4FF9-B7F9-426312E3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4507-77F0-4E3F-8D04-A64526D7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A654E-3C61-4AAB-95DF-5014382D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6BDF7-2F29-43FE-9566-013ABC8D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DF2E7-2DF9-4291-BCB8-A3A265E3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1D28D-FA17-496D-8CA1-51C63383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B6038-D9B4-4332-9633-6994087C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8905D-E972-4A58-BED7-EB0B3A9E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E54F8-9E5D-44D9-A5D7-49F8E6ED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54142-D622-48F1-96B4-4A5AF2C1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71583-3CE4-4EDC-97D3-634F90792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D2D77-2583-4B8D-B19E-5DDB6F37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A973-0203-4B8E-8ABD-F7432C6F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27D91-D4DA-4C69-88ED-4F661CC6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4EFE5-0275-4AF5-BC98-DF13C7FD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45885-8C5B-4BD4-95BA-E4022DFB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FC7AC-EC30-4C2C-8232-D241C74D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B1317-E309-4DB8-A9E7-83C10FDE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378BC-F144-419A-B843-DBF874DF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0DCBE-2373-4CD1-BE8D-4F072B7C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F1BAA-C0BB-4FF6-AC1C-2A4595C2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315C2-2C0A-4F43-A703-C1DC554A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14735-1659-4219-BB53-7DA4968F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7EB0-BC5E-4631-98AC-EF588625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DA18E-9C4D-44A2-9B6A-C08AF10D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F126-0883-40C1-94A8-896F7C90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6993-19F6-4967-A42B-A78DE2F0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98B0-4327-4105-A770-8DA9ADC8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EED1-47C9-430A-B702-FBD630545A5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9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B372-8993-4DFA-AEB6-B71DC3AFA64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8205-6158-4A46-9500-E774B07997C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9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9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12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0177-0C84-470D-9687-45168E125EF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8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D84E-2EF8-47A5-96D1-34C032653E7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9280" y="1412640"/>
            <a:ext cx="8223480" cy="222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оект  на тему: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«Социальная опасность алкоголизма»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готовила: учащаяся группы № 1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профессии «Мастер по обработке цифровой информаци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урынкина 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редное влияние алкоголя на организм чело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 пьющего человека сила воли слабеет день ото дня, и ему уже сложно, а затем и невозможно противиться искушению, выпить еще. Такие люди рано или поздно находят беду на свою голову и, как правило, долго не живу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редное действие алкоголя сказывается на потомстве пьющих родителей. Дети таких родителей капризны, невнимательны, обладают недостаточной способностью к запоминанию и восприятию новой информации. Зачастую дети рождаются с уродствами, слабоумием и другими заболеваниями. Слабоумным может стать человек, не употребляющий спиртного вовсе, а лишь вследствие алкоголизма его родителе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следствие насыщения мозга алкоголем происходит деградация умственных способносте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5" name="Picture 4" descr=""/>
          <p:cNvPicPr/>
          <p:nvPr/>
        </p:nvPicPr>
        <p:blipFill>
          <a:blip r:embed="rId1"/>
          <a:stretch/>
        </p:blipFill>
        <p:spPr>
          <a:xfrm>
            <a:off x="4651200" y="1612800"/>
            <a:ext cx="41911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964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Информационные ресурсы: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 Б. Альтшулер  Алкоголизм Издательство: ГЭОТАР-Медиа   2010 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alcoholizm.ru›pochemu-oni-pyut/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alcoholizm.ru›pochemu-oni-pyut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beremennost.net›beremennost-i-alkog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96472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ить, как алкоголь влияет на организм чело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казать губительное действие алкоголя на дет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395280" y="3429000"/>
            <a:ext cx="849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Гипотез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179280" y="4653000"/>
            <a:ext cx="878544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коголь губительно воздействует на весь организм человека. Особенно он опасен в детском и подростковом возрас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Что такое алкоголиз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медицинской точки зрения алкоголизм – это хроническое, прогредиентное (прогрессирующее) заболевание, обусловленное действием алкоголя как наркотического вещества. Данное заболевание имеет свои характерные синдромы (проявления), особенности развития и течения, а также определенные исходы, которые определяются стойкими соматоневрологическими нарушениями (болезни внутренних органов и нервной системы) и психической деградацией (поглупение, слабоумие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ДРОСТКОВЫЙ АЛКОГОЛИЗ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сожалению, в последнее время отмечается рост заболеваемости алкоголизмом среди подростков, возраст больных алкоголизмом с каждым годом уменьшается, статистика употребления алкоголя детьми еще более неутешительна. А мы тем временем занимаемся собственными проблемами и порой забываем о детях, которые предоставлены самим себе и пагубным соблазнам нашего ми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оследствия регулярного употребления алкоголя подростками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метим лишь некоторые из этих последствий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еждевременное начало половой жизни, которая истощает растущий организм, вызывая перенапряжение нервно-половой сферы, и как результат – раннее ослабление половых функц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есплодие и неспособность выносить, родить и воспитать полноценное потомств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ексуальные контакты подростков без контрацепции приводят к ранним абортам, и дальнейшим серьезным осложнения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зникает большая опасность заражения венерическими болезнями или инфекциями, передаваемыми половым путем, гепатитами В или С, ВИЧ-инфекцие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блюдаются сбои в работе желудочно-кишечного трак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арактерно повреждение печени, развитие гепатита, цирроза печен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рушения в работе поджелудочной железы (панкреатит, перитонит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рушение деятельности сердечно-сосудистой системы (тахикардия, проблемы с артериальным давлением и др.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звиваются воспалительные заболевания почек и мочевыводящих путей (уретрит, цистит, пиелонефрит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Женский алкоголиз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У женского алкоголизма последствия несколько отличаются от того, что испытывают мужчины. Во-первых, этиловый спирт разрушает эндокринную и нервную систему женщины, что в итоге приводит к бесплодию. В целом, женщины-алкоголички в 2,5 раза чаще болеют гинекологическими заболеваниями, чем непьющие, и гораздо чаще оказываются в психиатрических клиниках, чем мужчины. Во внешности женщины алкоголизм приводит к преждевременным старческим изменениям, ожирению или излишней худобе, морщинам, выпадению волос и огрублению голос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5" name="Picture 5" descr=""/>
          <p:cNvPicPr/>
          <p:nvPr/>
        </p:nvPicPr>
        <p:blipFill>
          <a:blip r:embed="rId1"/>
          <a:stretch/>
        </p:blipFill>
        <p:spPr>
          <a:xfrm>
            <a:off x="4651200" y="1600200"/>
            <a:ext cx="419112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44704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Физиологические последствия женского алкоголизм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знаки алкогольной зависимости проявляются на женском организме как с "внутренней", так и с "внешней" стороны. Алкоголизм вызывает необратимое увядание лиц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тончение кож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трофию мимических мышц лиц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лич лицевых мышц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еч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сихологические последствия женского алкоголизма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рицательное воздействие алкоголизма на духовную сферу жизни женщины проявляется обычно не сразу. В отличии от мужчин, женщина старается до последнего скрыть свое пристрастие к спиртному. Это обстоятельство во многом затрудняет распознание болезни на ранней стадии. При переходе же в хроническую стадию признаки эмоционального отупения становятся очевидн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тупляется эмоциональная восприимчивост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является скрытность и эгоистичност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растает пренебрежение к домашним обязанностя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ексуальной жизни проявляется распущенност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ведение становится грубы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ивной алкоголиз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отличие от алкоголизма традиционного, который формируется за счет употребления крепких алкогольных напитков (прежде всего водки и вина), пивной и баночный алкоголизм – следствие потребления слабоалкогольных напитков – пива, коктейлей и джин-тоников. Опасность этой новой разновидности «пьяной болезни» состоит как раз в том, что человека затягивает в эту трясину незамет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2" name="Picture 6" descr=""/>
          <p:cNvPicPr/>
          <p:nvPr/>
        </p:nvPicPr>
        <p:blipFill>
          <a:blip r:embed="rId1"/>
          <a:stretch/>
        </p:blipFill>
        <p:spPr>
          <a:xfrm>
            <a:off x="4651200" y="1600200"/>
            <a:ext cx="419112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26T11:47:26Z</dcterms:modified>
  <cp:revision>13</cp:revision>
  <dc:subject/>
  <dc:title>PowerPoint Presentation</dc:title>
</cp:coreProperties>
</file>