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3.jpeg" ContentType="image/jpeg"/>
  <Override PartName="/ppt/media/image7.png" ContentType="image/png"/>
  <Override PartName="/ppt/media/image11.jpeg" ContentType="image/jpeg"/>
  <Override PartName="/ppt/media/image13.png" ContentType="image/png"/>
  <Override PartName="/ppt/media/image31.jpeg" ContentType="image/jpeg"/>
  <Override PartName="/ppt/media/image32.jpeg" ContentType="image/jpeg"/>
  <Override PartName="/ppt/media/image5.jpeg" ContentType="image/jpe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.jpeg" ContentType="image/jpeg"/>
  <Override PartName="/ppt/media/image38.wmf" ContentType="image/x-wmf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45EF-2250-48BB-821E-2B8145525D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475A-E962-452A-A881-662BE074824C}" type="slidenum">
              <a:rPr b="0" lang="ru-RU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A70A-A5CB-41BB-A710-DC944350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79A2-B96B-4F76-9495-61D1FAE1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E75C-A26E-41CC-9A89-167968AF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D7468-D771-45C4-B459-8D0171D6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4085-FF97-4109-97AC-E1D465EE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2C1D-2BDF-4D00-8FF2-0A4EE804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44E8E-BE76-4350-94C4-1BE057B4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9CB5-A05A-4CE2-89EF-0CDDD473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BC56-E5BB-4845-9E5B-99BF8923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00BC2-1530-42A1-AB62-4628D661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AD68-AF33-4FCC-A6A9-B9B7DB00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797E-0DD1-4F4F-A49A-5A2F9852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237F-1CC5-4ED7-9303-FB1FF1FFC7A5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754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2b20"/>
                </a:solidFill>
                <a:latin typeface="Calibri"/>
              </a:rPr>
              <a:t>МОУ СОШ №121</a:t>
            </a:r>
            <a:br>
              <a:rPr sz="16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800"/>
            </a:b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Творческие работы учащихся 5 классов по английскому языку</a:t>
            </a:r>
            <a:br>
              <a:rPr sz="2000"/>
            </a:b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по теме «Профессии»</a:t>
            </a:r>
            <a:endParaRPr b="0" lang="en-US" sz="2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835280" y="3500280"/>
            <a:ext cx="6462720" cy="8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2b20"/>
                </a:solidFill>
                <a:latin typeface="Calibri"/>
              </a:rPr>
              <a:t>Составитель: ученица 9Б класса Алиса Ф.</a:t>
            </a:r>
            <a:br>
              <a:rPr sz="1600"/>
            </a:br>
            <a:r>
              <a:rPr b="0" lang="ru-RU" sz="1600" spc="-1" strike="noStrike">
                <a:solidFill>
                  <a:srgbClr val="2f2b20"/>
                </a:solidFill>
                <a:latin typeface="Calibri"/>
              </a:rPr>
              <a:t>Учитель английского языка: Ахметова З. Р.</a:t>
            </a:r>
            <a:br>
              <a:rPr sz="1600"/>
            </a:b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492360" y="619776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2b20"/>
                </a:solidFill>
                <a:latin typeface="Calibri"/>
              </a:rPr>
              <a:t>2011 год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6840" y="333360"/>
            <a:ext cx="7620120" cy="60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librarian, Mr. Red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read fantastic book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books are clever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books are good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book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librarian, Mr. Red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read fantastic book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Andrei Ch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37908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doctor, Mr. Blac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treat fantastic people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lients are polit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lients are kind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client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doctor, Mr. Blac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treat fantastic people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Julia Kh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576360" y="2482920"/>
            <a:ext cx="21240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vet, Mr. Red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treat fantastic animal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animals are quiet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animals are cut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animal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vet, Mr. Red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treat fantastic animal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Mediko P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468360" y="3544920"/>
            <a:ext cx="28083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bodyguard, Mr. Blac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guard fantastic client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lients are famous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lients are rich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bodyguard, Mr. Blac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guard fantastic people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Anonymous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6" name="Рисунок 3" descr=""/>
          <p:cNvPicPr/>
          <p:nvPr/>
        </p:nvPicPr>
        <p:blipFill>
          <a:blip r:embed="rId1"/>
          <a:stretch/>
        </p:blipFill>
        <p:spPr>
          <a:xfrm>
            <a:off x="639720" y="2630520"/>
            <a:ext cx="28814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bodyguard, Mr. Blu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guard fantastic client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lients are quiet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lients are rich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client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bodyguard, Mr. Blu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guard fantastic people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Artur Sh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8" name="Рисунок 3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21175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n engineer, Mr. Blac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build wonderful house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houses are tall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houses are comfortabl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house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n engineer, Mr. Blac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build wonderful house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Sasha Ts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0" name="Рисунок 3" descr=""/>
          <p:cNvPicPr/>
          <p:nvPr/>
        </p:nvPicPr>
        <p:blipFill>
          <a:blip r:embed="rId1"/>
          <a:stretch/>
        </p:blipFill>
        <p:spPr>
          <a:xfrm>
            <a:off x="468360" y="3030480"/>
            <a:ext cx="324000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builder, Mr. Red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build fantastic house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houses are small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houses are big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house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builder, Mr. Red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build fantastic house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Ann M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2448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journalist, Mr. Blumer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write fantastic article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articles are full of humor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ut there is no rumor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article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journalist, Mr. Blumer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write fantastic article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Vika Sh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311040" y="3213000"/>
            <a:ext cx="42958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n actor, Mr. Green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play fantastic show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shows are perfect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shows are brilliant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show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n actor, Mr. Green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play fantastic show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Ann B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611280" y="3017880"/>
            <a:ext cx="35290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coach, Mr. Yellow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teach children fantastic dance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dances are rhythmic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dances are cool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dance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coach, Mr. Yellow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teach children fantastic dance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Lisa E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1"/>
          <a:stretch/>
        </p:blipFill>
        <p:spPr>
          <a:xfrm>
            <a:off x="611280" y="3276720"/>
            <a:ext cx="24480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75e47"/>
                </a:solidFill>
                <a:latin typeface="Cambria"/>
              </a:rPr>
              <a:t>Job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7620120" cy="158436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1584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a teacher, Mr. White,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teach fantastic kids!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kids are nice,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kids are wise,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like my kids so very much!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a teacher, Mr. White,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teach fantastic kids!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 am a sailor, Mr. Blue,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 sail fantastic ships!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My ships are white,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My ships are light,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 like my ships so very much!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 am a sailor, Mr. Blue,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 sail fantastic ships!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" name="TextBox 4"/>
          <p:cNvSpPr/>
          <p:nvPr/>
        </p:nvSpPr>
        <p:spPr>
          <a:xfrm>
            <a:off x="542880" y="3357720"/>
            <a:ext cx="7344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2f2b20"/>
                </a:solidFill>
                <a:uFillTx/>
                <a:latin typeface="Calibri"/>
              </a:rPr>
              <a:t>Задание для учащихся</a:t>
            </a:r>
            <a:r>
              <a:rPr b="0" lang="en-US" sz="1800" spc="-1" strike="noStrike" u="sng">
                <a:solidFill>
                  <a:srgbClr val="2f2b20"/>
                </a:solidFill>
                <a:uFillTx/>
                <a:latin typeface="Calibri"/>
              </a:rPr>
              <a:t>: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Составьте свои варианты рифмовки, заменяя выделенные слова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 am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a teacher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, Mr.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Whit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each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fantastic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kid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!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y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kid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ar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nic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y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kid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ar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wis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 like my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kid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so very much!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 am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a teacher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, Mr.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Whit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each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fantastic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kid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!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6840" y="188640"/>
            <a:ext cx="762012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designer, Mr. Pin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sew fantastic clothe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dresses are fashionabl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blouses are nic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creation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designer, Mr. Pin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sew fantastic thing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Polina D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0" name="Рисунок 3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356868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housewife, Mr. Yellow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cook fantastic cake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akes are nic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akes are beautiful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cake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housewife, Mr. Yellow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cook fantastic cake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Marina M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2" name="Рисунок 3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251604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6840" y="333360"/>
            <a:ext cx="7620120" cy="60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farmer, Mr. Green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have fantastic animal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animals are clever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animals are bright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animal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farmer, Mr. Green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have fantastic animal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Oksana L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611280" y="3271680"/>
            <a:ext cx="2952720" cy="30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636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2010-2011 </a:t>
            </a: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учебный год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m a writer, Mr. Yellow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write fantastic books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books are nic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books are wis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ove my book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writer, Mr. Brown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write fantastic books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Yana Sh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323388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6840" y="188640"/>
            <a:ext cx="762012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m an author, Mr. Pin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write fantastic books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books are famous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books are nic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ove my book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n author, Mr. Pin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write fantastic books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Ann P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32763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vet, Mr. Wild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help fantastic animal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animals are angry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animals are hungry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animal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vet, Mr. Wild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help fantastic animal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Vasya K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1" name="Рисунок 3" descr=""/>
          <p:cNvPicPr/>
          <p:nvPr/>
        </p:nvPicPr>
        <p:blipFill>
          <a:blip r:embed="rId1"/>
          <a:stretch/>
        </p:blipFill>
        <p:spPr>
          <a:xfrm>
            <a:off x="611280" y="3659040"/>
            <a:ext cx="316872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vet, Mr. Purpl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treat fantastic pet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pets are pleasant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pets are obedient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pet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vet, Mr. Purpl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treat fantastic pet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Elena R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304308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6840" y="188640"/>
            <a:ext cx="762012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signer, Mr. Green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sing fantastic song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songs are beautiful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songs are melodious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song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signer, Mr. Green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sing fantastic song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Kseniya V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5" name="Рисунок 3" descr=""/>
          <p:cNvPicPr/>
          <p:nvPr/>
        </p:nvPicPr>
        <p:blipFill>
          <a:blip r:embed="rId1"/>
          <a:stretch/>
        </p:blipFill>
        <p:spPr>
          <a:xfrm>
            <a:off x="539640" y="3062160"/>
            <a:ext cx="273708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librarian, Mr. Touch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give fantastic book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books are kind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books are bright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book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librarian, Mr. Touch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give fantastic book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Igor M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539640" y="3160800"/>
            <a:ext cx="352764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636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2006-2007</a:t>
            </a: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 учебный год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librarian, Mr. Zimin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read fantastic book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books are interesting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books are magic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book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librarian, Mr. Zimin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read fantastic book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Yana P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9" name="Рисунок 3" descr=""/>
          <p:cNvPicPr/>
          <p:nvPr/>
        </p:nvPicPr>
        <p:blipFill>
          <a:blip r:embed="rId1"/>
          <a:stretch/>
        </p:blipFill>
        <p:spPr>
          <a:xfrm>
            <a:off x="331920" y="2997360"/>
            <a:ext cx="424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doctor, Mr. Tread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treat fantastic people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lients are glad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lients are thankful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client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doctor, Mr. Tread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treat fantastic people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Anonymous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1" name="Рисунок 4" descr=""/>
          <p:cNvPicPr/>
          <p:nvPr/>
        </p:nvPicPr>
        <p:blipFill>
          <a:blip r:embed="rId1"/>
          <a:stretch/>
        </p:blipFill>
        <p:spPr>
          <a:xfrm>
            <a:off x="108000" y="2637000"/>
            <a:ext cx="2813040" cy="38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dentist, Mr. Green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treat fantastic client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lients are calm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lients are friendly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client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dentist, Mr. Green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treat fantastic client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Gleb Sh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539640" y="3133800"/>
            <a:ext cx="280836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n engineer, Mr. Smith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create fantastic house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houses are creativ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houses are beautiful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house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n engineer, Mr. Smith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create fantastic house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Rita P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468360" y="3249720"/>
            <a:ext cx="371952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designer, Mrs. Green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create fantastic clothe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lothes are funny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lothes are beautiful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clothe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designer, Mrs. Green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create fantastic clothe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Marina T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826920" y="3340080"/>
            <a:ext cx="302436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6840" y="333360"/>
            <a:ext cx="7620120" cy="60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designer, Mr. Ge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make fantastic jean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jeans are nic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jeans are cool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jean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designer, Mr. Ge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make fantastic jean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Polina Shch. 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9" name="Рисунок 4" descr=""/>
          <p:cNvPicPr/>
          <p:nvPr/>
        </p:nvPicPr>
        <p:blipFill>
          <a:blip r:embed="rId1"/>
          <a:stretch/>
        </p:blipFill>
        <p:spPr>
          <a:xfrm>
            <a:off x="539640" y="3106800"/>
            <a:ext cx="302436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6840" y="188640"/>
            <a:ext cx="762012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modeler, Mr. Red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make fantastic costume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ostumes are nic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ostumes are fashionabl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costume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modeler, Mr. Red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make fantastic costume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Nastya D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338436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cook, Mr. Blu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cook fantastic food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food is tasty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food is pleasant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food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cook, Mr. Blu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cook fantastic food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Pavel Sh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332748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farmer, Mr. Blac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ove fantastic pet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pets are nic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pets are good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pet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farmer, Mr. Blac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ove fantastic pet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Julia O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5" name="Рисунок 4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360036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6840" y="333360"/>
            <a:ext cx="7620120" cy="60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computer programmer, Mr. Pin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write fantastic program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programs are colorful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programs are wonderful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program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computer programmer, Mr. Pin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write fantastic program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Ann O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21812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m a writer, Mr. Brown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write fantastic stories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stories are funny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stories are charming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ove my storie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writer, Mr. Brown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write fantastic stories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Andrei</a:t>
            </a:r>
            <a:r>
              <a:rPr b="0" lang="ru-RU" sz="1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K. 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755640" y="3429000"/>
            <a:ext cx="3168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computer programmer, Mr. Red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write fantastic program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programs are great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programs are modern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program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computer programmer, Mr. Red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write fantastic program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Vadim P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9" name="Рисунок 4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38163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driver, Mr. Blac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drive fantastic car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ars are blac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ars are nic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car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driver, Mr. Blac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drive fantastic car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Leonid L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1" name="Picture 2" descr="C:\Program Files\Microsoft Office\MEDIA\CAGCAT10\j0212957.wmf"/>
          <p:cNvPicPr/>
          <p:nvPr/>
        </p:nvPicPr>
        <p:blipFill>
          <a:blip r:embed="rId1"/>
          <a:stretch/>
        </p:blipFill>
        <p:spPr>
          <a:xfrm>
            <a:off x="684360" y="3740040"/>
            <a:ext cx="374328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driver, Mr. Pin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drive fantastic car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ars are pin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ars are big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car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driver, Mr. Pin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drive fantastic car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Nastya P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3" name="Рисунок 3" descr=""/>
          <p:cNvPicPr/>
          <p:nvPr/>
        </p:nvPicPr>
        <p:blipFill>
          <a:blip r:embed="rId1"/>
          <a:stretch/>
        </p:blipFill>
        <p:spPr>
          <a:xfrm>
            <a:off x="630360" y="3079800"/>
            <a:ext cx="25923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businessman, Mr. Blac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make fantastic money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money is green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money is hard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money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businessman, Mr. Blac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make fantastic money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Ilya L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5" name="Рисунок 4" descr=""/>
          <p:cNvPicPr/>
          <p:nvPr/>
        </p:nvPicPr>
        <p:blipFill>
          <a:blip r:embed="rId1"/>
          <a:stretch/>
        </p:blipFill>
        <p:spPr>
          <a:xfrm>
            <a:off x="755640" y="3193920"/>
            <a:ext cx="316872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6840" y="188640"/>
            <a:ext cx="762012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hairdresser, Mr. Green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make fantastic curl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urls are bright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urls are light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curl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hairdresser, Mr. Green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make fantastic curl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Ulyana K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7" name="Рисунок 3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314172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6840" y="188640"/>
            <a:ext cx="762012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lawyer, Mr. Smith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know a lot of law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laws are strong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laws are strict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law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lawyer, Mr. Smith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know a lot of law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Stas L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9" name="Рисунок 1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247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teacher, Mr. Rull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teach fantastic children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hildren are creativ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children are friendly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children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teacher, Mr. Rull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teach fantastic children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Natasha KH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684360" y="3513240"/>
            <a:ext cx="23032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n English teacher, Mr. Green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have fantastic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tudent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y study English very wel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nd go to school with pleasur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students are very clever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nd I reprove them neve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student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y alway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touch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my hear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n English teacher, Mr. Green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teach fantastic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tudent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Artyom V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250920" y="4581360"/>
            <a:ext cx="283212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vet, Mr. Blac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treat fantastic animal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animals are nic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animals are bright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animals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vet, Mr. Black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treat fantastic animal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Alisa F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539640" y="3357720"/>
            <a:ext cx="32860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6840" y="188640"/>
            <a:ext cx="762012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musician, Mr. Blu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compose fantastic music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music is excellent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music is charming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music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musician, Mr. Blu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compose fantastic music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Ira R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409680" y="3500280"/>
            <a:ext cx="303840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6840" y="259920"/>
            <a:ext cx="76201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musician, Mr. Red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play fantastic music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music is beautiful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y music is fine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like my music so very much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am a musician, Mr. Red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compose fantastic music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Nastya D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8" name="Рисунок 3" descr=""/>
          <p:cNvPicPr/>
          <p:nvPr/>
        </p:nvPicPr>
        <p:blipFill>
          <a:blip r:embed="rId1"/>
          <a:stretch/>
        </p:blipFill>
        <p:spPr>
          <a:xfrm>
            <a:off x="395280" y="3233880"/>
            <a:ext cx="273672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7:20:07Z</dcterms:created>
  <dc:creator>Алиса</dc:creator>
  <dc:description/>
  <dc:language>en-US</dc:language>
  <cp:lastModifiedBy>Зульфия</cp:lastModifiedBy>
  <dcterms:modified xsi:type="dcterms:W3CDTF">2012-02-25T20:08:10Z</dcterms:modified>
  <cp:revision>33</cp:revision>
  <dc:subject/>
  <dc:title>Professions</dc:title>
</cp:coreProperties>
</file>