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7.wmf" ContentType="image/x-wmf"/>
  <Override PartName="/ppt/media/chimes.wav" ContentType="audio/x-wav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E3B-6660-4B45-9985-EBA58AA2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AB1-6D8A-4D21-8579-09AF02A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744-3DB0-4F50-9069-8DE98E3A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F43-7983-40DC-ABD9-C16722B5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37A-FD63-4592-BF29-FD90EDC0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EAD-8AA6-49B8-92CA-E524F6C0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F3F-4398-4EE5-AA3B-85C13569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C01-0759-4CA0-82B6-D5E1B7DD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CCA-5468-4105-B1B7-4A7DE18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708-AFA0-46FF-81C7-2502AB3E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404-7640-4566-98DA-ECA715C4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F90-D3E0-4238-99CB-C365E88D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6AFA-CFEA-4DEF-9B11-8F1141E634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18900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Родительское собрание № 1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1341360"/>
            <a:ext cx="799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рвый ра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первый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450864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Авто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учитель  начальных классо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МБОУ Лицей № 11 г. Химки Моск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Егорова Лидия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60213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Сентябрь, 2012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2C9-D699-4285-BF3F-0A50D007432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Вредные совет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 в коем случае не хвалите ребенка. Ведь самооценка – это такая ерунда, главное, чтобы не загордился!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Помните, переписывание – лучший способ полюбить письмо, пусть даже со слезами на глаз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И уж конечно, почаще ставьте в пример своему ребенку других, более успешных детей. Ведь зависть гораздо важнее уверенности в себ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7dbd4578d2204116a368b3a3656fb417"/>
          <p:cNvPicPr/>
          <p:nvPr/>
        </p:nvPicPr>
        <p:blipFill>
          <a:blip r:embed="rId2"/>
          <a:stretch/>
        </p:blipFill>
        <p:spPr>
          <a:xfrm>
            <a:off x="1042920" y="4941720"/>
            <a:ext cx="6913800" cy="92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71F-4495-4576-8A96-407ABA72FB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Вредные совет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учший способ помощи ребенку – все сделать за него. Быстро и без пробле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Любой ценой заставьте ребенка утром плотно позавтракать. Неважно, что нет аппетита, что день начинается со слез и конфлик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Портфель всегда собирайте сами, чтобы ничего не забыть. Так надежнее. И на ближайшие годы это станет вашим любимым занятием по утрам или вечер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7dbd4578d2204116a368b3a3656fb417"/>
          <p:cNvPicPr/>
          <p:nvPr/>
        </p:nvPicPr>
        <p:blipFill>
          <a:blip r:embed="rId2"/>
          <a:stretch/>
        </p:blipFill>
        <p:spPr>
          <a:xfrm>
            <a:off x="1187280" y="5013360"/>
            <a:ext cx="6913800" cy="9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EB3-136F-4CD2-B0FC-CE6E6E3E2A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Вредные совет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Одевайте ребенка тоже сами – сэкономите время сборов в школу. Ведь самостоятельность вашему ребенку в будущем только помеша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Ни в коем случае не нужно ребенку отдыхать после школы. Уроки лучше делать сразу, пока все свежо в памя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Лучший способ отдохнуть от уроков – это компьютер и телевизор. Ребенку интересно и вас не беспокоит. А совместные игры, прогулки – пустая трата времени для вас обо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И уж, конечно, пора бросать бесполезную привычку читать ребенку сказки перед сном. Он уже сам умеет чит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7dbd4578d2204116a368b3a3656fb417"/>
          <p:cNvPicPr/>
          <p:nvPr/>
        </p:nvPicPr>
        <p:blipFill>
          <a:blip r:embed="rId2"/>
          <a:stretch/>
        </p:blipFill>
        <p:spPr>
          <a:xfrm>
            <a:off x="1403280" y="5661000"/>
            <a:ext cx="6913800" cy="9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5D1-0990-442D-9955-3979DA7775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Вы чувствуете, что эти советы не для Ва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начит Вы –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понимающ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заботлив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и прекрасный родите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7dbd4578d2204116a368b3a3656fb417"/>
          <p:cNvPicPr/>
          <p:nvPr/>
        </p:nvPicPr>
        <p:blipFill>
          <a:blip r:embed="rId2"/>
          <a:stretch/>
        </p:blipFill>
        <p:spPr>
          <a:xfrm>
            <a:off x="1042920" y="4869000"/>
            <a:ext cx="6913800" cy="92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C36-0FB9-4A4F-94BF-C0ABCAACFE0E}" type="slidenum">
              <a:t>13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539640" y="1052640"/>
            <a:ext cx="8135280" cy="4823640"/>
            <a:chOff x="539640" y="1052640"/>
            <a:chExt cx="8135280" cy="482364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539640" y="1052640"/>
              <a:ext cx="8135280" cy="48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3588480" y="3015720"/>
              <a:ext cx="4069440" cy="109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Любите детей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EAD-13E5-4971-82F2-4E41E292638A}" type="slidenum">
              <a:t>14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Как пойти в школу </a:t>
            </a:r>
            <a:br>
              <a:rPr sz="4000"/>
            </a:b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без стресса и страха?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287712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блюдать режим. Ложиться спать вовремя, чтобы встать смогли вовремя и без сле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У ребенка должен быть стиму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Положительный наст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рисунок для сайта"/>
          <p:cNvPicPr/>
          <p:nvPr/>
        </p:nvPicPr>
        <p:blipFill>
          <a:blip r:embed="rId2"/>
          <a:stretch/>
        </p:blipFill>
        <p:spPr>
          <a:xfrm>
            <a:off x="1187280" y="1844640"/>
            <a:ext cx="164952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DC9-B598-481C-B2F2-DB89A3C2C6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4464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Что мы скажем нашему</a:t>
            </a:r>
            <a:br>
              <a:rPr sz="2400"/>
            </a:b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 первокласснику</a:t>
            </a:r>
            <a:br>
              <a:rPr sz="2400"/>
            </a:b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 на школьном пороге?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Веди себя хорош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Слушайся учительницу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Не отвлекайся на уроках!</a:t>
            </a:r>
            <a:br>
              <a:rPr sz="3200"/>
            </a:b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Ни в коем случае!!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На уроке всё запоминай, это тебе понадобится скор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8" descr="1ab5211e99c6305093bb237702b75031[1]"/>
          <p:cNvPicPr/>
          <p:nvPr/>
        </p:nvPicPr>
        <p:blipFill>
          <a:blip r:embed="rId2"/>
          <a:stretch/>
        </p:blipFill>
        <p:spPr>
          <a:xfrm>
            <a:off x="6300720" y="1197000"/>
            <a:ext cx="233352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C5C-720F-462D-91A8-26F275E2F9B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Полезные совет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1.Уроки   за   ребенка   делать    не    сто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2.Читайте ребенку вслух, повторяйте и обсуждайте прочитанн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1ab5211e99c6305093bb237702b75031[1]"/>
          <p:cNvPicPr/>
          <p:nvPr/>
        </p:nvPicPr>
        <p:blipFill>
          <a:blip r:embed="rId2"/>
          <a:stretch/>
        </p:blipFill>
        <p:spPr>
          <a:xfrm>
            <a:off x="6300720" y="4221000"/>
            <a:ext cx="233352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316-A55F-4011-A9E3-2C6632FCE9B1}" type="slidenum">
              <a:t>4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Какой вопрос задает родитель,</a:t>
            </a:r>
            <a:br>
              <a:rPr sz="3200"/>
            </a:b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вернувшись после работы домой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403884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Не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«Ну как, уроки сдел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А какие у тебя сегодня отметки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497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Что же было интересного в школе? Что тебе запомни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Что было самое      трудно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А самое легко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1ab5211e99c6305093bb237702b75031[1]"/>
          <p:cNvPicPr/>
          <p:nvPr/>
        </p:nvPicPr>
        <p:blipFill>
          <a:blip r:embed="rId2"/>
          <a:stretch/>
        </p:blipFill>
        <p:spPr>
          <a:xfrm>
            <a:off x="684360" y="5157720"/>
            <a:ext cx="2333520" cy="129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1B4-172E-477C-9085-A39122BF5EC3}" type="slidenum">
              <a:t>5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1" dur="5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5" dur="5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Полезные совет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Постарайтесь не делать ребенку критических замечаний, когда он делает уроки, выяснять отношения и комментировать его 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KIDS01"/>
          <p:cNvPicPr/>
          <p:nvPr/>
        </p:nvPicPr>
        <p:blipFill>
          <a:blip r:embed="rId2"/>
          <a:stretch/>
        </p:blipFill>
        <p:spPr>
          <a:xfrm>
            <a:off x="5076720" y="5300640"/>
            <a:ext cx="1656000" cy="114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KIDS01"/>
          <p:cNvPicPr/>
          <p:nvPr/>
        </p:nvPicPr>
        <p:blipFill>
          <a:blip r:embed="rId3"/>
          <a:stretch/>
        </p:blipFill>
        <p:spPr>
          <a:xfrm>
            <a:off x="2124000" y="5229360"/>
            <a:ext cx="1656000" cy="114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C17-AE06-4845-98A2-EF46E8D85A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Полезные совет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бное время для занятий лучше выбрать вместе с ребенко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308640"/>
            <a:ext cx="3291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KIDS01"/>
          <p:cNvPicPr/>
          <p:nvPr/>
        </p:nvPicPr>
        <p:blipFill>
          <a:blip r:embed="rId2"/>
          <a:stretch/>
        </p:blipFill>
        <p:spPr>
          <a:xfrm>
            <a:off x="4716360" y="5157720"/>
            <a:ext cx="1656000" cy="1146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KIDS01"/>
          <p:cNvPicPr/>
          <p:nvPr/>
        </p:nvPicPr>
        <p:blipFill>
          <a:blip r:embed="rId3"/>
          <a:stretch/>
        </p:blipFill>
        <p:spPr>
          <a:xfrm>
            <a:off x="1908000" y="5229360"/>
            <a:ext cx="1656000" cy="114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651-60C3-49A4-BD08-44F159536A98}" type="slidenum">
              <a:t>7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Полезные совет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Не перегружайте ребенка дополнительными внешкольными занятиями, особенно в начале обучения в школе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10800000">
            <a:off x="2840040" y="6164640"/>
            <a:ext cx="38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KIDS01"/>
          <p:cNvPicPr/>
          <p:nvPr/>
        </p:nvPicPr>
        <p:blipFill>
          <a:blip r:embed="rId2"/>
          <a:stretch/>
        </p:blipFill>
        <p:spPr>
          <a:xfrm>
            <a:off x="5076720" y="5300640"/>
            <a:ext cx="165600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KIDS01"/>
          <p:cNvPicPr/>
          <p:nvPr/>
        </p:nvPicPr>
        <p:blipFill>
          <a:blip r:embed="rId3"/>
          <a:stretch/>
        </p:blipFill>
        <p:spPr>
          <a:xfrm>
            <a:off x="2484360" y="5300640"/>
            <a:ext cx="151128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251-3CBF-49AA-810F-1946EECF52F0}" type="slidenum">
              <a:t>8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редные советы</a:t>
            </a:r>
            <a:br>
              <a:rPr sz="4400"/>
            </a:b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Автор: психолог Неля Царица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бросите все игрушки, пусть ничего не отвлекает ребенка от учеб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Ни в коем случае не оставляйте ребенку свободное время. Загрузите его до отказа, запишите на несколько секций прямо с сентяб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Безусловно,железная дисциплина превыше всего! Неважно, что ребенок утратит прежние интересы, желания, вкус к жизни вообщ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7dbd4578d2204116a368b3a3656fb417"/>
          <p:cNvPicPr/>
          <p:nvPr/>
        </p:nvPicPr>
        <p:blipFill>
          <a:blip r:embed="rId2"/>
          <a:stretch/>
        </p:blipFill>
        <p:spPr>
          <a:xfrm>
            <a:off x="1116000" y="5300640"/>
            <a:ext cx="6913440" cy="9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9D6-EACF-4AEA-998D-13012987823B}" type="slidenum">
              <a:t>9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8:32:56Z</dcterms:created>
  <dc:creator>Егорова</dc:creator>
  <dc:description/>
  <dc:language>en-US</dc:language>
  <cp:lastModifiedBy>Пользователь</cp:lastModifiedBy>
  <dcterms:modified xsi:type="dcterms:W3CDTF">2012-02-26T17:21:38Z</dcterms:modified>
  <cp:revision>19</cp:revision>
  <dc:subject/>
  <dc:title>Фрукты и ягоды</dc:title>
</cp:coreProperties>
</file>