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131F-C0A0-4C76-867D-79ABD7801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FFC2-FDBE-43BE-96C9-BBD4A66B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42C4-9D40-4814-A31D-DA604BB1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B3A3-55D9-41B2-8C29-970AF50B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78F8-F50E-47AC-8F0C-107C16BD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0B3B-7059-4996-AA63-FC7723CB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EF11-48AB-4B49-ADDE-EA236861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AF25-813B-42D4-BB0A-3B762838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269D-436D-47E4-A62C-64050550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245F-3DE1-4516-A9D5-95149370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77FB-1EBB-4764-BE8C-F4537589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4E84-1A9B-4486-B274-F98666EB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6E55-A962-428E-A205-43685AB0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13DE-D0ED-485A-8835-6340ABD0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1080-4F91-41C6-B9A6-1C793B68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6085-B357-4EA8-9573-0272D97A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56B8-F501-45B5-A21B-C46A2AB0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BE459D-5239-49AA-A2B0-EE3829B5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9110D0-33C8-4941-A5DB-D3C2803F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701EB-0172-4E93-A52B-3DE8975F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9A6F2-EB3F-4A41-95AD-E785BBE9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EF01DB-2B32-4765-B81D-97E9114A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9AF2-3BE4-4B9B-A02C-06EA18D0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84A9DA-9187-49FA-8F5B-5F95A37F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BEB10B-40CF-4691-A0E3-D047C8BC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EB3EA7-A066-4639-8136-1C4BD588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90410-4142-4A86-A4A4-63DB7E62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0B1719-9AE6-493C-B94A-F5585156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CC5A7-C207-44C8-9990-D8364976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CBD8C-E7EC-4778-B91A-E338F275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B213D9-EE4F-4AFE-AC32-B58295A9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9FE30F-8340-49CA-BEB8-EEA0DC61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0D6E93-DE5C-475C-81E5-29DC7326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A953-947F-454B-8D70-68BAD47A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027B0A-E6AB-4501-A67A-B87C39CB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927473-9DAD-4272-8CF4-495A1B11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FE109D-6F1E-42B5-9CEE-B046362C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334606-1AF0-4A12-A869-776F1AD6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22CD5D-460F-4398-8DA1-BD136807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3B6A5B-51AA-4C19-A994-BE85A794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42390C-1C76-407F-BF2A-8400F326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C5E8B0-4AD6-47BA-AA72-ECD4BF76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D658A5-9D11-4140-8531-2019F2FE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AC7DA7-DEB1-4DAD-B333-6097127A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ADBE-10FB-45A4-B10B-61B7CFAD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18342B-C253-45AB-87CE-282C375C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CED650-3FD3-425D-9839-3A3BF23A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534B1A-4F9E-429C-98BE-600B53C2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6B467F-A870-49A2-9C4D-2F4DC640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FA36B1-CDEB-4F18-8AFA-D0803399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73E54F-0F22-4C5E-A442-735DDE12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0735BD-D324-42ED-BE32-C8A651A5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214799-13AF-490F-AC0E-F7B2EBEE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B5E88B-9971-430C-A916-9ACE848E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1F5C99-E826-4E7F-9056-22915595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F31B-89DE-409B-9083-FBAA97F5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B6AF74-7D78-4DAB-A5BF-E74817CC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B160D-6AC6-46FD-B9F4-C244F676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3E15B-1A17-45BF-8A71-F264C93D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41077-286A-4340-9C1F-A55BFB2D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0657A-ECED-4043-8AE8-CF8BFA23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39453-EA16-4894-87AB-2C55DB4B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9B364-973D-4917-AFFD-3DE68F40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DEABE-1F0B-48FC-AD17-A3E64DB4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36376-736B-4ABF-B474-230B5698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E5FB3-C224-4565-B895-5BB2D047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D93D-5AE5-4FE2-918F-FE4A467D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AC7A0-4F92-434E-8318-3FC113B8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4217A-987A-4FF4-9217-A5457C8A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11DE5-769F-4626-8D77-E303F87F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E9974B-FC48-4BAB-964A-DC8FED49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7F3FFF-C98E-4D79-9ECD-5560F206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F7890D-870C-4379-89E5-C7A7987D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756E3E-EDE8-4758-AEAA-5C783498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5C3B9E-F7E0-4D7E-80BB-31914D50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18492D-456A-4E62-AEB4-5D0A1E63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32169B-DBB6-493D-8D19-11F7B28A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FE95-ECC1-43D1-BC7A-069D7B57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AE3D25-AA08-4239-B2B1-FDD02DC5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DEB6B4-07DA-4915-83E5-BAFCA274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EDFA12-DF72-4AEA-8B16-A1C82C34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FC4956-6D5D-49D8-A006-EBF31D9A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C49F1B-5C68-4AA0-ACB0-1E7128DB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9E33E-5149-4077-9DE7-370A8D2D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1E71E-8968-4FC4-9633-950BF080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80EE1-B2C0-4999-B344-0F2531B4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01E28-E827-4174-833A-13C9E913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9D53D-41F4-4DBB-BAA4-3344EC8C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CD4E-4DBD-46D3-A1CE-638A2B29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D4E9A-F940-4791-80CE-11B3E888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800FB-0D7D-4151-9982-F7FCEFB3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81AA8-875C-4DF7-80C0-CED7C6C6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BE691-F71D-4296-8E3B-D3AF60F7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3AF92-046F-489E-8A64-6BA4E3D7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2229D-09FC-401E-9FE9-2913FA67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E2E9E-0453-442F-933C-DA25AE59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23232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3232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16EF-1B18-4A59-A375-E4E26A19D2C9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3ded1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F186-7820-4CD7-B2B6-5ED6D5E81B75}" type="slidenum">
              <a:rPr b="1" lang="ru-RU" sz="1400" spc="-1" strike="noStrike">
                <a:solidFill>
                  <a:srgbClr val="e3ded1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23232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3232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DB2E-A343-43CE-A5A3-1156FD0D685E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23232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3232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3B6C-785D-4ACE-9B94-57A628EE2C37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23232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3232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98B0-FD07-4044-BA70-BCA684F4F8B7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23232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3232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323232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A1A5-553D-4831-867E-BECC5BA68D36}" type="slidenum">
              <a:rPr b="1" lang="ru-RU" sz="1400" spc="-1" strike="noStrike">
                <a:solidFill>
                  <a:srgbClr val="323232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23232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3232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6F2D-8726-41A7-87E5-14D05DDB84D4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23232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3232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32CA-00D4-4556-8AA6-AB5220A0B71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rnitca.ru/images/key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2720" y="115560"/>
            <a:ext cx="815328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 урока по теме</a:t>
            </a:r>
            <a:br>
              <a:rPr sz="2800"/>
            </a:br>
            <a:r>
              <a:rPr b="1" lang="ru-RU" sz="2800" spc="-1" strike="noStrike">
                <a:solidFill>
                  <a:srgbClr val="9f2936"/>
                </a:solidFill>
                <a:latin typeface="Calibri"/>
              </a:rPr>
              <a:t>«Формулировка проблемы в сочинении на ЕГЭ»:</a:t>
            </a:r>
            <a:br>
              <a:rPr sz="2800"/>
            </a:b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Повторить ранее изученный материал по теме “Типы проблем”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отработать алгоритм формулировки проблемы, умение вычленять  из текста проблему и формулировать ее письменно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закрепить навыки произношения и правопис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115560"/>
            <a:ext cx="815328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Прочитайте текст. Выберите правильную формулировку проблемы текста.</a:t>
            </a:r>
            <a:br>
              <a:rPr sz="2800"/>
            </a:b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08000" y="148392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выделился как человек в процессе познания природы. Познавая её, он осуществлял себя как мыслящее, творящее существо. Познание доставляло подлинное удовлетворение. Именно удовлетворе­ние, наиболее полное, гармоничное, может быть, потому, что познание природы есть приобщение к ней и к вечности. И потому, что познание происходит через творчество, человек открывает новое, создаёт. Он творец, он создатель, он бог, человечество было сформировано не импе­раторами, жрецами, полководцами, а теми, кто создал топор, колесо, самолёт, кто нашёл злаки, следил за звёздами, кто открыл железо, полупроводники, радиоволны.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. Гранин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</a:t>
            </a:r>
            <a:r>
              <a:rPr b="0" i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Что такое гармон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2. Какова роль познания в процессе развития человека и человечеств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3. Каковы границы познания окружающего мир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4. Каковы перспективы технического прогресс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115560"/>
            <a:ext cx="815328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Прочитайте текст. Укажите проблему, которая не рассматривается автором.</a:t>
            </a:r>
            <a:br>
              <a:rPr sz="2800"/>
            </a:b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08000" y="148392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иблиотека — это не сумма книг, а система книг. Редких книг со­бирать не надо, надо собирать нужные книги. Книги надо подбирать так, как в старину ювелиры подбирали камни для украш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ниги нельзя удалять со своих полок, как нельзя вырубать леса целиком, они должны расти у тебя. Раз прочитанная книга ещё драгоценнее, чем книга непрочитанная. Книги собираются в стаи, библио­теки, как птицы; книги собираются, как леса — из деревьев, травы и грибов: они живут в сознании человека. И для большого человека нет даром прочтённой книги. Она находит место в его сознании. Библио­теки — это лаборатории, в которых проектируется мир. Литература открывает мир!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(По Б. Шкловскому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7030a0"/>
                </a:solidFill>
                <a:latin typeface="Calibri"/>
              </a:rPr>
              <a:t>1. Как следует подбирать книги для личной библиотек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7030a0"/>
                </a:solidFill>
                <a:latin typeface="Calibri"/>
              </a:rPr>
              <a:t>2. Роль книги в формировании лич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7030a0"/>
                </a:solidFill>
                <a:latin typeface="Calibri"/>
              </a:rPr>
              <a:t>3. Какие книги можно назвать редким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7030a0"/>
                </a:solidFill>
                <a:latin typeface="Calibri"/>
              </a:rPr>
              <a:t>4. Проблема отношения человека к книг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Отредактируйте предложения 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и проверьте свою работу</a:t>
            </a:r>
            <a:br>
              <a:rPr sz="2800"/>
            </a:b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24000" y="1915920"/>
            <a:ext cx="41716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втор текста размышляет над про­блемой о национальных конфликтах.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ому выгодно разжигание националь­ных розней? Над этой проблемой рас­суждает Ю. Лотман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 тексте поднимается проблема на­ционализма народов.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Ю. Лотман ставит читателю про­блему национальных конфликтов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Автор текста предлагает заду­маться над следующей проблемой: можно ли избежать расовой дискри­минации?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788000" y="1915920"/>
            <a:ext cx="41637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3886200" cy="3589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txBody>
          <a:bodyPr anchor="ctr">
            <a:normAutofit fontScale="8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ходный вариа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87640" y="1557360"/>
            <a:ext cx="3886200" cy="379440"/>
          </a:xfrm>
          <a:prstGeom prst="rect">
            <a:avLst/>
          </a:prstGeom>
          <a:solidFill>
            <a:srgbClr val="4e8542"/>
          </a:solidFill>
          <a:ln w="0">
            <a:noFill/>
          </a:ln>
        </p:spPr>
        <p:txBody>
          <a:bodyPr anchor="ctr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редактированный вариа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Отредактируйте предложения 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и проверьте свою работу</a:t>
            </a:r>
            <a:br>
              <a:rPr sz="2800"/>
            </a:b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24000" y="1915920"/>
            <a:ext cx="41716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втор текста размышляет над про­блемой о национальных конфликтах.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ому выгодно разжигание националь­ных розней? Над этой проблемой рас­суждает Ю. Лотман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 тексте поднимается проблема на­ционализма народов.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Ю. Лотман ставит читателю про­блему национальных конфликтов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Автор текста предлагает заду­маться над следующей проблемой: можно ли избежать расовой дискри­минации?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788000" y="1915920"/>
            <a:ext cx="41637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Автор текста размышляет над пробле­мой национальных конфликтов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Кому выгодно разжигание нацио­нальной розни? Над этой проблемой рассуждает Ю. Лотма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В тексте поднимается проблема меж­национальной враж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 Ю. Лотман предлагает читателям за­думаться над проблемой межнацио­нальных конфлик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. Автор текста предлагает задуматься над следующей проблемой: можно ли избежать межнациональных кон­фликтов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3886200" cy="3589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txBody>
          <a:bodyPr anchor="ctr">
            <a:normAutofit fontScale="8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ходный вариа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87640" y="1557360"/>
            <a:ext cx="3886200" cy="379440"/>
          </a:xfrm>
          <a:prstGeom prst="rect">
            <a:avLst/>
          </a:prstGeom>
          <a:solidFill>
            <a:srgbClr val="4e8542"/>
          </a:solidFill>
          <a:ln w="0">
            <a:noFill/>
          </a:ln>
        </p:spPr>
        <p:txBody>
          <a:bodyPr anchor="ctr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редактированный вариа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115560"/>
            <a:ext cx="815328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е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тип проблемы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 ключевым словам:</a:t>
            </a:r>
            <a:br>
              <a:rPr sz="2800"/>
            </a:b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8000" y="177300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 с чем действительно можно сравнить красоту Байкала? Не станем уверять, что прекраснее Байкала нет ничего на свете: каж­дому из нас люба и мила своя сторона, и для эскимоса или алеута, как известно, его тундра и ледяная пустыня есть венец природного совер­шенства и богатства. Мы  с рождения впитываем в себя воздух, соли и картины своей родины, они влияют на наш характер 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малой степени организуют наш жизненный состав. Поэтому недостаточно сказать, что они дороги нам, мы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часть их та часть, которая состав­лена естественной средой; в нас обязан говорить и говорит её древний и вечный голос. Бессмысленно сравнивать, отдавая чему-либо предпоч­тение, льды Гренландии с песками Сахары, сибирскую тайгу со средне­русской степью, даже Каспий с Байкалом, можно лишь передать о них свои впечатления. Всё это прекрасно своей красотой и удивительно своей жизнью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В. Распутину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зеро Байкал</a:t>
            </a: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1854360" y="1959120"/>
            <a:ext cx="5670360" cy="3778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115560"/>
            <a:ext cx="815328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Проверьте</a:t>
            </a:r>
            <a:endParaRPr b="0" lang="en-US" sz="4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8000" y="177300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 с чем действительно можно сравнить красоту Байкала? Не станем уверять, что прекраснее Байкала нет ничего на свете: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ж­дому из нас люба и мила своя сторо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для эскимоса или алеута, как известно, его тундра и ледяная пустыня есть венец природного совер­шенства и богатства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ы  с рождения впитываем в себя воздух, соли и картины своей родины, они влияют на наш характер и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немалой степени организуют наш жизненный соста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этому недостаточно сказать, что они дороги нам,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ы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часть их, та часть, которая состав­лена естественной сред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в нас обязан говорить и говорит её древний и вечный голос. Бессмысленно сравнивать, отдавая чему-либо предпоч­тение, льды Гренландии с песками Сахары, сибирскую тайгу со средне­русской степью, даже Каспий с Байкалом, можно лишь передать о них свои впечатления. Всё это прекрасно своей красотой и удивительно своей жизнью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В. Распутину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Определите, к какому типу относятся указанные проблемы. Установите со­ответствие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чём опасность политики национализм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Можно ли избежать социальной несправедли­вост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чём смысл человеческой жизни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Нужно ли заботиться об окружающих людях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Имеет ли человек право вмешиваться в жизнь природ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b0f0"/>
                </a:solidFill>
                <a:latin typeface="Calibri"/>
              </a:rPr>
              <a:t>А.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Философска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b0f0"/>
                </a:solidFill>
                <a:latin typeface="Calibri"/>
              </a:rPr>
              <a:t>Б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Политическа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b0f0"/>
                </a:solidFill>
                <a:latin typeface="Calibri"/>
              </a:rPr>
              <a:t>В.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Экологическая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b0f0"/>
                </a:solidFill>
                <a:latin typeface="Calibri"/>
              </a:rPr>
              <a:t>Г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Нравственна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b0f0"/>
                </a:solidFill>
                <a:latin typeface="Calibri"/>
              </a:rPr>
              <a:t>Д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Социальна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проверьте</a:t>
            </a: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09480" y="1589040"/>
            <a:ext cx="4826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чём опасность политики национализма?  - </a:t>
            </a: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Можно ли избежать социальной несправедли­вости? - </a:t>
            </a: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чём смысл человеческой жизни?  - </a:t>
            </a: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Нужно ли заботиться об окружающих людях? - </a:t>
            </a: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Имеет ли человек право вмешиваться в жизнь природы? - </a:t>
            </a: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Picture 6" descr="Картинка 9 из 8871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1989000"/>
            <a:ext cx="3151080" cy="4104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115560"/>
            <a:ext cx="815328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Алгоритм формулировки проблемы</a:t>
            </a:r>
            <a:endParaRPr b="0" lang="en-US" sz="4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8360" y="1628640"/>
            <a:ext cx="8136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1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чтите текст и выявите его основную мысл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2.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ее в виде законченного предлож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3.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на какой вопрос отвечает это предложе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4.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этот вопрос, который и является проблемой текст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115560"/>
            <a:ext cx="815328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формулируйте и запишите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проблему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 алгоритму</a:t>
            </a:r>
            <a:br>
              <a:rPr sz="2800"/>
            </a:b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84000" y="148392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ВА БОГ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гда при мне превозносят богача Ротшильда, который из громадных своих доходов уделяет целые тысячи на воспитание детей, на лечение больных, на призрение старых, — я хвалю и умиляюсь.      Но, и хваля и умиляясь, не могу я не вспомнить об одном убогом крестьянском семействе, принявшем сироту-племянницу в свой разоренный домишк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озьмём мы Катьку, — говорила баба, — последние наши грош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ё пойдут, — не на что будет соли добыть, похлёбку  посолить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А мы её... и не солёную, — ответил мужик, её муж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Далеко Ротшильду до этого мужика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И. Тургене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блема простоты, любви и милосердия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втор восхищается высокой духовностью и нравственной простотой русского челове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115560"/>
            <a:ext cx="815328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323232"/>
                </a:solidFill>
                <a:latin typeface="Calibri"/>
              </a:rPr>
              <a:t>Типовые конструкции (клише) для формулировки проблемы</a:t>
            </a:r>
            <a:br>
              <a:rPr sz="2800"/>
            </a:b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08000" y="1483920"/>
            <a:ext cx="892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роблема (какая?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&gt; сложная, важная, серьёзная, глубокая, актуальная, злободневная, ост­рая, нерешённая и т.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роблема (чего?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&gt; воспитания, образования, патриотизма, героизма, благородства, интеллигентности, смысла жизни, отцов и детей, формирования личности, сохранения родного языка, влияния красоты природы на че­ловека и т.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Типовые конструк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- Автор размышляет над проблемой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- Автор текста затрагивает проблему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- В  центре внимания автора проблема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- В тексте (имя и фамилия автора в род. п.) поднимается проблема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- Предложенный для анализа текст (имя и фамилия автора в род. п.) посвящён проблеме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- Текст (имя и фамилия автора в род. п.) заставил меня задуматься над сложной проблемой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- (Имя и фамилия автора в им. п.) предлагает своим читателям заду­маться над проблемой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- Как (зачем, почему и т.д.)..? Именно эта проблема привлекла внимание авто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7:17:42Z</dcterms:created>
  <dc:creator>Инна</dc:creator>
  <dc:description/>
  <dc:language>en-US</dc:language>
  <cp:lastModifiedBy>XP GAME 2007</cp:lastModifiedBy>
  <dcterms:modified xsi:type="dcterms:W3CDTF">2012-01-04T09:24:07Z</dcterms:modified>
  <cp:revision>31</cp:revision>
  <dc:subject/>
  <dc:title>Морфология как раздел языкознания</dc:title>
</cp:coreProperties>
</file>