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C1F-A291-4B32-9A9C-8D57D4A9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567-31C3-4F8A-8FBE-CC9C3F5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337-761E-40F5-91EF-1DB1F3E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C8E-410C-4F7E-B3D0-66B04ACB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283-19CD-46B7-9FEE-B95FE995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771-F676-4BDE-844A-3794CEA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A61-AF8A-4EF6-82FC-9A72E66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8F8C-FD01-49D4-A3DA-AA1EC38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8A3-D6D4-4136-913C-79BA1A2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215-252E-4F2C-A258-96ECD9F3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2908-9385-4012-B8CD-2A390DD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244-7684-4EC6-9556-4A306B8D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A1FE-95C8-4E00-A408-355A931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B6E-BFFF-4D80-B87A-C127890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CE3-BED3-4E89-9916-ED12641D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3EF7-2DEA-4919-9D07-E04F7C45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AB0C-92DC-456C-AEAD-A3548229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C8B-DB7E-4B4F-91F1-1439F6E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D15-B31A-4311-91D6-CB744EEB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66F-AC31-4DC7-9A52-54201FE4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9FF-485B-4589-9BD2-25C37FB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1A5-8690-455C-9F6F-4041D0A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8C9-EFB0-4960-9A6C-1E68523B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E50-281B-489C-919E-4C8BA3A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C83-021F-4A53-B7A3-2AC9F2E31A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FFFB-89F2-4930-A1EF-5D046E322C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ehov.niv.ru/images/family/chehov_ap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Егор Михайлович Чехов, дед писателя.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Рисунок С.М. Чехова. 195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8625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16000" y="259920"/>
            <a:ext cx="622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Чехов Иван Павлович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(1861 — 1922 г.г.)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, педагог. В 1884 г. перевелся в Москву. Здесь он заведовал рядом народных школ, в которых учительствовал. «Он получил много наград, и грудь его подобна иконостасу»,— писал А. П. Чехов. Не получив высшего и даже законченного среднего образования, тяжело переживал это и всю жизнь занимался самообразованием. Характером обладал твердым и властны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552600" y="189000"/>
            <a:ext cx="36403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Чехов Михаил Павлович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(1868 - 1936 г.г.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Чехов Михаил Павлович"/>
          <p:cNvPicPr/>
          <p:nvPr/>
        </p:nvPicPr>
        <p:blipFill>
          <a:blip r:embed="rId1"/>
          <a:stretch/>
        </p:blipFill>
        <p:spPr>
          <a:xfrm>
            <a:off x="-181080" y="1413000"/>
            <a:ext cx="359244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449424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833400"/>
            <a:ext cx="6048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ладший брат А.П.Чехова, писатель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Был человеком разнообразно одаренным, хорошо играл на фортепьяно, рисовал. С начала 1900-х г. полностью посвятил себя литературе. Писал повести, рассказы, стихи, пьесы, театральные рецензии; переводил, занимался редакторской деятельностью. Автор мемуаров, в том числе книги "О Чехове", которая по праву считается чеховской энциклопедие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17640" y="5037120"/>
            <a:ext cx="19080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2" descr="сканирование0051.jpg"/>
          <p:cNvPicPr/>
          <p:nvPr/>
        </p:nvPicPr>
        <p:blipFill>
          <a:blip r:embed="rId1"/>
          <a:stretch/>
        </p:blipFill>
        <p:spPr>
          <a:xfrm>
            <a:off x="179280" y="333360"/>
            <a:ext cx="4287960" cy="6524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4500720" y="333360"/>
            <a:ext cx="41036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Мария Павловна Чехо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(1863 — 1957 г.г.)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184680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естра А.П.Чехова, педагог, художница. После смерти А.П.Чехова посвятила себя сбору и изданию литературного и эпистолярного наследия брата. С 1922 г. была бессменным директором созданного ею Ялтинского дома-музея А.П.Чехова. Умерла в Ялте от инфаркта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100" spc="-1" strike="noStrike">
                <a:solidFill>
                  <a:srgbClr val="ffffcc"/>
                </a:solidFill>
                <a:latin typeface="Monotype Corsiva"/>
              </a:rPr>
              <a:t>Родители    А.П.Чехов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84800" y="1052640"/>
            <a:ext cx="38592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ParkAvenue BT"/>
              </a:rPr>
              <a:t>Отец</a:t>
            </a:r>
            <a:r>
              <a:rPr b="0" i="1" lang="ru-RU" sz="2400" spc="-1" strike="noStrike">
                <a:solidFill>
                  <a:srgbClr val="eaeaea"/>
                </a:solidFill>
                <a:latin typeface="Monotype Corsiva"/>
              </a:rPr>
              <a:t> – </a:t>
            </a: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Павел Егор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Чех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i="1" lang="ru-RU" sz="1600" spc="-1" strike="noStrike">
                <a:solidFill>
                  <a:srgbClr val="eaeaea"/>
                </a:solidFill>
                <a:latin typeface="Monotype Corsiva"/>
              </a:rPr>
              <a:t>(</a:t>
            </a:r>
            <a:r>
              <a:rPr b="0" i="1" lang="ru-RU" sz="3200" spc="-1" strike="noStrike">
                <a:solidFill>
                  <a:srgbClr val="eaeaea"/>
                </a:solidFill>
                <a:latin typeface="Mistral"/>
              </a:rPr>
              <a:t>купец </a:t>
            </a:r>
            <a:r>
              <a:rPr b="0" i="1" lang="en-US" sz="3200" spc="-1" strike="noStrike">
                <a:solidFill>
                  <a:srgbClr val="eaeaea"/>
                </a:solidFill>
                <a:latin typeface="Mistral"/>
              </a:rPr>
              <a:t>III</a:t>
            </a:r>
            <a:r>
              <a:rPr b="0" i="1" lang="ru-RU" sz="3200" spc="-1" strike="noStrike">
                <a:solidFill>
                  <a:srgbClr val="eaeaea"/>
                </a:solidFill>
                <a:latin typeface="Mistral"/>
              </a:rPr>
              <a:t> гильдии)</a:t>
            </a:r>
            <a:r>
              <a:rPr b="0" i="1" lang="en-US" sz="3200" spc="-1" strike="noStrike">
                <a:solidFill>
                  <a:srgbClr val="eaeaea"/>
                </a:solidFill>
                <a:latin typeface="Mistr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Orange LET"/>
              </a:rPr>
              <a:t>Мать</a:t>
            </a:r>
            <a:r>
              <a:rPr b="0" i="1" lang="ru-RU" sz="2000" spc="-1" strike="noStrike">
                <a:solidFill>
                  <a:srgbClr val="eaeaea"/>
                </a:solidFill>
                <a:latin typeface="Orange LET"/>
              </a:rPr>
              <a:t> –</a:t>
            </a:r>
            <a:r>
              <a:rPr b="0" i="1" lang="ru-RU" sz="16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Евгения Яковлев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           </a:t>
            </a:r>
            <a:r>
              <a:rPr b="0" i="1" lang="ru-RU" sz="2800" spc="-1" strike="noStrike">
                <a:solidFill>
                  <a:srgbClr val="eaeaea"/>
                </a:solidFill>
                <a:latin typeface="Monotype Corsiva"/>
              </a:rPr>
              <a:t>Чехова (Морозов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Monotype Corsiva"/>
              </a:rPr>
              <a:t>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Monotype Corsiva"/>
              </a:rPr>
              <a:t>      </a:t>
            </a:r>
            <a:r>
              <a:rPr b="0" i="1" lang="ru-RU" sz="2800" spc="-1" strike="noStrike">
                <a:solidFill>
                  <a:srgbClr val="eaeaea"/>
                </a:solidFill>
                <a:latin typeface="Mistral"/>
              </a:rPr>
              <a:t>(дочь купца – суконщик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99"/>
                </a:solidFill>
                <a:latin typeface="Monotype Corsiva"/>
              </a:rPr>
              <a:t>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91652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ЕЦ Чех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Павел Егорович Чехов"/>
          <p:cNvPicPr/>
          <p:nvPr/>
        </p:nvPicPr>
        <p:blipFill>
          <a:blip r:embed="rId1"/>
          <a:stretch/>
        </p:blipFill>
        <p:spPr>
          <a:xfrm>
            <a:off x="5257800" y="1828800"/>
            <a:ext cx="358920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854000"/>
            <a:ext cx="49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Чехов Павел Егорович (1825 - 1898 г.г.), родился в селе Ольховатке крепостным крестьянином. В детстве обучался грамоте в сельской школе, пению по нотам у дьячка и игре на скрипке у регента. В 1844 г. был определен отцом к таганрогскому купцу И.Е.Кобылину, у которого через год стал "заниматься торговлею по конторской части". В 1854 г. женился на Евгении Яковлевне Морозовой, имел шестерых детей: Александра, Николая, Антона, Ивана, Марию и Михаил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оанн Богослов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ртина работы П.Е. Чехова. 1860-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-487440"/>
            <a:ext cx="561816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080" y="189000"/>
            <a:ext cx="4330800" cy="568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 rot="10800000">
            <a:off x="394920" y="60267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Евгения Яковлевна Чехова, мать писател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20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Мать - Евгения Яковлевна Чехова -  прекрасная хозяйка, очень заботливая и любящая, жила исключительно жизнью детей и мужа. Очень любила театр, хотя и посещала его нечасто. В ранней молодости в частном пансионе благородных девиц она обучалась танцам и хорошим манер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81440" cy="4012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84720" y="57340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емья Чеховых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413000"/>
            <a:ext cx="3672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 Чехова было четыре брата и сестр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емья жила трудно. Дети помогали отцу в лавочке, пели в церковном хоре. Характер у  отца был тяжелым, но он любил искусство, старался дать детям хорошее образование. Лаской и нежностью смягчала жизнь детей мат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зже Антон Павлович скажет: «Талант у нас со стороны отца, а душа со стороны матер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4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емь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01080" cy="540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62262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Мария, Антон, Иван, Михаил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се дети Чеховых были одарёнными, образованными людьми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Александр Павлович Чехов. Фотография 188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62480" y="1125360"/>
            <a:ext cx="4781520" cy="626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90600" y="-37440"/>
            <a:ext cx="480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Чехов Александр Павлович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(1855 - 1913 г.г.)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15560"/>
            <a:ext cx="41403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Старший брат Антона Чехова, литератор. Еще будучи студентом, начал сотрудничать в журналах и газетах под псевдонимами "Агафопод Единицын", "Алоэ", а позж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А.Седой". Руководил первыми литературными опытами А.П.Чехов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0720" y="277920"/>
            <a:ext cx="4186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иколай Павлович Чехов,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1858 — 1889 г.г.)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Рисунок 1" descr="сканирование0050.jpg"/>
          <p:cNvPicPr/>
          <p:nvPr/>
        </p:nvPicPr>
        <p:blipFill>
          <a:blip r:embed="rId1"/>
          <a:stretch/>
        </p:blipFill>
        <p:spPr>
          <a:xfrm>
            <a:off x="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0" y="1421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алантливый художник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 ранних студенческих лет выступал в журналах как рисовальщик и карикатурист. Иллюстрировал ряд произведений Чехов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Обладал чрезвычайно мягким характером, часто злоупотреблял алкоголем. Умер от чахотки в довольно молодом возраст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5:43:35Z</dcterms:created>
  <dc:creator>Admin</dc:creator>
  <dc:description/>
  <dc:language>en-US</dc:language>
  <cp:lastModifiedBy>Admin</cp:lastModifiedBy>
  <dcterms:modified xsi:type="dcterms:W3CDTF">2012-02-26T18:07:30Z</dcterms:modified>
  <cp:revision>9</cp:revision>
  <dc:subject/>
  <dc:title>Слайд 1</dc:title>
</cp:coreProperties>
</file>