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AA7-0C88-46F5-93AF-9FBDC2C7F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206-9893-4271-9CFC-21FEBEECC2D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D99-8A9E-4B59-BEDC-09EB38AE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48A-4C73-4F5A-8BD7-365C2D9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CFA-BBF3-44A8-8B8C-1DB7DD22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FF6-F7CE-4F92-B97B-3B27A5FF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62DD-F117-4067-B392-0A351B32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472C-EA7D-48E0-8D34-69329127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838-C376-4BAD-A6A4-C5708E3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B85-2AAA-438E-9B82-26BB988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EE48-375E-4675-8D78-0A6A70E6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1A5F-075E-41B6-ACBD-E124B05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16C-00C7-40E2-925A-5FAC432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C0D-3420-47BF-806E-83174B8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8F8-CBE7-44E0-A17B-F62A3EC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DBB-EB5F-450C-99AB-6FE3E92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963-C893-4531-BD02-6ABBE92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7221-0A39-4845-B30C-09809739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F01-CBBC-4737-9FEC-5AD79227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8E3-948A-4B3F-9B38-84E9223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FA2-B83A-4158-A7A2-1DEB058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F4A-9BC1-4756-A24A-685C30E4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E01-0DA7-4B7A-B912-009968FE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A44-C2E7-4878-B29B-4BAC1CC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3C8-EFD8-4FD5-B968-53EB0B4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B0C-616C-46DF-B0F0-55E9BC2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Franklin Gothic Medium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Franklin Gothic Medium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Franklin Gothic Medium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Franklin Gothic Medium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1F25-6719-47B3-AC57-79935C396B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Franklin Gothic Medium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Franklin Gothic Medium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Franklin Gothic Medium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Franklin Gothic Medium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6318-1161-413B-B131-21D0878C627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Franklin Gothic Medium"/>
              </a:rPr>
              <a:t>Явление фотоэффекта</a:t>
            </a:r>
            <a:endParaRPr b="0" lang="en-US" sz="6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Franklin Gothic Medium"/>
              </a:rPr>
              <a:t>Выполнила: учитель физики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Franklin Gothic Medium"/>
              </a:rPr>
              <a:t>МОУ «СОШ №32»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Franklin Gothic Medium"/>
              </a:rPr>
              <a:t>г.Перми Пермский Край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Franklin Gothic Medium"/>
              </a:rPr>
              <a:t>Злобина Людмила Леонидовна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d8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Опыты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Столетов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89" name="Picture 21" descr="5-2-1"/>
          <p:cNvPicPr/>
          <p:nvPr/>
        </p:nvPicPr>
        <p:blipFill>
          <a:blip r:embed="rId1"/>
          <a:stretch/>
        </p:blipFill>
        <p:spPr>
          <a:xfrm>
            <a:off x="36576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Первый закон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тоток насыщения  пропорционален световому потоку, падающему на металл.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к. сила тока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ся величиной заряда, а световой поток - энергией светового пучка, то можно сказать: 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исло электронов, выбиваемых за 1 с из вещества, пропорционально интенсивности света, падающего на это вещество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93" name="Picture 21" descr="5-2-2"/>
          <p:cNvPicPr/>
          <p:nvPr/>
        </p:nvPicPr>
        <p:blipFill>
          <a:blip r:embed="rId1"/>
          <a:stretch/>
        </p:blipFill>
        <p:spPr>
          <a:xfrm>
            <a:off x="4114800" y="2068560"/>
            <a:ext cx="5029200" cy="400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b3b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Второй закон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Franklin Gothic Medium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Franklin Gothic Medium"/>
              </a:rPr>
              <a:t>Кинетическая энергия фотоэлектронов не зависит от интенсивности падающего света, а зависит от его частоты.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96" name="Picture 6" descr="фотоэффект"/>
          <p:cNvPicPr/>
          <p:nvPr/>
        </p:nvPicPr>
        <p:blipFill>
          <a:blip r:embed="rId1"/>
          <a:stretch/>
        </p:blipFill>
        <p:spPr>
          <a:xfrm>
            <a:off x="3886200" y="1747800"/>
            <a:ext cx="5087880" cy="4654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d8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Третий закон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Franklin Gothic Medium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Franklin Gothic Medium"/>
              </a:rPr>
              <a:t>Для каждого вещества существует красная граница фотоэффекта, т. е. существует наименьшая частота </a:t>
            </a:r>
            <a:r>
              <a:rPr b="1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i="1" lang="en-US" sz="2800" spc="-1" strike="noStrike">
                <a:solidFill>
                  <a:srgbClr val="ffffff"/>
                </a:solidFill>
                <a:latin typeface="Franklin Gothic Medium"/>
              </a:rPr>
              <a:t>min</a:t>
            </a:r>
            <a:r>
              <a:rPr b="1" i="1" lang="ru-RU" sz="2800" spc="-1" strike="noStrike">
                <a:solidFill>
                  <a:srgbClr val="ffffff"/>
                </a:solidFill>
                <a:latin typeface="Franklin Gothic Medium"/>
              </a:rPr>
              <a:t>, при которой еще возможен фотоэффект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99" name="Picture 7" descr="5-2-3"/>
          <p:cNvPicPr/>
          <p:nvPr/>
        </p:nvPicPr>
        <p:blipFill>
          <a:blip r:embed="rId1"/>
          <a:stretch/>
        </p:blipFill>
        <p:spPr>
          <a:xfrm>
            <a:off x="152280" y="2913120"/>
            <a:ext cx="8991720" cy="3827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Объяснение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ецкий  физик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 Планк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     Гипотез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ла  испускают свет порциями- квантами.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02" name="Picture 5" descr="plank"/>
          <p:cNvPicPr/>
          <p:nvPr/>
        </p:nvPicPr>
        <p:blipFill>
          <a:blip r:embed="rId2"/>
          <a:stretch/>
        </p:blipFill>
        <p:spPr>
          <a:xfrm>
            <a:off x="900000" y="1981080"/>
            <a:ext cx="3380040" cy="4114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5105520" y="4191120"/>
                <a:ext cx="24318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8"/>
          <p:cNvSpPr/>
          <p:nvPr/>
        </p:nvSpPr>
        <p:spPr>
          <a:xfrm>
            <a:off x="2248560" y="32457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4876920" y="5224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Franklin Gothic Medium"/>
              </a:rPr>
              <a:t>Где </a:t>
            </a:r>
            <a:r>
              <a:rPr b="1" i="1" lang="en-US" sz="2400" spc="-1" strike="noStrike">
                <a:solidFill>
                  <a:srgbClr val="66ff99"/>
                </a:solidFill>
                <a:latin typeface="Franklin Gothic Medium"/>
              </a:rPr>
              <a:t>h</a:t>
            </a:r>
            <a:r>
              <a:rPr b="1" lang="ru-RU" sz="2400" spc="-1" strike="noStrike">
                <a:solidFill>
                  <a:srgbClr val="66ff99"/>
                </a:solidFill>
                <a:latin typeface="Franklin Gothic Medium"/>
              </a:rPr>
              <a:t> = 6,63·10 </a:t>
            </a:r>
            <a:r>
              <a:rPr b="1" lang="ru-RU" sz="2400" spc="-1" strike="noStrike" baseline="30000">
                <a:solidFill>
                  <a:srgbClr val="66ff99"/>
                </a:solidFill>
                <a:latin typeface="Franklin Gothic Medium"/>
              </a:rPr>
              <a:t>–34 </a:t>
            </a:r>
            <a:r>
              <a:rPr b="1" lang="ru-RU" sz="2400" spc="-1" strike="noStrike">
                <a:solidFill>
                  <a:srgbClr val="66ff99"/>
                </a:solidFill>
                <a:latin typeface="Franklin Gothic Medium"/>
              </a:rPr>
              <a:t>Дж·с  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Franklin Gothic Medium"/>
              </a:rPr>
              <a:t>постоянная Планка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248560" y="32457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Теория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0" y="1676520"/>
            <a:ext cx="41148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Альберт Эйнштейн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905 г.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идеи План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вет не только излучается   и поглощается , но и существует в виде отдельных квантов.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яснение законов фотоэффекта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5"/>
              <p:cNvSpPr txBox="1"/>
              <p:nvPr/>
            </p:nvSpPr>
            <p:spPr>
              <a:xfrm>
                <a:off x="1090440" y="5394240"/>
                <a:ext cx="1776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2" name="Picture 17" descr="einst_8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14" name="Picture 9" descr="photoef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Почему выход фотоэлектронов при возникновении фотоэффекта не зависит от освещенности металла?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Как изменяется кинетическая энергия электронов при фотоэффекте, если, не изменяя частоту, увеличить световой поток в 2 раза?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Как зависит запирающее напряжение от длины волны освещающего света?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ак изменится скорость вылетающих электронов при увеличении частоты освещающего света?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. Как изменится работа выхода электрона из вещества при уменьшении частоты облучения в 3 раза?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Как изменится кинетическая энергия электронов при фотоэффекте, если увеличить частоту облучающего света, не изменяя общую мощность излучения?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еличится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ьшится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 изменится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не однозначен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из перечисленных ниже приборов основаны на волновых свойствах света?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Дифракционная решетка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Фотоэлемент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Только 1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Только 2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 1 и 2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Ни 1, ни 2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24" name="Picture 6" descr="Вакуумные фотоэлементы"/>
          <p:cNvPicPr/>
          <p:nvPr/>
        </p:nvPicPr>
        <p:blipFill>
          <a:blip r:embed="rId1"/>
          <a:stretch/>
        </p:blipFill>
        <p:spPr>
          <a:xfrm>
            <a:off x="5715000" y="2514600"/>
            <a:ext cx="3429000" cy="2744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Устройство дифракционной решетки"/>
          <p:cNvPicPr/>
          <p:nvPr/>
        </p:nvPicPr>
        <p:blipFill>
          <a:blip r:embed="rId2"/>
          <a:stretch/>
        </p:blipFill>
        <p:spPr>
          <a:xfrm>
            <a:off x="3124080" y="4191120"/>
            <a:ext cx="308628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7" descr="horsehead_cfht"/>
          <p:cNvPicPr/>
          <p:nvPr/>
        </p:nvPicPr>
        <p:blipFill>
          <a:blip r:embed="rId1"/>
          <a:stretch/>
        </p:blipFill>
        <p:spPr>
          <a:xfrm>
            <a:off x="51055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5-2-1"/>
          <p:cNvPicPr/>
          <p:nvPr/>
        </p:nvPicPr>
        <p:blipFill>
          <a:blip r:embed="rId2"/>
          <a:stretch/>
        </p:blipFill>
        <p:spPr>
          <a:xfrm>
            <a:off x="1219320" y="2743200"/>
            <a:ext cx="2552760" cy="3703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Столетов"/>
          <p:cNvPicPr/>
          <p:nvPr/>
        </p:nvPicPr>
        <p:blipFill>
          <a:blip r:embed="rId3"/>
          <a:stretch/>
        </p:blipFill>
        <p:spPr>
          <a:xfrm>
            <a:off x="0" y="0"/>
            <a:ext cx="2579760" cy="32418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0"/>
          <p:cNvSpPr/>
          <p:nvPr/>
        </p:nvSpPr>
        <p:spPr>
          <a:xfrm>
            <a:off x="1066680" y="5335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Фотоэффект</a:t>
            </a:r>
            <a:endParaRPr b="0" lang="en-US" sz="54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63" name="Picture 11" descr="atomcd38"/>
          <p:cNvPicPr/>
          <p:nvPr/>
        </p:nvPicPr>
        <p:blipFill>
          <a:blip r:embed="rId4"/>
          <a:stretch/>
        </p:blipFill>
        <p:spPr>
          <a:xfrm>
            <a:off x="6019920" y="1905120"/>
            <a:ext cx="2879640" cy="185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photoef"/>
          <p:cNvPicPr/>
          <p:nvPr/>
        </p:nvPicPr>
        <p:blipFill>
          <a:blip r:embed="rId5"/>
          <a:stretch/>
        </p:blipFill>
        <p:spPr>
          <a:xfrm>
            <a:off x="4267080" y="4038480"/>
            <a:ext cx="457200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каком случае электроскоп, заряженный отрицательным зарядом, быстрее разрядится?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освещении инфракрасным излучением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освещении ультрафиолетовым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лучением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29" name="Picture 5" descr="электроскоп"/>
          <p:cNvPicPr/>
          <p:nvPr/>
        </p:nvPicPr>
        <p:blipFill>
          <a:blip r:embed="rId1"/>
          <a:stretch/>
        </p:blipFill>
        <p:spPr>
          <a:xfrm>
            <a:off x="5410080" y="2819520"/>
            <a:ext cx="29257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 рисунке приведены графики зависимости запирающего напряжения фотоэлемента от частоты облучающего света. В каком случае материал катода фотоэлемента имеет большую работу выхода?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инаковую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ет не однозначен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33" name="Picture 5" descr="tst_5_2_4"/>
          <p:cNvPicPr/>
          <p:nvPr/>
        </p:nvPicPr>
        <p:blipFill>
          <a:blip r:embed="rId1"/>
          <a:stretch/>
        </p:blipFill>
        <p:spPr>
          <a:xfrm>
            <a:off x="4876920" y="3371760"/>
            <a:ext cx="4133880" cy="328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d8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Третий закон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Franklin Gothic Medium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Franklin Gothic Medium"/>
              </a:rPr>
              <a:t>Для каждого вещества существует красная граница фотоэффекта, т. е. существует наименьшая частота </a:t>
            </a:r>
            <a:r>
              <a:rPr b="1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i="1" lang="en-US" sz="2800" spc="-1" strike="noStrike">
                <a:solidFill>
                  <a:srgbClr val="ffffff"/>
                </a:solidFill>
                <a:latin typeface="Franklin Gothic Medium"/>
              </a:rPr>
              <a:t>min</a:t>
            </a:r>
            <a:r>
              <a:rPr b="1" i="1" lang="ru-RU" sz="2800" spc="-1" strike="noStrike">
                <a:solidFill>
                  <a:srgbClr val="ffffff"/>
                </a:solidFill>
                <a:latin typeface="Franklin Gothic Medium"/>
              </a:rPr>
              <a:t>, при которой еще возможен фотоэффект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436" name="Picture 4" descr="5-2-3"/>
          <p:cNvPicPr/>
          <p:nvPr/>
        </p:nvPicPr>
        <p:blipFill>
          <a:blip r:embed="rId1"/>
          <a:stretch/>
        </p:blipFill>
        <p:spPr>
          <a:xfrm>
            <a:off x="152280" y="2913120"/>
            <a:ext cx="8991720" cy="3827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Основные закономерности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кинетическая энергия фотоэлектронов линейно возрастает с увеличением частоты света ν и не зависит от его интенсивности.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Для каждого вещества существует так называемая </a:t>
            </a:r>
            <a:r>
              <a:rPr b="1" i="1" lang="ru-RU" sz="2800" spc="-1" strike="noStrike">
                <a:solidFill>
                  <a:srgbClr val="cf1541"/>
                </a:solidFill>
                <a:latin typeface="Times New Roman"/>
              </a:rPr>
              <a:t>красная граница фотоэффект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то есть наименьшая частот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при которой еще возможен внешний фотоэффект.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Число фотоэлектронов, вырываемых светом из катода за 1 с, прямо пропорционально интенсивности света.</a:t>
            </a: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Фотоэффект практически безынерционен, фототок возникает мгновенно после начала освещения катода при условии, что частота свет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ν &gt; ν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01680"/>
            <a:ext cx="71629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Применение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1" name="Picture 3" descr="Вакуумные фотоэлементы"/>
          <p:cNvPicPr/>
          <p:nvPr/>
        </p:nvPicPr>
        <p:blipFill>
          <a:blip r:embed="rId2"/>
          <a:stretch/>
        </p:blipFill>
        <p:spPr>
          <a:xfrm>
            <a:off x="1143000" y="12952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301320"/>
            <a:ext cx="7086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Применение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3" name="Picture 7" descr="Видеокамера"/>
          <p:cNvPicPr/>
          <p:nvPr/>
        </p:nvPicPr>
        <p:blipFill>
          <a:blip r:embed="rId2"/>
          <a:stretch/>
        </p:blipFill>
        <p:spPr>
          <a:xfrm>
            <a:off x="1447920" y="1550880"/>
            <a:ext cx="6324480" cy="511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240" y="301320"/>
            <a:ext cx="7086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Применение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5" name="Picture 3" descr="Полупроводниковый фотодатчик для измерения интенсивности фотовспышки"/>
          <p:cNvPicPr/>
          <p:nvPr/>
        </p:nvPicPr>
        <p:blipFill>
          <a:blip r:embed="rId2"/>
          <a:stretch/>
        </p:blipFill>
        <p:spPr>
          <a:xfrm>
            <a:off x="1600200" y="144792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6d8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tomcd03"/>
          <p:cNvPicPr/>
          <p:nvPr/>
        </p:nvPicPr>
        <p:blipFill>
          <a:blip r:embed="rId1"/>
          <a:stretch/>
        </p:blipFill>
        <p:spPr>
          <a:xfrm>
            <a:off x="3048120" y="4495680"/>
            <a:ext cx="2879640" cy="18511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Раздел современной физики 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нтовая  физика  изуча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йства,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атомов и молекул,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движение и взаимодействие микрочастиц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Franklin Gothic Medium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3bfc5"/>
            </a:gs>
            <a:gs pos="100000">
              <a:srgbClr val="6d8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Открытие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86 – 1889 года, наблюдение фотоэффекта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Немецкий физик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Генрих Герц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Обнаружил фотоэффект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70" name="Picture 11" descr="hertz"/>
          <p:cNvPicPr/>
          <p:nvPr/>
        </p:nvPicPr>
        <p:blipFill>
          <a:blip r:embed="rId1"/>
          <a:stretch/>
        </p:blipFill>
        <p:spPr>
          <a:xfrm>
            <a:off x="5067360" y="1752480"/>
            <a:ext cx="3390840" cy="4521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Наблюдение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3095640" cy="21445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Franklin Gothic Medium"/>
              </a:rPr>
              <a:t>Явление выхода (вырывания) электронов из вещества под действием света получило название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фотоэлектрического эффекта -фотоэффекта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3"/>
          <a:stretch/>
        </p:blipFill>
        <p:spPr>
          <a:xfrm>
            <a:off x="1476360" y="4065480"/>
            <a:ext cx="3024360" cy="2398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Наблюдение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6" name="Picture 14" descr="atomcd03"/>
          <p:cNvPicPr/>
          <p:nvPr/>
        </p:nvPicPr>
        <p:blipFill>
          <a:blip r:embed="rId2"/>
          <a:stretch/>
        </p:blipFill>
        <p:spPr>
          <a:xfrm>
            <a:off x="533520" y="1322280"/>
            <a:ext cx="7848360" cy="5045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Наблюдение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3" descr="atomcd01"/>
          <p:cNvPicPr/>
          <p:nvPr/>
        </p:nvPicPr>
        <p:blipFill>
          <a:blip r:embed="rId2"/>
          <a:stretch/>
        </p:blipFill>
        <p:spPr>
          <a:xfrm>
            <a:off x="609480" y="1165320"/>
            <a:ext cx="8001000" cy="5141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</a:rPr>
              <a:t>Наблюдение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80" name="Picture 6" descr="atomcd04"/>
          <p:cNvPicPr/>
          <p:nvPr/>
        </p:nvPicPr>
        <p:blipFill>
          <a:blip r:embed="rId2"/>
          <a:stretch/>
        </p:blipFill>
        <p:spPr>
          <a:xfrm>
            <a:off x="533520" y="1187280"/>
            <a:ext cx="7772400" cy="499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a6c6"/>
            </a:gs>
            <a:gs pos="100000">
              <a:srgbClr val="b3b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Законы  фотоэффекта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113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личественные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кономерности           фотоэффекта    (1888 - 1889) были установлены        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усским физиком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А.Г. Столетовым</a:t>
            </a:r>
            <a:endParaRPr b="0" lang="en-US" sz="2800" spc="-1" strike="noStrike">
              <a:solidFill>
                <a:srgbClr val="ffcc00"/>
              </a:solidFill>
              <a:latin typeface="Franklin Gothic Medium"/>
            </a:endParaRPr>
          </a:p>
        </p:txBody>
      </p:sp>
      <p:pic>
        <p:nvPicPr>
          <p:cNvPr id="383" name="Picture 8" descr="Столетов"/>
          <p:cNvPicPr/>
          <p:nvPr/>
        </p:nvPicPr>
        <p:blipFill>
          <a:blip r:embed="rId1"/>
          <a:stretch/>
        </p:blipFill>
        <p:spPr>
          <a:xfrm>
            <a:off x="4800600" y="1600200"/>
            <a:ext cx="3914640" cy="4917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2:39:15Z</dcterms:created>
  <dc:creator>Злобина Людмила Леонидовна</dc:creator>
  <dc:description/>
  <dc:language>en-US</dc:language>
  <cp:lastModifiedBy>Злобина</cp:lastModifiedBy>
  <dcterms:modified xsi:type="dcterms:W3CDTF">2011-05-23T06:19:04Z</dcterms:modified>
  <cp:revision>45</cp:revision>
  <dc:subject/>
  <dc:title>КВАНТОВАЯ  ФИЗИКА</dc:title>
</cp:coreProperties>
</file>