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506-0B28-439F-97E4-E7F46AFA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832-0D43-483F-B918-0587ADAD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C6B-A63E-482C-B21D-E0FFCF5A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EA8-DE4F-4E5B-9A60-A719E46C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2714-BBEC-4960-9E5F-B46B51C6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C20E-A9CC-4FF7-8977-A6130280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927A-B90D-4E0A-911C-861750C2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6B5B-43BC-422D-A09A-F24E2E51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7E5D-BE0C-4F59-87A7-7DBEC3D9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FA29-3543-4F62-A9A7-C6A929A0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403C-4BCB-4168-9121-421839D8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6E7D-7A0F-49AD-9B60-77A41EC9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9EA2-789D-4C9A-A141-5A369E80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A5D0-1728-41E7-857C-9AE4A2E0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EBDC-B015-4785-8EA1-7D3646D8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DBFF-96A8-4D41-972E-B5CD7ED6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42FA-7D62-471B-AE10-96FDBC5C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B90-A98B-4507-A70D-09DC3F74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151C-530F-4399-8A7D-147AAD16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9092-4CDF-40D1-A65E-7EE40780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A27-6B84-4431-8A48-404F16FE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0884-FE30-4BCC-BB7E-0A401523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EC75-3999-47E0-9E04-864D80FA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ECA-6D72-4451-A6EF-0BE5B0CB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5859-2DCA-4014-9E73-4D8E4D9372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D2B0-AB12-4134-8F14-FDC452EC84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Типы уроков</a:t>
            </a:r>
            <a:br>
              <a:rPr sz="4800"/>
            </a:b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( по классификации И.Ф.Харламова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5640" y="1844640"/>
            <a:ext cx="7488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мбинированный у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рок усвоения новых зна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рок закрепления изучаемого материал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рок повтор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рок систематизации и обобщения изучаемого материал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рок проверки и оценки зна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Комбинированный урок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(этапы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06560" y="1844640"/>
          <a:ext cx="7813440" cy="4643640"/>
        </p:xfrm>
        <a:graphic>
          <a:graphicData uri="http://schemas.openxmlformats.org/drawingml/2006/table">
            <a:tbl>
              <a:tblPr/>
              <a:tblGrid>
                <a:gridCol w="7813440"/>
              </a:tblGrid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Организационный этап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Этап проверки домашнего задания   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Этап всесторонней проверки знани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Этап подготовки учащихся к активному усвоению знани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Этап усвоения новых знани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Этап закрепления новых знани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Этап информации учащихся о домашнем задании и инструктаж по его выполнению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920" y="-3164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66"/>
                </a:solidFill>
                <a:latin typeface="Times New Roman"/>
              </a:rPr>
              <a:t>Урок усвоения новых знаний</a:t>
            </a:r>
            <a:endParaRPr b="0" lang="en-US" sz="4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79280" y="765000"/>
          <a:ext cx="8785440" cy="5440680"/>
        </p:xfrm>
        <a:graphic>
          <a:graphicData uri="http://schemas.openxmlformats.org/drawingml/2006/table">
            <a:tbl>
              <a:tblPr/>
              <a:tblGrid>
                <a:gridCol w="4395960"/>
                <a:gridCol w="43894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омбинированный 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рок усвоения новых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Организационный 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Организационный 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Этап проверки домашнего задания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Этап всесторонней проверки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Этап подготовки учащихся к активному усвоению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Этап подготовки учащихся к активному усвоению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Этап усвоения новых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. Этап усвоения новых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Этап закрепления новых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Этап закрепления новых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Этап информации учащихся о домашнем задании и инструктаж по его выполнен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Этап информации учащихся о домашнем задании и инструктаж по его выполнен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66"/>
                </a:solidFill>
                <a:latin typeface="Times New Roman"/>
              </a:rPr>
              <a:t>Урок закрепления изучаемого материала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1052640"/>
          <a:ext cx="8785080" cy="5567400"/>
        </p:xfrm>
        <a:graphic>
          <a:graphicData uri="http://schemas.openxmlformats.org/drawingml/2006/table">
            <a:tbl>
              <a:tblPr/>
              <a:tblGrid>
                <a:gridCol w="4394160"/>
                <a:gridCol w="4390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омбинированный 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рок закрепления изучаемого матери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Организационный 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Организационный 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Этап проверки домашнего задания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Этап всесторонней проверки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Этап подготовки учащихся к активному усвоению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Этап подготовки учащихся к активному усвоению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Этап усвоения новых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Этап закрепления новых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. Этап закрепления новых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Этап информации учащихся о домашнем задан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Этап информации учащихся о домашнем задании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66"/>
                </a:solidFill>
                <a:latin typeface="Times New Roman"/>
              </a:rPr>
              <a:t>Урок повторения</a:t>
            </a:r>
            <a:br>
              <a:rPr sz="3800"/>
            </a:b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8000" y="981000"/>
          <a:ext cx="8928000" cy="5726160"/>
        </p:xfrm>
        <a:graphic>
          <a:graphicData uri="http://schemas.openxmlformats.org/drawingml/2006/table">
            <a:tbl>
              <a:tblPr/>
              <a:tblGrid>
                <a:gridCol w="4464000"/>
                <a:gridCol w="4464000"/>
              </a:tblGrid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омбинированный 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рок повт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Организационный 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Организационный 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Этап проверки домашнего задания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Этап подготовки учащихся к активному усвоению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Этап всесторонней проверки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Этап повтор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бразуется за счет времени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Этап подготовки учащихся к активному усвоению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тведенного в комбинированном уроке на осуществление 2,3,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Этап усвоения новых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этап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Этап закрепления новых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Этап информации учащихся о домашнем задан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Этап информации учащихся о домашнем задан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66"/>
                </a:solidFill>
                <a:latin typeface="Times New Roman"/>
              </a:rPr>
              <a:t>Урок систематизации и обобщения изучаемого материала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9280" y="1197000"/>
          <a:ext cx="8785440" cy="5586480"/>
        </p:xfrm>
        <a:graphic>
          <a:graphicData uri="http://schemas.openxmlformats.org/drawingml/2006/table">
            <a:tbl>
              <a:tblPr/>
              <a:tblGrid>
                <a:gridCol w="4483080"/>
                <a:gridCol w="4302360"/>
              </a:tblGrid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омбинированный 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рок систематизации и обобщения изучаемого матери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Организационный 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Организационный 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Этап проверки домашнего задания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Этап подготовки учащихся к активному усвоению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Этап всесторонней проверки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Этап обобщения и систематизации изученного матери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Этап подготовки учащихся к активному усвоению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бразуется за счет времени, отведенного в комбинированн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Этап усвоения новых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роке на осуществление 2,3,5,6,этап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Этап закрепления новых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Этап информации учащихся о домашнем зада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Этап информации учащихся о домашнем задан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-571680"/>
            <a:ext cx="731376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66"/>
                </a:solidFill>
                <a:latin typeface="Times New Roman"/>
              </a:rPr>
              <a:t>Урок проверки и оценки знаний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87280" y="592200"/>
          <a:ext cx="8677440" cy="6076800"/>
        </p:xfrm>
        <a:graphic>
          <a:graphicData uri="http://schemas.openxmlformats.org/drawingml/2006/table">
            <a:tbl>
              <a:tblPr/>
              <a:tblGrid>
                <a:gridCol w="4338720"/>
                <a:gridCol w="4338720"/>
              </a:tblGrid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омбинированный 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рок проверки и оценки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Организационный 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Организационный 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Этап проверки домашнего задания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Этап всесторонней проверки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. Этап подготовки учащихся к активному усвоению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Этап подготовки учащихся к активному усвоению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. Этап всесторонней проверки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Этап усвоения новых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Этап закрепления новых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Этап информации учащихся о домашнем задан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Этап информации учащихся о домашнем задан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-243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Развивающее обуч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914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Обучение, которое, обеспечивая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полноценное усвоение знаний, формирует учебную деятельность и тем самым непосредственно влияет на умственное развитие, и есть развивающее обучение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И.С.Якиманска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7:47:44Z</dcterms:created>
  <dc:creator>ALFA</dc:creator>
  <dc:description/>
  <dc:language>en-US</dc:language>
  <cp:lastModifiedBy>ALFA</cp:lastModifiedBy>
  <dcterms:modified xsi:type="dcterms:W3CDTF">2011-10-06T19:01:05Z</dcterms:modified>
  <cp:revision>3</cp:revision>
  <dc:subject/>
  <dc:title>Типы уроков ( по классификации И.Ф.Харламова)</dc:title>
</cp:coreProperties>
</file>