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C0A-5593-4176-A123-73A1EF2F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682-1534-48AC-B7CC-83881DC2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7BC-40B0-4595-8DEA-E8A1875F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8A4-89A4-47E9-B5FE-CB55231A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4753-F55D-4F1C-9AF7-1360A624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6A9E-21A5-4AE6-9ED8-A2AA8609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5257-C838-4392-8A28-D1CD04E7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16C3-089C-4919-A0EA-831D84C6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1BC8-FC48-4CA3-8DD6-282CE275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DECF-0C9C-4B04-BB0F-DB30C854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DB82-AB1F-4BC8-9088-AC2792D5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8B6-F189-4928-9D1F-7E09DC3D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0783-4451-4E95-8160-1AC53221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C107-555C-4641-94CF-671552C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6FE8-8521-449E-B7F5-17188EA3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B592-8BC6-4160-A6D7-9AB7E42F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5048-0041-42B7-A737-7CC09227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EC38D-4D6E-4313-9873-2FDED93E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4C152-2780-4B98-96F0-6845E497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76450-87F7-44FF-8717-F9DB2272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2A6CC-BE09-40AA-825C-BBB7DD98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25800-C044-456A-8872-82A7E9DA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7A9-B234-4EFE-BBB2-370D75B9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39AFC-02A9-4258-8E79-07E7235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2DA65-8B49-4BDC-8596-374629B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B4099-33E0-4468-86C2-6AD8C9D3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91C88-8C31-46E8-8732-D9F47081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826B4-3728-4694-9752-69DFAF8A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5129F-C0D1-4A0E-B19D-BC8A13A0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92413-2C8A-4037-8C99-3C80804F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EAEC7-1D77-4300-B341-BCE7F26F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51F69-E916-433E-883B-218AA498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2007-87F5-44AD-9744-9E5324D4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38A-CFF8-4BD2-BCD4-4E43F99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A08F2-2087-4B59-AB3B-8613A1C9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8A2F4-BE90-4C90-B223-2DB984D6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C2B62-A913-4143-BD9B-95577A11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1B0FF-C903-479E-B2A2-DC28E4E5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19EC-F499-4795-9B69-819B83D0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6FD22-CF98-4BCC-9E3B-B4310293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83A7D-E489-4355-883B-9AB23B40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A5B0-D87A-489B-A8B6-953F5BAB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BFB27-997F-48F8-BCC6-844A87A5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6BBD6-4DA1-4002-AD64-E719D382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D85-58B9-4BB9-9E42-C7203C6A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26D6C-05B7-439C-95D7-42FAACFB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1973D-8E0D-4643-9E28-7B21B68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CCCBB-690F-4D7C-9176-FF706EAA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2438C-2B5C-4C7A-9A25-3E8BA6CC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D77FE-CD9C-4E0F-B7F2-A108F491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DEC02-AA04-472F-8F82-F8BD2177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98C40-1EAD-4F0E-A528-E505BDE0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F3ACC-A630-4A65-A189-421B6AF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CF413-C81D-4C5E-A93D-5315BCA3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D5D9A2-BBFE-4457-8A18-73CD720B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2C4-5BB7-440F-8A26-6D3741F8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36BF0-7D70-443C-BF9D-8FCC4ADB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6CA58-C8DD-4B03-9DB7-D911F64C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9D8E8-089A-4C50-9F17-F29F8E8F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EDD97-B9EA-4742-925B-8AB79C98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C16E0-E19A-47E9-824D-D566EF7C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D58F7-CA1B-462A-BDD7-06801CC7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BFF8C-F86F-4FCE-A93E-C587694B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145DA-39B9-46FA-970F-A5DA198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A8DF2-DAAF-4C0A-B467-ADC48A7D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5ADD6-5DF1-45DC-94C5-379E6548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0A6-02FA-45F4-84DB-C5856E0C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0822A-27BC-4E45-9EEB-94A984D5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B842B-10FF-4D40-B13D-66A9E102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2E263-CEF7-478A-9F92-CB45E4F6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CF4623-1336-4757-B613-98D2CE3B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C0FF5-8327-49BC-B9AC-B03BA600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CF899-CEF8-4CF0-948D-1E02290D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17C0E-501D-47D2-952A-DCFA1943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6831D-F4CA-4A17-BFA7-5CC41508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06649F-30CB-4763-BDBC-7D26E192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DD51B-6BAB-4419-BB3D-66FD223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420-AF3F-45C5-8574-83A339DE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78175-1B22-4478-AB1F-2F8036C8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85878-A267-4D3D-A701-B3691A15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42943-EA68-4549-BBF0-EB9A44A8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A543D-93D6-4BA9-93E1-B140B6F2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82859-3820-450C-AC9D-BDB0AA00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6B6-9A9C-47BD-A1AF-DBFD6774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EC3-F2AB-48C8-979C-997D1E4BEC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2012-4E53-42D0-9BCD-EBAB3D23CB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F56E-E8DB-4A62-A3E8-9C507199F2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3D80-19C4-4FE7-9F28-267834174C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1B2B-06E5-4036-BF9E-72396CB277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F0D7-D0D2-44A0-BE9C-870C767785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F1A1-AC7E-4829-9E2D-97A2513917E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3;&#1080;&#1075;&#1080;&#1103;" TargetMode="External"/><Relationship Id="rId2" Type="http://schemas.openxmlformats.org/officeDocument/2006/relationships/hyperlink" Target="http://ru.wikipedia.org/wiki/&#1056;&#1077;&#1083;&#1080;&#1075;&#1080;&#1086;&#1079;&#1085;&#1099;&#1081;_&#1082;&#1091;&#1083;&#1100;&#1090;" TargetMode="External"/><Relationship Id="rId3" Type="http://schemas.openxmlformats.org/officeDocument/2006/relationships/hyperlink" Target="http://ru.wikipedia.org/wiki/&#1048;&#1091;&#1076;&#1072;&#1080;&#1079;&#1084;" TargetMode="External"/><Relationship Id="rId4" Type="http://schemas.openxmlformats.org/officeDocument/2006/relationships/hyperlink" Target="http://ru.wikipedia.org/wiki/&#1056;&#1072;&#1074;&#1074;&#1080;&#1085;" TargetMode="External"/><Relationship Id="rId5" Type="http://schemas.openxmlformats.org/officeDocument/2006/relationships/hyperlink" Target="http://ru.wikipedia.org/wiki/&#1056;&#1080;&#1084;&#1089;&#1082;&#1086;-&#1082;&#1072;&#1090;&#1086;&#1083;&#1080;&#1095;&#1077;&#1089;&#1082;&#1072;&#1103;_&#1094;&#1077;&#1088;&#1082;&#1086;&#1074;&#1100;" TargetMode="External"/><Relationship Id="rId6" Type="http://schemas.openxmlformats.org/officeDocument/2006/relationships/hyperlink" Target="http://ru.wikipedia.org/wiki/&#1057;&#1074;&#1103;&#1097;&#1077;&#1085;&#1089;&#1090;&#1074;&#1086;" TargetMode="External"/><Relationship Id="rId7" Type="http://schemas.openxmlformats.org/officeDocument/2006/relationships/hyperlink" Target="http://ru.wikipedia.org/wiki/&#1057;&#1074;&#1103;&#1097;&#1077;&#1085;&#1085;&#1086;&#1089;&#1083;&#1091;&#1078;&#1080;&#1090;&#1077;&#1083;&#1100;" TargetMode="External"/><Relationship Id="rId8" Type="http://schemas.openxmlformats.org/officeDocument/2006/relationships/hyperlink" Target="http://ru.wikipedia.org/wiki/&#1045;&#1087;&#1080;&#1089;&#1082;&#1086;&#1087;" TargetMode="External"/><Relationship Id="rId9" Type="http://schemas.openxmlformats.org/officeDocument/2006/relationships/hyperlink" Target="http://ru.wikipedia.org/wiki/&#1044;&#1080;&#1072;&#1082;&#1086;&#1085;" TargetMode="External"/><Relationship Id="rId10" Type="http://schemas.openxmlformats.org/officeDocument/2006/relationships/hyperlink" Target="http://ru.wikipedia.org/wiki/&#1055;&#1088;&#1077;&#1089;&#1074;&#1080;&#1090;&#1077;&#1088;" TargetMode="External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61;&#1088;&#1080;&#1089;&#1090;&#1080;&#1072;&#1085;&#1089;&#1082;&#1072;&#1103;_&#1094;&#1077;&#1088;&#1082;&#1086;&#1074;&#1100;" TargetMode="External"/><Relationship Id="rId3" Type="http://schemas.openxmlformats.org/officeDocument/2006/relationships/hyperlink" Target="http://ru.wikipedia.org/wiki/&#1057;&#1074;&#1103;&#1097;&#1077;&#1085;&#1089;&#1090;&#1074;&#1086;" TargetMode="External"/><Relationship Id="rId4" Type="http://schemas.openxmlformats.org/officeDocument/2006/relationships/hyperlink" Target="http://ru.wikipedia.org/wiki/&#1044;&#1080;&#1072;&#1082;&#1086;&#1085;&#1080;&#1089;&#1089;&#1072;" TargetMode="External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8;&#1072;&#1073;&#1089;&#1082;&#1080;&#1081;_&#1103;&#1079;&#1099;&#1082;" TargetMode="External"/><Relationship Id="rId2" Type="http://schemas.openxmlformats.org/officeDocument/2006/relationships/hyperlink" Target="http://ru.wikipedia.org/wiki/&#1057;&#1086;&#1086;&#1073;&#1097;&#1077;&#1089;&#1090;&#1074;&#1086;" TargetMode="External"/><Relationship Id="rId3" Type="http://schemas.openxmlformats.org/officeDocument/2006/relationships/hyperlink" Target="http://ru.wikipedia.org/wiki/&#1053;&#1072;&#1094;&#1080;&#1103;" TargetMode="External"/><Relationship Id="rId4" Type="http://schemas.openxmlformats.org/officeDocument/2006/relationships/hyperlink" Target="http://ru.wikipedia.org/wiki/&#1048;&#1089;&#1083;&#1072;&#1084;" TargetMode="External"/><Relationship Id="rId5" Type="http://schemas.openxmlformats.org/officeDocument/2006/relationships/hyperlink" Target="http://ru.wikipedia.org/wiki/&#1044;&#1072;&#1088;_&#1072;&#1083;&#1100;-&#1080;&#1089;&#1083;&#1072;&#1084;" TargetMode="External"/><Relationship Id="rId6" Type="http://schemas.openxmlformats.org/officeDocument/2006/relationships/hyperlink" Target="http://ru.wikipedia.org/wiki/&#1050;&#1086;&#1088;&#1072;&#1085;" TargetMode="External"/><Relationship Id="rId7" Type="http://schemas.openxmlformats.org/officeDocument/2006/relationships/hyperlink" Target="http://ru.wikipedia.org/wiki/&#1054;&#1088;&#1075;&#1072;&#1085;&#1080;&#1079;&#1072;&#1094;&#1080;&#1103;_&#1054;&#1073;&#1098;&#1077;&#1076;&#1080;&#1085;&#1105;&#1085;&#1085;&#1099;&#1093;_&#1053;&#1072;&#1094;&#1080;&#1081;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8;&#1072;&#1085;" TargetMode="External"/><Relationship Id="rId2" Type="http://schemas.openxmlformats.org/officeDocument/2006/relationships/hyperlink" Target="http://ru.wikipedia.org/wiki/&#1058;&#1072;&#1076;&#1078;&#1080;&#1082;" TargetMode="External"/><Relationship Id="rId3" Type="http://schemas.openxmlformats.org/officeDocument/2006/relationships/hyperlink" Target="http://ru.wikipedia.org/wiki/&#1059;&#1079;&#1073;&#1077;&#1082;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91;&#1076;&#1076;&#1080;&#1079;&#1084;" TargetMode="External"/><Relationship Id="rId2" Type="http://schemas.openxmlformats.org/officeDocument/2006/relationships/hyperlink" Target="http://ru.wikipedia.org/wiki/&#1058;&#1077;&#1088;&#1084;&#1080;&#1085;" TargetMode="External"/><Relationship Id="rId3" Type="http://schemas.openxmlformats.org/officeDocument/2006/relationships/hyperlink" Target="http://ru.wikipedia.org/w/index.php?title=&#1057;&#1086;&#1085;&#1084;&amp;action=edit&amp;redlink=1" TargetMode="External"/><Relationship Id="rId4" Type="http://schemas.openxmlformats.org/officeDocument/2006/relationships/hyperlink" Target="http://ru.wikipedia.org/wiki/&#1055;&#1088;&#1086;&#1089;&#1074;&#1077;&#1090;&#1083;&#1077;&#1085;&#1080;&#1077;" TargetMode="External"/><Relationship Id="rId5" Type="http://schemas.openxmlformats.org/officeDocument/2006/relationships/hyperlink" Target="http://ru.wikipedia.org/w/index.php?title=&#1055;&#1088;&#1080;&#1073;&#1077;&#1078;&#1080;&#1097;&#1077;&amp;action=edit&amp;redlink=1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0;&#1073;&#1077;&#1090;&#1089;&#1082;&#1080;&#1081;_&#1103;&#1079;&#1099;&#1082;" TargetMode="External"/><Relationship Id="rId2" Type="http://schemas.openxmlformats.org/officeDocument/2006/relationships/hyperlink" Target="http://ru.wikipedia.org/wiki/&#1042;&#1072;&#1081;&#1083;&#1080;" TargetMode="External"/><Relationship Id="rId3" Type="http://schemas.openxmlformats.org/officeDocument/2006/relationships/hyperlink" Target="http://ru.wikipedia.org/wiki/&#1058;&#1080;&#1073;&#1077;&#1090;&#1089;&#1082;&#1080;&#1081;_&#1073;&#1091;&#1076;&#1076;&#1080;&#1079;&#1084;" TargetMode="External"/><Relationship Id="rId4" Type="http://schemas.openxmlformats.org/officeDocument/2006/relationships/hyperlink" Target="http://ru.wikipedia.org/wiki/&#1057;&#1072;&#1085;&#1089;&#1082;&#1088;&#1080;&#1090;" TargetMode="External"/><Relationship Id="rId5" Type="http://schemas.openxmlformats.org/officeDocument/2006/relationships/hyperlink" Target="http://ru.wikipedia.org/wiki/&#1043;&#1091;&#1088;&#1091;" TargetMode="External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8;&#1077;&#1094;&#1099;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-105priestrelief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u.wikipedia.org/wiki/&#1060;&#1072;&#1081;&#1083;:Imhotep-Louvre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ru.wikipedia.org/wiki/&#1060;&#1072;&#1081;&#1083;:E-104princessrelief.jp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leven.co.il/article/13037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revo.pravbeseda.ru/index.php?id=28" TargetMode="External"/><Relationship Id="rId2" Type="http://schemas.openxmlformats.org/officeDocument/2006/relationships/hyperlink" Target="http://drevo.pravbeseda.ru/index.php?id=107" TargetMode="External"/><Relationship Id="rId3" Type="http://schemas.openxmlformats.org/officeDocument/2006/relationships/hyperlink" Target="http://drevo.pravbeseda.ru/index.php?id=107" TargetMode="External"/><Relationship Id="rId4" Type="http://schemas.openxmlformats.org/officeDocument/2006/relationships/hyperlink" Target="http://drevo.pravbeseda.ru/index.php?id=214" TargetMode="External"/><Relationship Id="rId5" Type="http://schemas.openxmlformats.org/officeDocument/2006/relationships/hyperlink" Target="http://drevo.pravbeseda.ru/index.php?id=1208" TargetMode="External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61;&#1088;&#1080;&#1089;&#1090;&#1080;&#1072;&#1085;&#1089;&#1082;&#1072;&#1103;_&#1094;&#1077;&#1088;&#1082;&#1086;&#1074;&#1100;" TargetMode="External"/><Relationship Id="rId3" Type="http://schemas.openxmlformats.org/officeDocument/2006/relationships/hyperlink" Target="http://ru.wikipedia.org/wiki/&#1057;&#1074;&#1103;&#1097;&#1077;&#1085;&#1089;&#1090;&#1074;&#1086;" TargetMode="External"/><Relationship Id="rId4" Type="http://schemas.openxmlformats.org/officeDocument/2006/relationships/hyperlink" Target="http://ru.wikipedia.org/wiki/&#1040;&#1087;&#1086;&#1089;&#1090;&#1086;&#1083;&#1099;" TargetMode="External"/><Relationship Id="rId5" Type="http://schemas.openxmlformats.org/officeDocument/2006/relationships/hyperlink" Target="http://ru.wikipedia.org/wiki/&#1040;&#1087;&#1086;&#1089;&#1090;&#1086;&#1083;_&#1055;&#1072;&#1074;&#1077;&#1083;" TargetMode="External"/><Relationship Id="rId6" Type="http://schemas.openxmlformats.org/officeDocument/2006/relationships/hyperlink" Target="http://ru.wikipedia.org/wiki/&#1048;&#1080;&#1089;&#1091;&#1089;_&#1061;&#1088;&#1080;&#1089;&#1090;&#1086;&#1089;" TargetMode="External"/><Relationship Id="rId7" Type="http://schemas.openxmlformats.org/officeDocument/2006/relationships/hyperlink" Target="http://ru.wikipedia.org/wiki/&#1061;&#1088;&#1080;&#1089;&#1090;&#1080;&#1072;&#1085;&#1077;" TargetMode="External"/><Relationship Id="rId8" Type="http://schemas.openxmlformats.org/officeDocument/2006/relationships/hyperlink" Target="http://ru.wikipedia.org/wiki/&#1043;&#1086;&#1088;&#1086;&#1076;" TargetMode="External"/><Relationship Id="rId9" Type="http://schemas.openxmlformats.org/officeDocument/2006/relationships/hyperlink" Target="http://ru.wikipedia.org/wiki/&#1055;&#1088;&#1086;&#1074;&#1080;&#1085;&#1094;&#1080;&#1103;" TargetMode="External"/><Relationship Id="rId10" Type="http://schemas.openxmlformats.org/officeDocument/2006/relationships/hyperlink" Target="http://ru.wikipedia.org/wiki/&#1040;&#1087;&#1086;&#1089;&#1090;&#1086;&#1083;" TargetMode="External"/><Relationship Id="rId11" Type="http://schemas.openxmlformats.org/officeDocument/2006/relationships/hyperlink" Target="http://ru.wikipedia.org/wiki/&#1040;&#1088;&#1093;&#1080;&#1077;&#1087;&#1080;&#1089;&#1082;&#1086;&#1087;" TargetMode="External"/><Relationship Id="rId12" Type="http://schemas.openxmlformats.org/officeDocument/2006/relationships/hyperlink" Target="http://ru.wikipedia.org/wiki/&#1052;&#1080;&#1090;&#1088;&#1086;&#1087;&#1086;&#1083;&#1080;&#1090;" TargetMode="External"/><Relationship Id="rId13" Type="http://schemas.openxmlformats.org/officeDocument/2006/relationships/hyperlink" Target="http://ru.wikipedia.org/wiki/&#1056;&#1091;&#1089;&#1089;&#1082;&#1080;&#1081;_&#1103;&#1079;&#1099;&#1082;" TargetMode="External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УРОК № 8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entury Schoolbook"/>
              </a:rPr>
              <a:t>Хранители предания в религиях мира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C:\Users\216б-1.k216b-1\Desktop\рк1Зяблина Савина\иллюстрации\AlexisII.jpg"/>
          <p:cNvPicPr/>
          <p:nvPr/>
        </p:nvPicPr>
        <p:blipFill>
          <a:blip r:embed="rId1"/>
          <a:stretch/>
        </p:blipFill>
        <p:spPr>
          <a:xfrm>
            <a:off x="1000080" y="500040"/>
            <a:ext cx="3225960" cy="4127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C:\Users\216б-1.k216b-1\Desktop\рк1Зяблина Савина\иллюстрации\200px-Icon_02044_Patriarh_Ioakim_Moskovskij_1620-1690__Neizv__hud__XVII_v__Rossiya.jpg"/>
          <p:cNvPicPr/>
          <p:nvPr/>
        </p:nvPicPr>
        <p:blipFill>
          <a:blip r:embed="rId2"/>
          <a:stretch/>
        </p:blipFill>
        <p:spPr>
          <a:xfrm>
            <a:off x="3429000" y="364320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C:\Users\216б-1.k216b-1\Desktop\рк1Зяблина Савина\иллюстрации\200px-Johann_Otto_von_Gemmingen.jpg"/>
          <p:cNvPicPr/>
          <p:nvPr/>
        </p:nvPicPr>
        <p:blipFill>
          <a:blip r:embed="rId3"/>
          <a:stretch/>
        </p:blipFill>
        <p:spPr>
          <a:xfrm>
            <a:off x="5929200" y="857160"/>
            <a:ext cx="25401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ВЯЩЕННИ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143000"/>
            <a:ext cx="7686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вяще́нник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— в общеупотребительном значении, служитель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религиозного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культ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Имеет особое значение в историческом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иудаизме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сейчас в иудаизме нет священников и использовать данный термин применительно к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раввинам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— ошибочно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Римско-католической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православной и ряде других христианских конфессий, признающих традиционное понимание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священств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священник есть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священнослужитель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имеющий 2-ю его степень: ниже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епископ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и выше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диакон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в православии также называется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пресвитером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. Использовать термин «священник» применительно к лицу, имеющему епископский сан, — терминологически неверн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Users\216б-1.k216b-1\Desktop\рк1Зяблина Савина\иллюстрации\150px-Priests_rome.jpg"/>
          <p:cNvPicPr/>
          <p:nvPr/>
        </p:nvPicPr>
        <p:blipFill>
          <a:blip r:embed="rId1"/>
          <a:stretch/>
        </p:blipFill>
        <p:spPr>
          <a:xfrm>
            <a:off x="1428840" y="2071800"/>
            <a:ext cx="3214440" cy="3643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Users\216б-1.k216b-1\Desktop\рк1Зяблина Савина\иллюстрации\170px-Dalmatic.jpg"/>
          <p:cNvPicPr/>
          <p:nvPr/>
        </p:nvPicPr>
        <p:blipFill>
          <a:blip r:embed="rId2"/>
          <a:stretch/>
        </p:blipFill>
        <p:spPr>
          <a:xfrm>
            <a:off x="5643720" y="1714680"/>
            <a:ext cx="24271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ИАК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иа́ко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(лит. форма; разг.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ья́ко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др.-греч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διάκονος —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лужител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 — лицо, проходящее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церковно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служение на первой, низшей степени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священств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Женщина, имеющая сан диакона, называется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диаконисс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(диаконессой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:\Users\216б-1.k216b-1\Desktop\рк1Зяблина Савина\иллюстрации\170px-Orthodox_deacons.jpg"/>
          <p:cNvPicPr/>
          <p:nvPr/>
        </p:nvPicPr>
        <p:blipFill>
          <a:blip r:embed="rId1"/>
          <a:stretch/>
        </p:blipFill>
        <p:spPr>
          <a:xfrm>
            <a:off x="5500800" y="2143080"/>
            <a:ext cx="2571480" cy="4119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C:\Documents and Settings\HARd\Рабочий стол\ч.jpg"/>
          <p:cNvPicPr/>
          <p:nvPr/>
        </p:nvPicPr>
        <p:blipFill>
          <a:blip r:embed="rId2"/>
          <a:stretch/>
        </p:blipFill>
        <p:spPr>
          <a:xfrm>
            <a:off x="857160" y="2000160"/>
            <a:ext cx="30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ММ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071720"/>
            <a:ext cx="77580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Умм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арабско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слово, означающее «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сообщество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» или «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нация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». В 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ислам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слово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умм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обозначает сообщество верующих, то есть весь 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исламский мир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Фраза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умма вахид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(«одно сообщество») в 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Коран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обозначает объединённый арабский мир. С другой стороны, в арабском языке слово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умм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также может использоваться в западном значении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нац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например (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Объединённые нац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6" descr="C:\Documents and Settings\HARd\Рабочий стол\ю.jpg"/>
          <p:cNvPicPr/>
          <p:nvPr/>
        </p:nvPicPr>
        <p:blipFill>
          <a:blip r:embed="rId8"/>
          <a:stretch/>
        </p:blipFill>
        <p:spPr>
          <a:xfrm>
            <a:off x="6072120" y="5143680"/>
            <a:ext cx="17146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МА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МАМ (араб.)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—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значает "стоящий впереди", шире — "тот, кто руководит молитвой"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уннитском исламе предстоятелем на молитве может быть любой правоверный мусульманин, хорошо знающий Коран, вне зависимости от своего социального по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деревенских мечетях на должность имама обычно выбирается наиболее почтенный и сведущий в богословии человек, часто не имеющий специального богословского образ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C:\Users\216б-1.k216b-1\Desktop\рк1Зяблина Савина\иллюстрации\имам.jpg"/>
          <p:cNvPicPr/>
          <p:nvPr/>
        </p:nvPicPr>
        <p:blipFill>
          <a:blip r:embed="rId1"/>
          <a:stretch/>
        </p:blipFill>
        <p:spPr>
          <a:xfrm>
            <a:off x="642960" y="428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216б-1.k216b-1\Desktop\рк1Зяблина Савина\иллюстрации\iс.jpg"/>
          <p:cNvPicPr/>
          <p:nvPr/>
        </p:nvPicPr>
        <p:blipFill>
          <a:blip r:embed="rId2"/>
          <a:stretch/>
        </p:blipFill>
        <p:spPr>
          <a:xfrm>
            <a:off x="2928960" y="2357280"/>
            <a:ext cx="2571840" cy="2143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C:\Users\216б-1.k216b-1\Desktop\рк1Зяблина Савина\иллюстрации\ислам.jpg"/>
          <p:cNvPicPr/>
          <p:nvPr/>
        </p:nvPicPr>
        <p:blipFill>
          <a:blip r:embed="rId3"/>
          <a:stretch/>
        </p:blipFill>
        <p:spPr>
          <a:xfrm>
            <a:off x="5357880" y="4143240"/>
            <a:ext cx="3357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ХАФИЗ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Хафиз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(арабск. "учащий наизусть", "охранитель") — человек, знающий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Коран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изуст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 называют также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таджикских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узбекских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певцов, исполняющих традиционную музы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4" descr="C:\Documents and Settings\HARd\Рабочий стол\б.jpg"/>
          <p:cNvPicPr/>
          <p:nvPr/>
        </p:nvPicPr>
        <p:blipFill>
          <a:blip r:embed="rId4"/>
          <a:stretch/>
        </p:blipFill>
        <p:spPr>
          <a:xfrm>
            <a:off x="5786280" y="4143240"/>
            <a:ext cx="2071800" cy="22384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C:\Documents and Settings\HARd\Рабочий стол\и.jpg"/>
          <p:cNvPicPr/>
          <p:nvPr/>
        </p:nvPicPr>
        <p:blipFill>
          <a:blip r:embed="rId5"/>
          <a:stretch/>
        </p:blipFill>
        <p:spPr>
          <a:xfrm>
            <a:off x="1143000" y="3929040"/>
            <a:ext cx="1500120" cy="2087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Documents and Settings\HARd\Рабочий стол\я.jpg"/>
          <p:cNvPicPr/>
          <p:nvPr/>
        </p:nvPicPr>
        <p:blipFill>
          <a:blip r:embed="rId6"/>
          <a:stretch/>
        </p:blipFill>
        <p:spPr>
          <a:xfrm>
            <a:off x="3286080" y="3643200"/>
            <a:ext cx="20718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АНГХ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071720"/>
            <a:ext cx="76150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а́нгх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Са́мгх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«собрание, множество») — название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буддийской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общины. Этот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термин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может употребляться для обозначения религиозного братства в целом. В более узком смысле —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сонм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существ, достигших определенной степени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просветлен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широком смысле «сообщества буддистов» употребляется термин «четырёхчастная сангха»: община из монахов, монахинь, мирян и мирянок. Это сообщество, наличие которого, например, свидетельствует о распространённости учения Будды в стране или регион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узком смысле, например при принятии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Прибежищ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под Сангхой рекомендуется понимать Освобождённую Сангху, сообщество святых, освобождённых от иллюзии "эго" сущест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Хранител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Человек, который хранит, оберегает кого-нибудь, бережет что-нибудь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:\Users\216б-1.k216b-1\Desktop\рк1Зяблина Савина\иллюстрации\будда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АМ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143000"/>
            <a:ext cx="76150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Ла́м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(а в бурятском и калмыцком произношении ударение на последний слог Лама́) (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тиб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Вайли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bla ma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) — в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тибетском буддизме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— религиозный учител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название сродни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санскритскому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понятию «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гуру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» и может быть использовано в качестве уважительного обращения к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монаху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(монахине) для того, чтобы подчеркнуть их уровень духовного совершенства и мастерства, или же может быть составной частью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титул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в религиозной иерархии тибетских лам, как то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Далай-лам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Панчен-лам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Тулку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озможно, из-за неоднозначного восприятия тибетского буддизма западными учёными, термин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лам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исторически и, зачастую, ошибочно употреблялся для обозначения всех тибетских монахов. Аналогично, тибетский буддизм часто назывался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ламаизмом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, поскольку западные учёные и путешественники не воспринимали тибетский буддизм как одну из форм буддизма вообще. В настоящее время понятие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ламаизм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считается некорректны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C:\Documents and Settings\HARd\Рабочий стол\м.jpg"/>
          <p:cNvPicPr/>
          <p:nvPr/>
        </p:nvPicPr>
        <p:blipFill>
          <a:blip r:embed="rId1"/>
          <a:stretch/>
        </p:blipFill>
        <p:spPr>
          <a:xfrm>
            <a:off x="1000080" y="2357280"/>
            <a:ext cx="2746440" cy="2357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C:\Documents and Settings\HARd\Рабочий стол\с.jpg"/>
          <p:cNvPicPr/>
          <p:nvPr/>
        </p:nvPicPr>
        <p:blipFill>
          <a:blip r:embed="rId2"/>
          <a:stretch/>
        </p:blipFill>
        <p:spPr>
          <a:xfrm>
            <a:off x="5000760" y="1643040"/>
            <a:ext cx="24289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ХРАНИТЕЛИ ПРЕДАНИЯ В РЕЛИГИЯХ МИРА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928800" y="1643040"/>
          <a:ext cx="7167600" cy="2665440"/>
        </p:xfrm>
        <a:graphic>
          <a:graphicData uri="http://schemas.openxmlformats.org/drawingml/2006/table">
            <a:tbl>
              <a:tblPr/>
              <a:tblGrid>
                <a:gridCol w="2000160"/>
                <a:gridCol w="1714320"/>
                <a:gridCol w="1785960"/>
                <a:gridCol w="1667160"/>
              </a:tblGrid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ослав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слам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удди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уде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ХРАНИТЕЛИ ПРЕДАНИЯ В РЕЛИГИЯХ МИРА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928800" y="1643040"/>
          <a:ext cx="7167600" cy="3214800"/>
        </p:xfrm>
        <a:graphic>
          <a:graphicData uri="http://schemas.openxmlformats.org/drawingml/2006/table">
            <a:tbl>
              <a:tblPr/>
              <a:tblGrid>
                <a:gridCol w="2000160"/>
                <a:gridCol w="1714320"/>
                <a:gridCol w="1785960"/>
                <a:gridCol w="1667160"/>
              </a:tblGrid>
              <a:tr h="12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ослав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слам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удди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уде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12240">
                      <a:solidFill>
                        <a:srgbClr val="777c84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писк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яще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а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м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аф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анг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вв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1224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ЖРЕ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ществуют разные мнения по поводу роли жрецов в жизни Древнего Египта. Так, одни считают, что контроль жрецов негативно отражался на жизни египтян и на развитии государства. По версии других -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жрец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хранители священных традиций — сыграли положительную роль в истории и культуре Древнего Египта.  Жречество Египта играло важную роль в формировании и  процветании государства, развитии духовного  здоровья нации, сохранении исторических и                 культурных ценностей. (иудаизм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3" descr="http://upload.wikimedia.org/wikipedia/commons/thumb/7/71/E-105priestrelief.jpg/180px-E-105priestrelie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500040"/>
            <a:ext cx="2786040" cy="450072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http://upload.wikimedia.org/wikipedia/commons/thumb/9/95/Imhotep-Louvre.JPG/180px-Imhotep-Louvr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0280" y="2928960"/>
            <a:ext cx="2714760" cy="328608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http://upload.wikimedia.org/wikipedia/commons/thumb/4/4f/E-104princessrelief.jpg/180px-E-104princessrelief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642960"/>
            <a:ext cx="2357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ВВИ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214280"/>
            <a:ext cx="7467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РАВВИ́Н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 звание, присваиваемое по получении высшего еврейского религиозного образования, дающего право возглавлять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общину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преподавать и быть членом религиозного суд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ловом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рав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буквально `большой`, `великий`, также `господин`) называют законоучител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 Росси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Согласно Положению о евреях, за евреями Российской империи сохранялось право выбирать раввинов, однако назначение на эту должность утверждалось губернскими властями. Раввины избирались на три года и получали жалование от общины, однако им запрещалось взимать особую плату за совершение обрядов. Стремясь распространить среди евреев общее образование, власти предупредили, что с 1812 г. раввином сможет быть только тот, кто знает русскую, польскую или немецкую грамот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216б-1.k216b-1\Desktop\рк1Зяблина Савина\иллюстрации\IMG_1404.jpg"/>
          <p:cNvPicPr/>
          <p:nvPr/>
        </p:nvPicPr>
        <p:blipFill>
          <a:blip r:embed="rId1"/>
          <a:stretch/>
        </p:blipFill>
        <p:spPr>
          <a:xfrm>
            <a:off x="762120" y="890640"/>
            <a:ext cx="4024080" cy="3538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216б-1.k216b-1\Desktop\рк1Зяблина Савина\иллюстрации\0007b6pf.jpg"/>
          <p:cNvPicPr/>
          <p:nvPr/>
        </p:nvPicPr>
        <p:blipFill>
          <a:blip r:embed="rId2"/>
          <a:stretch/>
        </p:blipFill>
        <p:spPr>
          <a:xfrm>
            <a:off x="5857920" y="214200"/>
            <a:ext cx="3000240" cy="3471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rabbi_weiss"/>
          <p:cNvPicPr/>
          <p:nvPr/>
        </p:nvPicPr>
        <p:blipFill>
          <a:blip r:embed="rId3"/>
          <a:stretch/>
        </p:blipFill>
        <p:spPr>
          <a:xfrm>
            <a:off x="4071960" y="3500280"/>
            <a:ext cx="271476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ПОСТО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по́стол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греч. гр. άπóστολος от глаг. άποστέλλω “посылать“): последователь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Христ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призванный к служению несения Благой Вести (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Евангел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 всем народам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венадцать апостоло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аще всего под апостолами понимается двенадцать ближайших учеников Христовых, призванных Христом для того, чтобы они были с Ним, возвещали вместе с Ним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Евангелие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и изгоняли бесов, говорили от Его имени. Христос наделяет апостолов своею властью: “Принимающий вас Меня принимает, а принимающий Меня принимает пославшего Меня”. В силу этой власти апостолы после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Воскресения Христов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и сошествия на них Св. Духа (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Пятидесятниц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 становятся во главе христианской Церкв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216б-1.k216b-1\Desktop\рк1Зяблина Савина\иллюстрации\jesus_washing_apostles_feet_parson_l.jpg"/>
          <p:cNvPicPr/>
          <p:nvPr/>
        </p:nvPicPr>
        <p:blipFill>
          <a:blip r:embed="rId1"/>
          <a:stretch/>
        </p:blipFill>
        <p:spPr>
          <a:xfrm>
            <a:off x="785880" y="285768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C:\Users\216б-1.k216b-1\Desktop\рк1Зяблина Савина\иллюстрации\Jesus-Apostles-03.jpg"/>
          <p:cNvPicPr/>
          <p:nvPr/>
        </p:nvPicPr>
        <p:blipFill>
          <a:blip r:embed="rId2"/>
          <a:stretch/>
        </p:blipFill>
        <p:spPr>
          <a:xfrm>
            <a:off x="4714920" y="428760"/>
            <a:ext cx="372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ЕПИСКОП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071720"/>
            <a:ext cx="77580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Епи́скоп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греч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entury Schoolbook"/>
              </a:rPr>
              <a:t>ἐπίσκοπος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— «надзирающий», «надсматривающий») в современной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Церкви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— лицо, имеющее третью, высшую степень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священств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, иначе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рхиерей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воначально, в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апостольское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время, термин «епископ», как он употребляется в посланиях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апостола Павл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, обозначал старшего наставника отдельной общины последователей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Иисуса Христ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Епископы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надзирали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христиан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конкретного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город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или конкретной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провинции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, в отличие от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апостолов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 Впоследствии термин обретает более специфическое значение высшей степени священств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 появлением различных почётных епископских степеней (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архиепископ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митрополит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и т. п.), термин в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13"/>
              </a:rPr>
              <a:t>русском языке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также стал обозначением младшей из них, хотя не потерял и более общего значения, для которого также используют термин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архиерей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греческой церкви общим термином обычно является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иерарх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(«священноначальник»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06:26:39Z</dcterms:created>
  <dc:creator>К216А-12</dc:creator>
  <dc:description/>
  <dc:language>en-US</dc:language>
  <cp:lastModifiedBy>ws14</cp:lastModifiedBy>
  <dcterms:modified xsi:type="dcterms:W3CDTF">2010-04-28T14:43:01Z</dcterms:modified>
  <cp:revision>38</cp:revision>
  <dc:subject/>
  <dc:title>Основы мировых религиозных культур</dc:title>
</cp:coreProperties>
</file>