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A66-7E17-4466-BE93-27C6A9C2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8E1-6C0B-41DD-9190-365F934A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92DB-14A1-4EAA-9F4E-CB08AE32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8FD0-FA0F-4334-9B62-8A95496D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8C1C-5B42-4A64-BF66-CE54E6F9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BE47-4513-47D6-8F3A-CDC0CDCE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8B31-9F4E-4B2D-8F8C-E60665A8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D381-BCA0-4E6B-B214-F2636471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DF00-7075-4EF7-8E00-B2E19384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9F2F-CEE8-4E61-B1F8-E25D66A8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0C11-1C7E-4F38-80B8-65438F61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246F-C651-4D08-8F9E-6599E214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1382-9518-441E-962B-A8D98D92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5452-934D-4842-9B88-05AA7DE0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7A7A-0568-4475-A937-192963C8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F3AB-BEB6-481D-A344-51F04D52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B3B6-B07E-42C4-A558-9DBE25BD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D6B-6BEB-4AFE-A12A-690BCE7D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5C6D-F596-4FAE-A2CF-2964B531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F65D-A428-45F6-B5E3-3FE5F3B2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8B6-4D02-4282-9C2E-EB6CAE63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F8F-A663-4401-84A6-7AD31B89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262-D61C-49CC-88A1-5960F999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F6F8-FEBC-4F60-B91E-DD385576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43FF-64C6-4D5E-99A3-4D3458A383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4D56-4CF5-4146-A67C-8B79E24766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54;&#1073;&#1088;&#1103;&#1076;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7;&#1074;&#1103;&#1097;&#1077;&#1085;&#1085;&#1099;&#1081;_&#1075;&#1080;&#1084;&#1085;&amp;action=edit&amp;redlink=1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2868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ранители предания в религиях мир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28800" y="2357280"/>
          <a:ext cx="7167600" cy="2892600"/>
        </p:xfrm>
        <a:graphic>
          <a:graphicData uri="http://schemas.openxmlformats.org/drawingml/2006/table">
            <a:tbl>
              <a:tblPr/>
              <a:tblGrid>
                <a:gridCol w="2000160"/>
                <a:gridCol w="1714320"/>
                <a:gridCol w="1785960"/>
                <a:gridCol w="1667160"/>
              </a:tblGrid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слав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5760">
                      <a:solidFill>
                        <a:srgbClr val="8a8ae7"/>
                      </a:solidFill>
                    </a:lnT>
                    <a:lnB w="12240">
                      <a:solidFill>
                        <a:srgbClr val="8a8ae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лам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5760">
                      <a:solidFill>
                        <a:srgbClr val="8a8ae7"/>
                      </a:solidFill>
                    </a:lnT>
                    <a:lnB w="12240">
                      <a:solidFill>
                        <a:srgbClr val="8a8ae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дий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5760">
                      <a:solidFill>
                        <a:srgbClr val="8a8ae7"/>
                      </a:solidFill>
                    </a:lnT>
                    <a:lnB w="12240">
                      <a:solidFill>
                        <a:srgbClr val="8a8ae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удей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5760">
                      <a:solidFill>
                        <a:srgbClr val="8a8ae7"/>
                      </a:solidFill>
                    </a:lnT>
                    <a:lnB w="12240">
                      <a:solidFill>
                        <a:srgbClr val="8a8ae7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12240">
                      <a:solidFill>
                        <a:srgbClr val="8a8ae7"/>
                      </a:solidFill>
                    </a:lnT>
                    <a:lnB w="5760">
                      <a:solidFill>
                        <a:srgbClr val="8a8ae7"/>
                      </a:solidFill>
                    </a:lnB>
                    <a:solidFill>
                      <a:srgbClr val="8a8a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12240">
                      <a:solidFill>
                        <a:srgbClr val="8a8ae7"/>
                      </a:solidFill>
                    </a:lnT>
                    <a:lnB w="5760">
                      <a:solidFill>
                        <a:srgbClr val="8a8ae7"/>
                      </a:solidFill>
                    </a:lnB>
                    <a:solidFill>
                      <a:srgbClr val="8a8a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12240">
                      <a:solidFill>
                        <a:srgbClr val="8a8ae7"/>
                      </a:solidFill>
                    </a:lnT>
                    <a:lnB w="5760">
                      <a:solidFill>
                        <a:srgbClr val="8a8ae7"/>
                      </a:solidFill>
                    </a:lnB>
                    <a:solidFill>
                      <a:srgbClr val="8a8a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12240">
                      <a:solidFill>
                        <a:srgbClr val="8a8ae7"/>
                      </a:solidFill>
                    </a:lnT>
                    <a:lnB w="5760">
                      <a:solidFill>
                        <a:srgbClr val="8a8ae7"/>
                      </a:solidFill>
                    </a:lnB>
                    <a:solidFill>
                      <a:srgbClr val="8a8ae7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з какого произведения этот отрыв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оченевший мальчик сидел неподвижно. Можно было подумать, что он замер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ем временем Герда входила в огромные ворота, где разгуливали свирепые ветры. Но она прочла вечернюю молитву, и ветры утихли, словно заснули. Герда вошла в необозримый пустынный ледяной зал, увидела Кая и тотчас узнала его. Девочка бросилась ему на шею, крепко обняла его и воскликну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й, мой милый Кай! Наконец-то я тебя нашл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Кай даже не пошевельнулся: он сидел все такой же невозмутимый и холодный. И тут Герда расплакалась: горячие слезы упали Каю на грудь и проникли в самое сердце; они растопили лед и расплавили осколок зеркала. Кай взглянул на Герду, а она запел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Розы в долинах цветут... Красот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 мы узрим младенца Христ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й вдруг залился слезами и плакал так сильно, что второй осколок выкатился из глаз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чего человек произносит молитв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авославной культуре для того, чтобы верующие могли духовно прикоснуться к Христу, почувствовать его присутствие, существуют действия, которые называются ТАИНСТ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таинства Христианской церкви вы зн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́ин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 — по учению христианской церкви есть священнодействие (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обря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в котором верующим сообщается под видимым образом невидимая благодать Бож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 времён апостолов известны д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РЕЩЕНИЕ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ВХАРИСТИЯ (святое причасти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425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Таинства в христианств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аинст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C:\Documents and Settings\HARd\Мои документы\Downloads\1.jpg"/>
          <p:cNvPicPr/>
          <p:nvPr/>
        </p:nvPicPr>
        <p:blipFill>
          <a:blip r:embed="rId1"/>
          <a:stretch/>
        </p:blipFill>
        <p:spPr>
          <a:xfrm>
            <a:off x="4214880" y="2571840"/>
            <a:ext cx="3486240" cy="300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HARd\Мои документы\Downloads\2.jpg"/>
          <p:cNvPicPr/>
          <p:nvPr/>
        </p:nvPicPr>
        <p:blipFill>
          <a:blip r:embed="rId2"/>
          <a:stretch/>
        </p:blipFill>
        <p:spPr>
          <a:xfrm>
            <a:off x="571680" y="1571760"/>
            <a:ext cx="300024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ществуют ли молитвы в других религия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Нама́з или саля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в исламе обязательная ежедневная пятикратная моли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Салят состоит из произнесения аятов Корана и прославления Бога одновременно с принятием различных по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Пять промежутков времени, в которые следует совершать поклонение, соответствуют пяти частям суток и распределению различных видов человеческой деятельности: рассвет, полдень, послеполуденное время, конец дня и ноч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Намаз - ислам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C:\Documents and Settings\HARd\Мои документы\Downloads\0.jpg"/>
          <p:cNvPicPr/>
          <p:nvPr/>
        </p:nvPicPr>
        <p:blipFill>
          <a:blip r:embed="rId1"/>
          <a:stretch/>
        </p:blipFill>
        <p:spPr>
          <a:xfrm>
            <a:off x="285840" y="1500120"/>
            <a:ext cx="3603600" cy="2714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Documents and Settings\HARd\Мои документы\Downloads\9.jpg"/>
          <p:cNvPicPr/>
          <p:nvPr/>
        </p:nvPicPr>
        <p:blipFill>
          <a:blip r:embed="rId2"/>
          <a:stretch/>
        </p:blipFill>
        <p:spPr>
          <a:xfrm>
            <a:off x="4643280" y="3714840"/>
            <a:ext cx="3929400" cy="2801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Documents and Settings\HARd\Мои документы\Downloads\99.jpg"/>
          <p:cNvPicPr/>
          <p:nvPr/>
        </p:nvPicPr>
        <p:blipFill>
          <a:blip r:embed="rId3"/>
          <a:stretch/>
        </p:blipFill>
        <p:spPr>
          <a:xfrm>
            <a:off x="4572000" y="500040"/>
            <a:ext cx="364320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антр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00120"/>
            <a:ext cx="8105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рассуждение, изречение») — </a:t>
            </a:r>
            <a:r>
              <a:rPr b="0" lang="ru-RU" sz="2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священный гим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в буддиз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чно мантра представляет собой сочетание нескольких звуков или слов. При этом каждое слово, слог или даже отдельный звук мантры может иметь глубокий религиозный смыс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ит для того, чтобы «настроить» сознание человека, вывести его от всего суетного  (Медитац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нтры часто сравнивают с молитвами и заклинани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антра - буддизм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C:\Documents and Settings\HARd\Мои документы\Downloads\7.jpg"/>
          <p:cNvPicPr/>
          <p:nvPr/>
        </p:nvPicPr>
        <p:blipFill>
          <a:blip r:embed="rId1"/>
          <a:stretch/>
        </p:blipFill>
        <p:spPr>
          <a:xfrm>
            <a:off x="5857920" y="257184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Documents and Settings\HARd\Мои документы\Downloads\8.jpg"/>
          <p:cNvPicPr/>
          <p:nvPr/>
        </p:nvPicPr>
        <p:blipFill>
          <a:blip r:embed="rId2"/>
          <a:stretch/>
        </p:blipFill>
        <p:spPr>
          <a:xfrm>
            <a:off x="285840" y="157176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E:\Татарск\проекты\основы МР\РК1Харитонова И.В. Кириллова М.М\Иллюстрации\Молитва в буддизме.jpg"/>
          <p:cNvPicPr/>
          <p:nvPr/>
        </p:nvPicPr>
        <p:blipFill>
          <a:blip r:embed="rId3"/>
          <a:stretch/>
        </p:blipFill>
        <p:spPr>
          <a:xfrm>
            <a:off x="3071880" y="2428920"/>
            <a:ext cx="2516040" cy="3311640"/>
          </a:xfrm>
          <a:prstGeom prst="rect">
            <a:avLst/>
          </a:prstGeom>
          <a:ln w="0">
            <a:noFill/>
          </a:ln>
        </p:spPr>
      </p:pic>
      <p:pic>
        <p:nvPicPr>
          <p:cNvPr id="136" name="Nina_Hagen_-_06_-_Hare_Krsna_Hare_Rama.mp3" descr=""/>
          <p:cNvPicPr/>
          <p:nvPr/>
        </p:nvPicPr>
        <p:blipFill>
          <a:blip r:embed="rId4"/>
          <a:stretch/>
        </p:blipFill>
        <p:spPr>
          <a:xfrm>
            <a:off x="8501040" y="6072120"/>
            <a:ext cx="2667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33100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 иудаизме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ое внимание уде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итве, чтению Священного пис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гому соблюдению религиозных предпис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евре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лятся в одни и те же часы, с покрытою голов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 субботы, седьмой день недели, в который Библия предписывает воздерживаться от работы. Объяснение этому предписанию: Бог сотворил мир в шесть дней, а на седьмой покоился, благословив и освятив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5786280" y="1857240"/>
            <a:ext cx="3121200" cy="450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E:\Татарск\проекты\основы МР\РК1Харитонова И.В. Кириллова М.М\Иллюстрации\Иудеи за молитвой.jpg"/>
          <p:cNvPicPr/>
          <p:nvPr/>
        </p:nvPicPr>
        <p:blipFill>
          <a:blip r:embed="rId2"/>
          <a:stretch/>
        </p:blipFill>
        <p:spPr>
          <a:xfrm>
            <a:off x="3357720" y="0"/>
            <a:ext cx="3555720" cy="2860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E:\Татарск\проекты\основы МР\РК1Харитонова И.В. Кириллова М.М\Иллюстрации\Еврейская молитва.jpg"/>
          <p:cNvPicPr/>
          <p:nvPr/>
        </p:nvPicPr>
        <p:blipFill>
          <a:blip r:embed="rId3"/>
          <a:stretch/>
        </p:blipFill>
        <p:spPr>
          <a:xfrm>
            <a:off x="214200" y="285840"/>
            <a:ext cx="3357720" cy="2519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HARd\Мои документы\Downloads\4.jpg"/>
          <p:cNvPicPr/>
          <p:nvPr/>
        </p:nvPicPr>
        <p:blipFill>
          <a:blip r:embed="rId4"/>
          <a:stretch/>
        </p:blipFill>
        <p:spPr>
          <a:xfrm>
            <a:off x="928800" y="3143160"/>
            <a:ext cx="45752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Хранители предания в религиях мир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0040" y="1643040"/>
          <a:ext cx="7643880" cy="3732120"/>
        </p:xfrm>
        <a:graphic>
          <a:graphicData uri="http://schemas.openxmlformats.org/drawingml/2006/table">
            <a:tbl>
              <a:tblPr/>
              <a:tblGrid>
                <a:gridCol w="2357640"/>
                <a:gridCol w="2000160"/>
                <a:gridCol w="1571400"/>
                <a:gridCol w="1714680"/>
              </a:tblGrid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слав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5760">
                      <a:solidFill>
                        <a:srgbClr val="8a8ae7"/>
                      </a:solidFill>
                    </a:lnT>
                    <a:lnB w="12240">
                      <a:solidFill>
                        <a:srgbClr val="8a8ae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лам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5760">
                      <a:solidFill>
                        <a:srgbClr val="8a8ae7"/>
                      </a:solidFill>
                    </a:lnT>
                    <a:lnB w="12240">
                      <a:solidFill>
                        <a:srgbClr val="8a8ae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дий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5760">
                      <a:solidFill>
                        <a:srgbClr val="8a8ae7"/>
                      </a:solidFill>
                    </a:lnT>
                    <a:lnB w="12240">
                      <a:solidFill>
                        <a:srgbClr val="8a8ae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удей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5760">
                      <a:solidFill>
                        <a:srgbClr val="8a8ae7"/>
                      </a:solidFill>
                    </a:lnT>
                    <a:lnB w="12240">
                      <a:solidFill>
                        <a:srgbClr val="8a8ae7"/>
                      </a:solidFill>
                    </a:lnB>
                    <a:noFill/>
                  </a:tcPr>
                </a:tc>
              </a:tr>
              <a:tr h="25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истианские священнослужи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осто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иско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щен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к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12240">
                      <a:solidFill>
                        <a:srgbClr val="8a8ae7"/>
                      </a:solidFill>
                    </a:lnT>
                    <a:lnB w="5760">
                      <a:solidFill>
                        <a:srgbClr val="8a8ae7"/>
                      </a:solidFill>
                    </a:lnB>
                    <a:solidFill>
                      <a:srgbClr val="8a8a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12240">
                      <a:solidFill>
                        <a:srgbClr val="8a8ae7"/>
                      </a:solidFill>
                    </a:lnT>
                    <a:lnB w="5760">
                      <a:solidFill>
                        <a:srgbClr val="8a8ae7"/>
                      </a:solidFill>
                    </a:lnB>
                    <a:solidFill>
                      <a:srgbClr val="8a8a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12240">
                      <a:solidFill>
                        <a:srgbClr val="8a8ae7"/>
                      </a:solidFill>
                    </a:lnT>
                    <a:lnB w="5760">
                      <a:solidFill>
                        <a:srgbClr val="8a8ae7"/>
                      </a:solidFill>
                    </a:lnB>
                    <a:solidFill>
                      <a:srgbClr val="8a8a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12240">
                      <a:solidFill>
                        <a:srgbClr val="8a8ae7"/>
                      </a:solidFill>
                    </a:lnT>
                    <a:lnB w="5760">
                      <a:solidFill>
                        <a:srgbClr val="8a8ae7"/>
                      </a:solidFill>
                    </a:lnB>
                    <a:solidFill>
                      <a:srgbClr val="8a8ae7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оробочка на голове у еврее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C:\Documents and Settings\HARd\Мои документы\Downloads\м.jpg"/>
          <p:cNvPicPr/>
          <p:nvPr/>
        </p:nvPicPr>
        <p:blipFill>
          <a:blip r:embed="rId1"/>
          <a:stretch/>
        </p:blipFill>
        <p:spPr>
          <a:xfrm>
            <a:off x="214200" y="1096920"/>
            <a:ext cx="84949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фили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71320" y="1357200"/>
            <a:ext cx="796284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«охранные амулеты» -  две маленькие коробочки из выкрашенной чёрной краской кожи кошерных животных, содержащие написанные на пергаменте отрывки из Торы. При помощи продетых через основания этих коробочек чёрных кожаных ремешков тфилин накладывают и укрепляют одну на обнажённой левой руке («против сердца» — на бицепс, немного повернув его в сторону тела), вторую — над линией волос, между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такое молит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) за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) обращение к Бо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) общение с иным ми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какой религии молитва называется Нама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) в иудаиз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) в исла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) в буддиз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какой из религий большое внимание уделяется хранению суб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) ис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) иуда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) христи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такое Мант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) священный гимн в буддиз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) молитва в исла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) обращение к Богу в христи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дание на дом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ь рассказ на те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Что говорит о человеке культура?» - исламская культу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славная культу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дийская культу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удейская культу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по вашему выбору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2" descr="C:\Documents and Settings\HARd\Мои документы\Downloads\д.jpg"/>
          <p:cNvPicPr/>
          <p:nvPr/>
        </p:nvPicPr>
        <p:blipFill>
          <a:blip r:embed="rId1"/>
          <a:stretch/>
        </p:blipFill>
        <p:spPr>
          <a:xfrm>
            <a:off x="142920" y="0"/>
            <a:ext cx="981072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ам за урок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2" descr="C:\Documents and Settings\HARd\Мои документы\Downloads\г.jpg"/>
          <p:cNvPicPr/>
          <p:nvPr/>
        </p:nvPicPr>
        <p:blipFill>
          <a:blip r:embed="rId1"/>
          <a:stretch/>
        </p:blipFill>
        <p:spPr>
          <a:xfrm>
            <a:off x="214200" y="1143000"/>
            <a:ext cx="82868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Хранители предания в религиях мир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00040" y="1643040"/>
          <a:ext cx="7643880" cy="3732120"/>
        </p:xfrm>
        <a:graphic>
          <a:graphicData uri="http://schemas.openxmlformats.org/drawingml/2006/table">
            <a:tbl>
              <a:tblPr/>
              <a:tblGrid>
                <a:gridCol w="2357640"/>
                <a:gridCol w="2000160"/>
                <a:gridCol w="1571400"/>
                <a:gridCol w="1714680"/>
              </a:tblGrid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слав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5760">
                      <a:solidFill>
                        <a:srgbClr val="8a8ae7"/>
                      </a:solidFill>
                    </a:lnT>
                    <a:lnB w="12240">
                      <a:solidFill>
                        <a:srgbClr val="8a8ae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лам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5760">
                      <a:solidFill>
                        <a:srgbClr val="8a8ae7"/>
                      </a:solidFill>
                    </a:lnT>
                    <a:lnB w="12240">
                      <a:solidFill>
                        <a:srgbClr val="8a8ae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дий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5760">
                      <a:solidFill>
                        <a:srgbClr val="8a8ae7"/>
                      </a:solidFill>
                    </a:lnT>
                    <a:lnB w="12240">
                      <a:solidFill>
                        <a:srgbClr val="8a8ae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удей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5760">
                      <a:solidFill>
                        <a:srgbClr val="8a8ae7"/>
                      </a:solidFill>
                    </a:lnT>
                    <a:lnB w="12240">
                      <a:solidFill>
                        <a:srgbClr val="8a8ae7"/>
                      </a:solidFill>
                    </a:lnB>
                    <a:noFill/>
                  </a:tcPr>
                </a:tc>
              </a:tr>
              <a:tr h="25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истианские священнослужи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осто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иско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щен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к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12240">
                      <a:solidFill>
                        <a:srgbClr val="8a8ae7"/>
                      </a:solidFill>
                    </a:lnT>
                    <a:lnB w="5760">
                      <a:solidFill>
                        <a:srgbClr val="8a8ae7"/>
                      </a:solidFill>
                    </a:lnB>
                    <a:solidFill>
                      <a:srgbClr val="8a8a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сульманская община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ам – предв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физ – знающий наизусть Кор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12240">
                      <a:solidFill>
                        <a:srgbClr val="8a8ae7"/>
                      </a:solidFill>
                    </a:lnT>
                    <a:lnB w="5760">
                      <a:solidFill>
                        <a:srgbClr val="8a8ae7"/>
                      </a:solidFill>
                    </a:lnB>
                    <a:solidFill>
                      <a:srgbClr val="8a8a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12240">
                      <a:solidFill>
                        <a:srgbClr val="8a8ae7"/>
                      </a:solidFill>
                    </a:lnT>
                    <a:lnB w="5760">
                      <a:solidFill>
                        <a:srgbClr val="8a8ae7"/>
                      </a:solidFill>
                    </a:lnB>
                    <a:solidFill>
                      <a:srgbClr val="8a8a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12240">
                      <a:solidFill>
                        <a:srgbClr val="8a8ae7"/>
                      </a:solidFill>
                    </a:lnT>
                    <a:lnB w="5760">
                      <a:solidFill>
                        <a:srgbClr val="8a8ae7"/>
                      </a:solidFill>
                    </a:lnB>
                    <a:solidFill>
                      <a:srgbClr val="8a8ae7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Хранители предания в религиях мир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00040" y="1643040"/>
          <a:ext cx="7643880" cy="3732120"/>
        </p:xfrm>
        <a:graphic>
          <a:graphicData uri="http://schemas.openxmlformats.org/drawingml/2006/table">
            <a:tbl>
              <a:tblPr/>
              <a:tblGrid>
                <a:gridCol w="2357640"/>
                <a:gridCol w="2000160"/>
                <a:gridCol w="1571400"/>
                <a:gridCol w="1714680"/>
              </a:tblGrid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слав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5760">
                      <a:solidFill>
                        <a:srgbClr val="8a8ae7"/>
                      </a:solidFill>
                    </a:lnT>
                    <a:lnB w="12240">
                      <a:solidFill>
                        <a:srgbClr val="8a8ae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лам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5760">
                      <a:solidFill>
                        <a:srgbClr val="8a8ae7"/>
                      </a:solidFill>
                    </a:lnT>
                    <a:lnB w="12240">
                      <a:solidFill>
                        <a:srgbClr val="8a8ae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дий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5760">
                      <a:solidFill>
                        <a:srgbClr val="8a8ae7"/>
                      </a:solidFill>
                    </a:lnT>
                    <a:lnB w="12240">
                      <a:solidFill>
                        <a:srgbClr val="8a8ae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удей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5760">
                      <a:solidFill>
                        <a:srgbClr val="8a8ae7"/>
                      </a:solidFill>
                    </a:lnT>
                    <a:lnB w="12240">
                      <a:solidFill>
                        <a:srgbClr val="8a8ae7"/>
                      </a:solidFill>
                    </a:lnB>
                    <a:noFill/>
                  </a:tcPr>
                </a:tc>
              </a:tr>
              <a:tr h="25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истианские священнослужи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осто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иско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щен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к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12240">
                      <a:solidFill>
                        <a:srgbClr val="8a8ae7"/>
                      </a:solidFill>
                    </a:lnT>
                    <a:lnB w="5760">
                      <a:solidFill>
                        <a:srgbClr val="8a8ae7"/>
                      </a:solidFill>
                    </a:lnB>
                    <a:solidFill>
                      <a:srgbClr val="8a8a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сульманская община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ам – предв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физ – знающий наизусть Кор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12240">
                      <a:solidFill>
                        <a:srgbClr val="8a8ae7"/>
                      </a:solidFill>
                    </a:lnT>
                    <a:lnB w="5760">
                      <a:solidFill>
                        <a:srgbClr val="8a8ae7"/>
                      </a:solidFill>
                    </a:lnB>
                    <a:solidFill>
                      <a:srgbClr val="8a8a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дийская община - Санг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ма – религиозный 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12240">
                      <a:solidFill>
                        <a:srgbClr val="8a8ae7"/>
                      </a:solidFill>
                    </a:lnT>
                    <a:lnB w="5760">
                      <a:solidFill>
                        <a:srgbClr val="8a8ae7"/>
                      </a:solidFill>
                    </a:lnB>
                    <a:solidFill>
                      <a:srgbClr val="8a8a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12240">
                      <a:solidFill>
                        <a:srgbClr val="8a8ae7"/>
                      </a:solidFill>
                    </a:lnT>
                    <a:lnB w="5760">
                      <a:solidFill>
                        <a:srgbClr val="8a8ae7"/>
                      </a:solidFill>
                    </a:lnB>
                    <a:solidFill>
                      <a:srgbClr val="8a8ae7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Хранители предания в религиях мир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0040" y="1643040"/>
          <a:ext cx="7643880" cy="3732120"/>
        </p:xfrm>
        <a:graphic>
          <a:graphicData uri="http://schemas.openxmlformats.org/drawingml/2006/table">
            <a:tbl>
              <a:tblPr/>
              <a:tblGrid>
                <a:gridCol w="2357640"/>
                <a:gridCol w="2000160"/>
                <a:gridCol w="1571400"/>
                <a:gridCol w="1714680"/>
              </a:tblGrid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слав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5760">
                      <a:solidFill>
                        <a:srgbClr val="8a8ae7"/>
                      </a:solidFill>
                    </a:lnT>
                    <a:lnB w="12240">
                      <a:solidFill>
                        <a:srgbClr val="8a8ae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лам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5760">
                      <a:solidFill>
                        <a:srgbClr val="8a8ae7"/>
                      </a:solidFill>
                    </a:lnT>
                    <a:lnB w="12240">
                      <a:solidFill>
                        <a:srgbClr val="8a8ae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дий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5760">
                      <a:solidFill>
                        <a:srgbClr val="8a8ae7"/>
                      </a:solidFill>
                    </a:lnT>
                    <a:lnB w="12240">
                      <a:solidFill>
                        <a:srgbClr val="8a8ae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удей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5760">
                      <a:solidFill>
                        <a:srgbClr val="8a8ae7"/>
                      </a:solidFill>
                    </a:lnT>
                    <a:lnB w="12240">
                      <a:solidFill>
                        <a:srgbClr val="8a8ae7"/>
                      </a:solidFill>
                    </a:lnB>
                    <a:noFill/>
                  </a:tcPr>
                </a:tc>
              </a:tr>
              <a:tr h="25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истианские священнослужи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осто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иско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щен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к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12240">
                      <a:solidFill>
                        <a:srgbClr val="8a8ae7"/>
                      </a:solidFill>
                    </a:lnT>
                    <a:lnB w="5760">
                      <a:solidFill>
                        <a:srgbClr val="8a8ae7"/>
                      </a:solidFill>
                    </a:lnB>
                    <a:solidFill>
                      <a:srgbClr val="8a8a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сульманская община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ам – предв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физ – знающий наизусть Кор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12240">
                      <a:solidFill>
                        <a:srgbClr val="8a8ae7"/>
                      </a:solidFill>
                    </a:lnT>
                    <a:lnB w="5760">
                      <a:solidFill>
                        <a:srgbClr val="8a8ae7"/>
                      </a:solidFill>
                    </a:lnB>
                    <a:solidFill>
                      <a:srgbClr val="8a8a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дийская община - Санг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ма – религиозный 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12240">
                      <a:solidFill>
                        <a:srgbClr val="8a8ae7"/>
                      </a:solidFill>
                    </a:lnT>
                    <a:lnB w="5760">
                      <a:solidFill>
                        <a:srgbClr val="8a8ae7"/>
                      </a:solidFill>
                    </a:lnB>
                    <a:solidFill>
                      <a:srgbClr val="8a8a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дрецы иуде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в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8ae7"/>
                      </a:solidFill>
                    </a:lnL>
                    <a:lnR w="5760">
                      <a:solidFill>
                        <a:srgbClr val="8a8ae7"/>
                      </a:solidFill>
                    </a:lnR>
                    <a:lnT w="12240">
                      <a:solidFill>
                        <a:srgbClr val="8a8ae7"/>
                      </a:solidFill>
                    </a:lnT>
                    <a:lnB w="5760">
                      <a:solidFill>
                        <a:srgbClr val="8a8ae7"/>
                      </a:solidFill>
                    </a:lnB>
                    <a:solidFill>
                      <a:srgbClr val="8a8ae7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82152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ffff"/>
                </a:solidFill>
                <a:latin typeface="Goudy Old Style"/>
              </a:rPr>
              <a:t>Человек </a:t>
            </a:r>
            <a:br>
              <a:rPr sz="3800"/>
            </a:br>
            <a:r>
              <a:rPr b="1" i="1" lang="ru-RU" sz="3800" spc="-1" strike="noStrike">
                <a:solidFill>
                  <a:srgbClr val="ffffff"/>
                </a:solidFill>
                <a:latin typeface="Goudy Old Style"/>
              </a:rPr>
              <a:t>в религиозных традициях мир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066320" y="4000680"/>
            <a:ext cx="662940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oudy Old Style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Goudy Old Style"/>
              </a:rPr>
              <a:t>Урок № 9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6760" y="785520"/>
            <a:ext cx="79218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E:\Татарск\проекты\основы МР\РК1Харитонова И.В. Кириллова М.М\Иллюстрации\В православном храме.jpg"/>
          <p:cNvPicPr/>
          <p:nvPr/>
        </p:nvPicPr>
        <p:blipFill>
          <a:blip r:embed="rId1"/>
          <a:stretch/>
        </p:blipFill>
        <p:spPr>
          <a:xfrm>
            <a:off x="0" y="214200"/>
            <a:ext cx="3643200" cy="3086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E:\Татарск\проекты\основы МР\РК1Харитонова И.В. Кириллова М.М\Иллюстрации\Молитва в православии.jpg"/>
          <p:cNvPicPr/>
          <p:nvPr/>
        </p:nvPicPr>
        <p:blipFill>
          <a:blip r:embed="rId2"/>
          <a:stretch/>
        </p:blipFill>
        <p:spPr>
          <a:xfrm>
            <a:off x="0" y="3000240"/>
            <a:ext cx="404820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E:\Татарск\проекты\основы МР\РК1Харитонова И.В. Кириллова М.М\Иллюстрации\Молящаяся.jpg"/>
          <p:cNvPicPr/>
          <p:nvPr/>
        </p:nvPicPr>
        <p:blipFill>
          <a:blip r:embed="rId3"/>
          <a:stretch/>
        </p:blipFill>
        <p:spPr>
          <a:xfrm>
            <a:off x="6072120" y="1428840"/>
            <a:ext cx="3357720" cy="4417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E:\Татарск\проекты\основы МР\РК1Харитонова И.В. Кириллова М.М\Иллюстрации\Девочка молится.jpg"/>
          <p:cNvPicPr/>
          <p:nvPr/>
        </p:nvPicPr>
        <p:blipFill>
          <a:blip r:embed="rId4"/>
          <a:stretch/>
        </p:blipFill>
        <p:spPr>
          <a:xfrm>
            <a:off x="3786120" y="214200"/>
            <a:ext cx="2152800" cy="2857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E:\Татарск\проекты\основы МР\РК1Харитонова И.В. Кириллова М.М\Иллюстрации\Молящаяся девушка.jpg"/>
          <p:cNvPicPr/>
          <p:nvPr/>
        </p:nvPicPr>
        <p:blipFill>
          <a:blip r:embed="rId5"/>
          <a:stretch/>
        </p:blipFill>
        <p:spPr>
          <a:xfrm>
            <a:off x="4000680" y="3643200"/>
            <a:ext cx="2219040" cy="2894040"/>
          </a:xfrm>
          <a:prstGeom prst="rect">
            <a:avLst/>
          </a:prstGeom>
          <a:ln w="0">
            <a:noFill/>
          </a:ln>
        </p:spPr>
      </p:pic>
      <p:pic>
        <p:nvPicPr>
          <p:cNvPr id="110" name="[Fast-Mp3.ru]_hor_tureckogo_otche_nash_[Fast-Mp3.ru]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8996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Вопросы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то вы услышали? Как называется это музыкальное произвед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изображения вы видели на экран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 вы думаете, что такое молитв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Что такое молитва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28760" y="2286000"/>
            <a:ext cx="8501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загов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обращение к Бог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общение с иным мир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09:58:57Z</dcterms:created>
  <dc:creator>IG</dc:creator>
  <dc:description/>
  <dc:language>en-US</dc:language>
  <cp:lastModifiedBy>HARd</cp:lastModifiedBy>
  <dcterms:modified xsi:type="dcterms:W3CDTF">2010-04-29T03:55:18Z</dcterms:modified>
  <cp:revision>140</cp:revision>
  <dc:subject/>
  <dc:title>Развитие информационно-коммуникативных компетенций учащихся</dc:title>
</cp:coreProperties>
</file>