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6.jpeg" ContentType="image/jpeg"/>
  <Override PartName="/ppt/media/image19.jpeg" ContentType="image/jpeg"/>
  <Override PartName="/ppt/media/image13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800B-7FDE-4046-BD44-6C5691A7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B2B2-D5E6-42D6-AE98-AC0A94A8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CC56-C0C6-4DBD-BE7D-408CCAC4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4C5E-142A-4287-97A2-6EBA604C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CDA8-3DD4-47C6-AFFB-23099E6A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2609-F971-4E2A-9687-00B05CD1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EE73-281B-459D-9237-D9F9536E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D7A4-3B63-45A9-8E20-1685BEA0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0CA0-49D9-4002-BB46-EB8C6CD8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33C4-8277-49BF-B939-72F5E049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0967-9B97-46DB-A75C-B7BEDFD3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1AA-2374-4BA7-8CAD-5C6EBDDF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1C38-C5E2-4D10-A83B-3AA4B8EB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0DFD-BC26-482C-B537-0F7F5F14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90A1-FEAC-4438-98AC-DACCB485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9B40-1EA8-48AE-9A05-E10A8461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BC09-FAAE-406C-A8C6-95479146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A7BC-1793-46AF-9015-F4A8DBFA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833A-0B78-479B-AED4-25E21E61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30A7-6839-47E3-9C78-354FE4D1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920-8F03-4BCD-B0EF-6C438475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3DDE-6B48-4C86-BEFE-7AC90E92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DBC7-8D86-488E-AC12-CAE1A0AE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810F-AD08-48D4-98D4-AD756735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6661-206F-4655-BE02-C174F85F8A0C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6308-FB92-44A0-91F2-FBD5D18E5A4B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390840" y="1676520"/>
            <a:ext cx="544824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ок Окружающего мира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: Кровеносная система.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класс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: Дьячкова Ирина Сергеевна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1680" y="1981080"/>
            <a:ext cx="1866600" cy="4530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760560" cy="3730680"/>
          </a:xfrm>
          <a:prstGeom prst="rect">
            <a:avLst/>
          </a:prstGeom>
          <a:ln w="57240">
            <a:solidFill>
              <a:srgbClr val="ff7c5d"/>
            </a:solidFill>
            <a:miter/>
          </a:ln>
        </p:spPr>
      </p:pic>
      <p:pic>
        <p:nvPicPr>
          <p:cNvPr id="227" name="" descr="Эритроциты похожи на сплюснутые с боков диски"/>
          <p:cNvPicPr/>
          <p:nvPr/>
        </p:nvPicPr>
        <p:blipFill>
          <a:blip r:embed="rId2"/>
          <a:stretch/>
        </p:blipFill>
        <p:spPr>
          <a:xfrm>
            <a:off x="5105520" y="2819520"/>
            <a:ext cx="3657600" cy="3809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228" name=""/>
          <p:cNvSpPr/>
          <p:nvPr/>
        </p:nvSpPr>
        <p:spPr>
          <a:xfrm flipH="1">
            <a:off x="2361960" y="762120"/>
            <a:ext cx="3352680" cy="91440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810400" y="390600"/>
            <a:ext cx="2647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ритроциты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760920" cy="3730680"/>
          </a:xfrm>
          <a:prstGeom prst="rect">
            <a:avLst/>
          </a:prstGeom>
          <a:ln w="57240">
            <a:solidFill>
              <a:srgbClr val="ff7c5d"/>
            </a:solidFill>
            <a:miter/>
          </a:ln>
        </p:spPr>
      </p:pic>
      <p:pic>
        <p:nvPicPr>
          <p:cNvPr id="231" name="Picture 3" descr="C:\Documents and Settings\Ирина\Мои документы\школьные документы\уроки\окр. мир\человек\кровь\бел.jpg"/>
          <p:cNvPicPr/>
          <p:nvPr/>
        </p:nvPicPr>
        <p:blipFill>
          <a:blip r:embed="rId2"/>
          <a:stretch/>
        </p:blipFill>
        <p:spPr>
          <a:xfrm>
            <a:off x="5029200" y="3276720"/>
            <a:ext cx="3581280" cy="33526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H="1">
            <a:off x="3505320" y="914400"/>
            <a:ext cx="2286000" cy="68580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819760" y="533520"/>
            <a:ext cx="2409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йкоциты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3760560" cy="3730680"/>
          </a:xfrm>
          <a:prstGeom prst="rect">
            <a:avLst/>
          </a:prstGeom>
          <a:ln w="76320">
            <a:solidFill>
              <a:srgbClr val="ff5050"/>
            </a:solidFill>
            <a:miter/>
          </a:ln>
        </p:spPr>
      </p:pic>
      <p:pic>
        <p:nvPicPr>
          <p:cNvPr id="235" name="Picture 2" descr="C:\Documents and Settings\Ирина\Мои документы\школьные документы\уроки\окр. мир\человек\кровь\кровь.gif"/>
          <p:cNvPicPr/>
          <p:nvPr/>
        </p:nvPicPr>
        <p:blipFill>
          <a:blip r:embed="rId2"/>
          <a:stretch/>
        </p:blipFill>
        <p:spPr>
          <a:xfrm>
            <a:off x="5029200" y="3581280"/>
            <a:ext cx="3790800" cy="30672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flipH="1">
            <a:off x="2438280" y="1600200"/>
            <a:ext cx="2819520" cy="99072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410080" y="914400"/>
            <a:ext cx="25909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омбоциты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14400" y="5335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я чего делают анализ крови?</a:t>
            </a:r>
            <a:endParaRPr b="0" lang="en-US" sz="1800" spc="1" strike="noStrike">
              <a:ln w="0">
                <a:noFill/>
              </a:ln>
              <a:solidFill>
                <a:srgbClr val="66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800600" y="2438280"/>
            <a:ext cx="3657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анализу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ови  видно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доров или болен человек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876920" y="1641600"/>
            <a:ext cx="3179520" cy="45306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876920" y="247968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86600" y="2556000"/>
            <a:ext cx="8380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62920" y="3394080"/>
            <a:ext cx="8380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1752480"/>
            <a:ext cx="2971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Наше тело пронизано густой сетью кровеносных сосудов. Одни сосуды широкие плотные. Другие очень узкие, что через них не пропустить и волос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2970360" cy="39942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57200" y="2133720"/>
            <a:ext cx="465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Главный двигатель кров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297180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ебольшой  мышечный орга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2280" y="4191120"/>
            <a:ext cx="5105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46483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а сутки прокачивает 10.000 л кров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52280" y="550800"/>
            <a:ext cx="8839440" cy="6078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0880" y="45720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971800" y="533520"/>
            <a:ext cx="3505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серт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66680" y="2382840"/>
            <a:ext cx="4953240" cy="3408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 – знал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 - новое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 – не понял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124080" y="2743200"/>
            <a:ext cx="2667240" cy="7621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2057040" y="2666520"/>
            <a:ext cx="1143000" cy="30492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3429000" y="1066320"/>
            <a:ext cx="380880" cy="167652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105520" y="1676160"/>
            <a:ext cx="1447560" cy="106668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85640" y="3429000"/>
            <a:ext cx="1066680" cy="76212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791320" y="3200400"/>
            <a:ext cx="838080" cy="7632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2133720"/>
            <a:ext cx="1828800" cy="76176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80880"/>
            <a:ext cx="1828800" cy="68580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00800" y="1143000"/>
            <a:ext cx="2209680" cy="68580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29400" y="2971800"/>
            <a:ext cx="2057400" cy="60948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4191120"/>
            <a:ext cx="1904760" cy="68580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19810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00600" y="3581280"/>
            <a:ext cx="152280" cy="83844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4419720"/>
            <a:ext cx="2286000" cy="60948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09120" y="2909880"/>
            <a:ext cx="304920" cy="29052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2909880"/>
            <a:ext cx="304560" cy="29052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200400"/>
            <a:ext cx="114300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95280" y="3200400"/>
            <a:ext cx="114300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676160" y="685800"/>
            <a:ext cx="685800" cy="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981080" y="838080"/>
            <a:ext cx="457200" cy="38124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742840" y="1066680"/>
            <a:ext cx="228600" cy="38124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990720"/>
            <a:ext cx="380880" cy="38088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191120" y="762120"/>
            <a:ext cx="533160" cy="15228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457200"/>
            <a:ext cx="1219320" cy="45720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1219320"/>
            <a:ext cx="1143000" cy="30456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33720" y="1447920"/>
            <a:ext cx="1143000" cy="30456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33920" y="1371600"/>
            <a:ext cx="114300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724280" y="838080"/>
            <a:ext cx="114300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943600" y="1614600"/>
            <a:ext cx="533520" cy="21420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381880" y="1752480"/>
            <a:ext cx="152640" cy="30492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6400800" y="1752480"/>
            <a:ext cx="457200" cy="38124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391520" y="1828800"/>
            <a:ext cx="0" cy="53352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24280" y="1677960"/>
            <a:ext cx="1219320" cy="44280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2178000"/>
            <a:ext cx="114300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2362320"/>
            <a:ext cx="1143000" cy="30456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96080" y="2057400"/>
            <a:ext cx="129564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43800" y="3581280"/>
            <a:ext cx="0" cy="60984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552720" y="3429000"/>
            <a:ext cx="228600" cy="30492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638680" y="3733920"/>
            <a:ext cx="1295640" cy="53316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848720" y="3886200"/>
            <a:ext cx="114300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4267080"/>
            <a:ext cx="1295280" cy="5335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29600" y="3581280"/>
            <a:ext cx="228600" cy="30492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56840" y="4343400"/>
            <a:ext cx="685800" cy="30492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914040" y="4800600"/>
            <a:ext cx="304920" cy="38088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600200" y="4876920"/>
            <a:ext cx="76320" cy="45720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19520" y="4648320"/>
            <a:ext cx="304560" cy="38088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09680" y="4876920"/>
            <a:ext cx="152640" cy="53316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4662360"/>
            <a:ext cx="106668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5181480"/>
            <a:ext cx="114300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14400" y="5410080"/>
            <a:ext cx="114300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057400" y="5410080"/>
            <a:ext cx="114300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5029200"/>
            <a:ext cx="114300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86400" y="5029200"/>
            <a:ext cx="304920" cy="45720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4343040" y="5029200"/>
            <a:ext cx="304920" cy="45720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57600" y="5486400"/>
            <a:ext cx="106668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86400" y="5486400"/>
            <a:ext cx="106668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581280" y="2971800"/>
            <a:ext cx="1905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рганизм человек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705720" y="1295280"/>
            <a:ext cx="1676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щеварительная система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590920" y="533520"/>
            <a:ext cx="14475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ыхательная система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0880" y="2286000"/>
            <a:ext cx="1524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орно - двигательная система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219320" y="4343400"/>
            <a:ext cx="14475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рганы чувств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343400" y="4495680"/>
            <a:ext cx="16002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овеносная система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934320" y="3124080"/>
            <a:ext cx="14475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рвная система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33520" y="609480"/>
            <a:ext cx="9144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осовая полость</a:t>
            </a:r>
            <a:endParaRPr b="1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295280" y="1295280"/>
            <a:ext cx="9144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ртань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286000" y="1523880"/>
            <a:ext cx="7621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ахея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86200" y="1447920"/>
            <a:ext cx="9144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ронхи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952880" y="914400"/>
            <a:ext cx="6858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ёгкие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876920" y="1752480"/>
            <a:ext cx="914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товая полость</a:t>
            </a:r>
            <a:endParaRPr b="1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19920" y="2286000"/>
            <a:ext cx="7617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щевод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010280" y="2438280"/>
            <a:ext cx="83844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елудок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7924680" y="2133720"/>
            <a:ext cx="9144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ишечник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28600" y="3276720"/>
            <a:ext cx="6858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елет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47920" y="3276720"/>
            <a:ext cx="8380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ышцы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28600" y="4724280"/>
            <a:ext cx="60948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аза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28600" y="5257800"/>
            <a:ext cx="6094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ши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143000" y="5486400"/>
            <a:ext cx="6858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ос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286000" y="5486400"/>
            <a:ext cx="6858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зык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971800" y="5105520"/>
            <a:ext cx="6858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жа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809880" y="5562720"/>
            <a:ext cx="7621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рдце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715000" y="5562720"/>
            <a:ext cx="6858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суды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5791320" y="3886200"/>
            <a:ext cx="9903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ловной мозг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8077320" y="3962520"/>
            <a:ext cx="7617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рвы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162920" y="4343400"/>
            <a:ext cx="914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инной мозг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038840" cy="45306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1523880" y="38088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ктическая работа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724280" y="2286000"/>
            <a:ext cx="37958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ульс –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астота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рдечных сокращени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229600" cy="6019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1532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224080" y="257040"/>
            <a:ext cx="469584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следование частоты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иения сердца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31520" y="1908000"/>
            <a:ext cx="30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Измерение ПУЛЬС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Текст 2"/>
          <p:cNvSpPr/>
          <p:nvPr/>
        </p:nvSpPr>
        <p:spPr>
          <a:xfrm>
            <a:off x="500040" y="214308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в состоянии поко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Содержимое 3"/>
          <p:cNvSpPr/>
          <p:nvPr/>
        </p:nvSpPr>
        <p:spPr>
          <a:xfrm>
            <a:off x="500040" y="2928960"/>
            <a:ext cx="4040280" cy="21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У взрослого челове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60-70 ударов в минут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У дете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80-90 ударов в минут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Текст 4"/>
          <p:cNvSpPr/>
          <p:nvPr/>
        </p:nvSpPr>
        <p:spPr>
          <a:xfrm>
            <a:off x="4643280" y="2143080"/>
            <a:ext cx="4042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после физической нагруз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Прямоугольник 7"/>
          <p:cNvSpPr/>
          <p:nvPr/>
        </p:nvSpPr>
        <p:spPr>
          <a:xfrm>
            <a:off x="500040" y="5429160"/>
            <a:ext cx="8215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Вывод: </a:t>
            </a:r>
            <a:r>
              <a:rPr b="1" lang="en-US" sz="2400" spc="-1" strike="noStrike">
                <a:solidFill>
                  <a:srgbClr val="800000"/>
                </a:solidFill>
                <a:latin typeface="Calibri"/>
              </a:rPr>
              <a:t>Когда ты выполняешь физическую нагрузку, сердце бьется в ускоренном темп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Содержимое 3"/>
          <p:cNvSpPr/>
          <p:nvPr/>
        </p:nvSpPr>
        <p:spPr>
          <a:xfrm>
            <a:off x="4857840" y="2928960"/>
            <a:ext cx="4039920" cy="21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У взрослого челове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80-90 ударов в минут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У дете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90-100 ударов в минут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600200" y="380880"/>
            <a:ext cx="6324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рзина Идей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038320" y="1752480"/>
            <a:ext cx="5657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надо укреплять сердце?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6248520" cy="3657600"/>
          </a:xfrm>
          <a:prstGeom prst="rect">
            <a:avLst/>
          </a:prstGeom>
          <a:ln w="3240">
            <a:solidFill>
              <a:srgbClr val="3333ff"/>
            </a:solidFill>
            <a:miter/>
          </a:ln>
        </p:spPr>
      </p:pic>
    </p:spTree>
  </p:cSld>
  <p:transition spd="slow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2654280" cy="26672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3429000" y="4419720"/>
            <a:ext cx="2514600" cy="19810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1600200" y="533520"/>
            <a:ext cx="4890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любит сердце!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762120" y="1752480"/>
            <a:ext cx="9903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н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86200" y="396252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нятие спортом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6172200" y="2286000"/>
            <a:ext cx="2438280" cy="23623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6629400" y="1828800"/>
            <a:ext cx="16765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доровое питание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772400" cy="60199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8077320" y="571500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92504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4000" y="184464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03640" y="184464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0920" y="1989000"/>
            <a:ext cx="5545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5 минут смеха ежедневно –  очень полезно для сосудистой систем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520" y="373392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мех снижает риск сердечных болезн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143000" y="463680"/>
            <a:ext cx="7272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мех   укрепляет   сердце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300720" y="1792440"/>
            <a:ext cx="2592360" cy="1689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547640" y="23493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6012000" y="4365720"/>
            <a:ext cx="2736720" cy="1449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3780000" y="2205000"/>
            <a:ext cx="208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3492360" y="3284640"/>
            <a:ext cx="2016360" cy="20890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684360" y="2997360"/>
            <a:ext cx="2438280" cy="17254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1835280" y="404640"/>
            <a:ext cx="5689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редные привычки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63640" y="25653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09480" y="1981080"/>
            <a:ext cx="2419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лкоголизм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581280" y="2514600"/>
            <a:ext cx="1685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рение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095880" y="3505320"/>
            <a:ext cx="2381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ркотики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828800" y="2057400"/>
            <a:ext cx="55627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  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рно ли что.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523880" y="304920"/>
            <a:ext cx="4267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нквейн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1676520"/>
            <a:ext cx="8153280" cy="459720"/>
          </a:xfrm>
          <a:prstGeom prst="rect">
            <a:avLst/>
          </a:prstGeom>
          <a:solidFill>
            <a:srgbClr val="f8fa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1 –я  строка (одно слово) – существительное, те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2819520"/>
            <a:ext cx="8153280" cy="459720"/>
          </a:xfrm>
          <a:prstGeom prst="rect">
            <a:avLst/>
          </a:prstGeom>
          <a:solidFill>
            <a:srgbClr val="9543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2 –я  строка (два слова) – прилагательные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3809880"/>
            <a:ext cx="8153280" cy="459720"/>
          </a:xfrm>
          <a:prstGeom prst="rect">
            <a:avLst/>
          </a:prstGeom>
          <a:solidFill>
            <a:srgbClr val="b3d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 –я  строка (три слова) – глагол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4876920"/>
            <a:ext cx="8153280" cy="459720"/>
          </a:xfrm>
          <a:prstGeom prst="rect">
            <a:avLst/>
          </a:prstGeom>
          <a:solidFill>
            <a:srgbClr val="b6c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Times New Roman"/>
              </a:rPr>
              <a:t>4 –я  строка -  предложение из четырёх слов, пословиц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" y="5911920"/>
            <a:ext cx="8153280" cy="825480"/>
          </a:xfrm>
          <a:prstGeom prst="rect">
            <a:avLst/>
          </a:prstGeom>
          <a:solidFill>
            <a:srgbClr val="fcd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5 –я  строка (одно слово) – существительное, синоним первому слову. Вывод, заключе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705720" y="200160"/>
            <a:ext cx="1509480" cy="1325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76312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Text Box 9"/>
          <p:cNvSpPr/>
          <p:nvPr/>
        </p:nvSpPr>
        <p:spPr>
          <a:xfrm>
            <a:off x="4143240" y="192888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Я понял и могу объяснить другим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Line 12"/>
          <p:cNvSpPr/>
          <p:nvPr/>
        </p:nvSpPr>
        <p:spPr>
          <a:xfrm>
            <a:off x="2987640" y="4797360"/>
            <a:ext cx="360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Line 13"/>
          <p:cNvSpPr/>
          <p:nvPr/>
        </p:nvSpPr>
        <p:spPr>
          <a:xfrm>
            <a:off x="3059280" y="2708280"/>
            <a:ext cx="360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Line 14"/>
          <p:cNvSpPr/>
          <p:nvPr/>
        </p:nvSpPr>
        <p:spPr>
          <a:xfrm>
            <a:off x="3059280" y="1125360"/>
            <a:ext cx="360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4071960" y="442908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Остались затруднен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Сердце 14"/>
          <p:cNvSpPr/>
          <p:nvPr/>
        </p:nvSpPr>
        <p:spPr>
          <a:xfrm>
            <a:off x="500040" y="1643040"/>
            <a:ext cx="2857680" cy="1914480"/>
          </a:xfrm>
          <a:prstGeom prst="pi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Сердце 16"/>
          <p:cNvSpPr/>
          <p:nvPr/>
        </p:nvSpPr>
        <p:spPr>
          <a:xfrm>
            <a:off x="428760" y="4000680"/>
            <a:ext cx="2857320" cy="1914480"/>
          </a:xfrm>
          <a:prstGeom prst="pie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353880" y="353880"/>
            <a:ext cx="804960" cy="9385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2514600" y="304920"/>
            <a:ext cx="4267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цени себя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2119320" y="1066680"/>
            <a:ext cx="49053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РЕГИТЕ ЗДОРОВЬЕ! 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057400" y="2685960"/>
            <a:ext cx="49053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РЕГИТЕ СЕРДЦЕ!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057400" y="4191120"/>
            <a:ext cx="51195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УДЬТЕ ЗДОРОВЫ И СЧАСТЛИВЫ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371600" y="533520"/>
            <a:ext cx="62485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33480" y="2906640"/>
            <a:ext cx="2800440" cy="288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РАБОТУ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УРОКЕ!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5029200" y="3124080"/>
            <a:ext cx="3505320" cy="3000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76312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24080" y="2743200"/>
            <a:ext cx="2667240" cy="7621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2057040" y="2666520"/>
            <a:ext cx="1143000" cy="30492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429000" y="1066320"/>
            <a:ext cx="380880" cy="167652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105520" y="1676160"/>
            <a:ext cx="1447560" cy="106668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285640" y="3429000"/>
            <a:ext cx="1066680" cy="76212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3200400"/>
            <a:ext cx="838080" cy="7632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133720"/>
            <a:ext cx="1828800" cy="76176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380880"/>
            <a:ext cx="1828800" cy="68580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1143000"/>
            <a:ext cx="2209680" cy="68580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2971800"/>
            <a:ext cx="2057400" cy="60948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4191120"/>
            <a:ext cx="1904760" cy="68580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9810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3581280"/>
            <a:ext cx="152280" cy="83844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4419720"/>
            <a:ext cx="2286000" cy="60948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09120" y="2909880"/>
            <a:ext cx="304920" cy="29052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2909880"/>
            <a:ext cx="304560" cy="29052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200400"/>
            <a:ext cx="114300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3200400"/>
            <a:ext cx="114300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676160" y="685800"/>
            <a:ext cx="685800" cy="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981080" y="838080"/>
            <a:ext cx="457200" cy="38124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742840" y="1066680"/>
            <a:ext cx="228600" cy="38124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990720"/>
            <a:ext cx="380880" cy="38088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762120"/>
            <a:ext cx="533160" cy="15228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57200"/>
            <a:ext cx="1219320" cy="45720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219320"/>
            <a:ext cx="1143000" cy="30456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1447920"/>
            <a:ext cx="1143000" cy="30456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33920" y="1371600"/>
            <a:ext cx="114300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838080"/>
            <a:ext cx="114300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943600" y="1614600"/>
            <a:ext cx="533520" cy="21420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81880" y="1752480"/>
            <a:ext cx="152640" cy="30492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400800" y="1752480"/>
            <a:ext cx="457200" cy="38124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391520" y="1828800"/>
            <a:ext cx="0" cy="53352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677960"/>
            <a:ext cx="1219320" cy="44280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2178000"/>
            <a:ext cx="114300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2362320"/>
            <a:ext cx="1143000" cy="30456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057400"/>
            <a:ext cx="129564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3581280"/>
            <a:ext cx="0" cy="60984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552720" y="3429000"/>
            <a:ext cx="228600" cy="30492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3733920"/>
            <a:ext cx="1295640" cy="53316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886200"/>
            <a:ext cx="114300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34320" y="4267080"/>
            <a:ext cx="1295280" cy="5335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29600" y="3581280"/>
            <a:ext cx="228600" cy="30492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56840" y="4343400"/>
            <a:ext cx="685800" cy="30492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914040" y="4800600"/>
            <a:ext cx="304920" cy="38088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600200" y="4876920"/>
            <a:ext cx="76320" cy="45720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4648320"/>
            <a:ext cx="304560" cy="38088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876920"/>
            <a:ext cx="152640" cy="53316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662360"/>
            <a:ext cx="106668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181480"/>
            <a:ext cx="114300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5410080"/>
            <a:ext cx="114300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5410080"/>
            <a:ext cx="114300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5029200"/>
            <a:ext cx="114300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4952880"/>
            <a:ext cx="228600" cy="45720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410080"/>
            <a:ext cx="106668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419360" y="5029200"/>
            <a:ext cx="152280" cy="38088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57600" y="5410080"/>
            <a:ext cx="1066680" cy="304920"/>
          </a:xfrm>
          <a:prstGeom prst="ellipse">
            <a:avLst/>
          </a:prstGeom>
          <a:solidFill>
            <a:srgbClr val="a9bee9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81280" y="2971800"/>
            <a:ext cx="1905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рганизм человек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705720" y="1295280"/>
            <a:ext cx="1676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щеварительная система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590920" y="533520"/>
            <a:ext cx="14475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ыхательная система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0880" y="2286000"/>
            <a:ext cx="1524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орно - двигательная система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219320" y="4343400"/>
            <a:ext cx="14475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рганы чувств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4495680"/>
            <a:ext cx="16002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овеносная система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934320" y="3124080"/>
            <a:ext cx="14475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рвная система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33520" y="609480"/>
            <a:ext cx="9144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осовая полость</a:t>
            </a:r>
            <a:endParaRPr b="1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95280" y="1295280"/>
            <a:ext cx="9144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ртань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86000" y="1523880"/>
            <a:ext cx="7621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ахея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86200" y="1447920"/>
            <a:ext cx="9144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ронхи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952880" y="914400"/>
            <a:ext cx="6858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ёгкие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876920" y="1752480"/>
            <a:ext cx="914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товая полость</a:t>
            </a:r>
            <a:endParaRPr b="1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19920" y="2286000"/>
            <a:ext cx="7617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щевод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010280" y="2438280"/>
            <a:ext cx="83844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елудок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924680" y="2133720"/>
            <a:ext cx="9144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ишечник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28600" y="3276720"/>
            <a:ext cx="6858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елет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447920" y="3276720"/>
            <a:ext cx="8380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ышцы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28600" y="4724280"/>
            <a:ext cx="60948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аза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28600" y="5257800"/>
            <a:ext cx="6094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ши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43000" y="5486400"/>
            <a:ext cx="6858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ос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0" y="5486400"/>
            <a:ext cx="6858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зык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971800" y="5105520"/>
            <a:ext cx="6858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жа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91320" y="3886200"/>
            <a:ext cx="9903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ловной мозг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077320" y="3962520"/>
            <a:ext cx="7617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рвы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162920" y="4343400"/>
            <a:ext cx="914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инной мозг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457200"/>
            <a:ext cx="2362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ЕЛЬ: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066680" y="1828800"/>
            <a:ext cx="67820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*узнать что такое кровь;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</a:t>
            </a:r>
            <a:r>
              <a:rPr b="1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*познакомиться со строением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работой кровеносной системы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8080" y="380880"/>
            <a:ext cx="7620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овь -  носительница жизни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1676160" cy="2514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429000" y="205740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Всего в организме человека около 5 литров крови. У детей её немного меньше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038480" y="1676520"/>
            <a:ext cx="4572000" cy="4572000"/>
          </a:xfrm>
          <a:prstGeom prst="rect">
            <a:avLst/>
          </a:prstGeom>
          <a:ln w="57240">
            <a:solidFill>
              <a:srgbClr val="ff7c5d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228600" y="1981080"/>
            <a:ext cx="2895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Мы видим прозрачную жидкость  - это плазма, а в плазме находятся много разных клеток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895480" y="4038120"/>
            <a:ext cx="1447920" cy="7621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419120" y="4657680"/>
            <a:ext cx="147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азма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057400" y="457200"/>
            <a:ext cx="4433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ше исследовани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50880" y="2438280"/>
            <a:ext cx="6040440" cy="3692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1609560" y="1295280"/>
            <a:ext cx="59248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же входит в состав крови?</a:t>
            </a:r>
            <a:endParaRPr b="0" lang="en-US" sz="1800" spc="1" strike="noStrike">
              <a:ln w="0">
                <a:noFill/>
              </a:ln>
              <a:solidFill>
                <a:srgbClr val="66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02-26T10:41:53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