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1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  <p:custShowLst>
    <p:custShow name="Произвольный показ 1" id="0">
      <p:sldLst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2A4-61BD-4C65-BE60-7BBB5259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A1D2-34D9-43EF-ADEC-99F1BDF5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07A-1954-48CC-B277-433FFD25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037-7E26-4CB8-A2E9-1C6A57AF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0C737-CE4D-416D-A7DE-33228CC8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98642-3F11-48FA-A8A2-9803D6D8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17389-F50E-4FF2-8F70-E5E84679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6DB7D-2F0E-4E2E-8EE9-57FB8576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9C72C-75B6-4171-A65E-9C0C2BC6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AA5D8-FD15-4063-BF1D-B0AB72F5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E4EEF-FF0F-4ABB-BAA2-F9CE3C7D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1C8-6803-4B4E-BEBD-ADEB88E2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2CFDE-CC81-41F5-961A-B0AC0FBE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6E858-0123-44FE-9174-1DE1EBBE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4D479-0B41-4FA6-B389-D6F98B6A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6D1C0-7D9A-424D-89DA-A38E6B44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191E0-1E60-42D5-ACF9-EB2B7710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867-9727-48B4-A181-A4ADBE5B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9514-BDCD-42DB-B872-FD1E532D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CE2-8AEC-4A38-A734-CD19E420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20A1-FAD2-4834-A934-5D1A5A22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3B2-4202-4325-8299-4DBA8D79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0A5-FB7D-4B1D-8E34-91744BC6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9A1-1454-4788-830B-8C7321F7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CDAD-B877-457A-8126-1DB837AD8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5118-123A-4F84-9849-AEAA3E50C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3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10.xml"/><Relationship Id="rId4" Type="http://schemas.openxmlformats.org/officeDocument/2006/relationships/slide" Target="slide23.xml"/><Relationship Id="rId5" Type="http://schemas.openxmlformats.org/officeDocument/2006/relationships/slide" Target="slide10.xm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10.xml"/><Relationship Id="rId4" Type="http://schemas.openxmlformats.org/officeDocument/2006/relationships/slide" Target="slide23.xml"/><Relationship Id="rId5" Type="http://schemas.openxmlformats.org/officeDocument/2006/relationships/slide" Target="slide10.xm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23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6.png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23.xml"/><Relationship Id="rId4" Type="http://schemas.openxmlformats.org/officeDocument/2006/relationships/slide" Target="slide10.xml"/><Relationship Id="rId5" Type="http://schemas.openxmlformats.org/officeDocument/2006/relationships/image" Target="../media/image3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image" Target="../media/image7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23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23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23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slide" Target="slide35.xml"/><Relationship Id="rId4" Type="http://schemas.openxmlformats.org/officeDocument/2006/relationships/slide" Target="slide36.xml"/><Relationship Id="rId5" Type="http://schemas.openxmlformats.org/officeDocument/2006/relationships/slide" Target="slide36.xml"/><Relationship Id="rId6" Type="http://schemas.openxmlformats.org/officeDocument/2006/relationships/slide" Target="slide37.xml"/><Relationship Id="rId7" Type="http://schemas.openxmlformats.org/officeDocument/2006/relationships/slide" Target="slide38.xml"/><Relationship Id="rId8" Type="http://schemas.openxmlformats.org/officeDocument/2006/relationships/slide" Target="slide39.xml"/><Relationship Id="rId9" Type="http://schemas.openxmlformats.org/officeDocument/2006/relationships/slide" Target="slide40.xml"/><Relationship Id="rId10" Type="http://schemas.openxmlformats.org/officeDocument/2006/relationships/slide" Target="slide41.xml"/><Relationship Id="rId11" Type="http://schemas.openxmlformats.org/officeDocument/2006/relationships/slide" Target="slide42.xml"/><Relationship Id="rId12" Type="http://schemas.openxmlformats.org/officeDocument/2006/relationships/slide" Target="slide43.xml"/><Relationship Id="rId13" Type="http://schemas.openxmlformats.org/officeDocument/2006/relationships/slide" Target="slide33.xml"/><Relationship Id="rId14" Type="http://schemas.openxmlformats.org/officeDocument/2006/relationships/slide" Target="slide28.xml"/><Relationship Id="rId15" Type="http://schemas.openxmlformats.org/officeDocument/2006/relationships/slide" Target="slide44.xml"/><Relationship Id="rId16" Type="http://schemas.openxmlformats.org/officeDocument/2006/relationships/slide" Target="slide25.xml"/><Relationship Id="rId17" Type="http://schemas.openxmlformats.org/officeDocument/2006/relationships/slide" Target="slide29.xml"/><Relationship Id="rId18" Type="http://schemas.openxmlformats.org/officeDocument/2006/relationships/slide" Target="slide27.xml"/><Relationship Id="rId19" Type="http://schemas.openxmlformats.org/officeDocument/2006/relationships/slide" Target="slide26.xml"/><Relationship Id="rId20" Type="http://schemas.openxmlformats.org/officeDocument/2006/relationships/slide" Target="slide24.xml"/><Relationship Id="rId21" Type="http://schemas.openxmlformats.org/officeDocument/2006/relationships/slide" Target="slide31.xml"/><Relationship Id="rId22" Type="http://schemas.openxmlformats.org/officeDocument/2006/relationships/slide" Target="slide30.xml"/><Relationship Id="rId23" Type="http://schemas.openxmlformats.org/officeDocument/2006/relationships/slide" Target="slide32.xml"/><Relationship Id="rId24" Type="http://schemas.openxmlformats.org/officeDocument/2006/relationships/slide" Target="slide45.xml"/><Relationship Id="rId25" Type="http://schemas.openxmlformats.org/officeDocument/2006/relationships/slide" Target="slide46.xml"/><Relationship Id="rId26" Type="http://schemas.openxmlformats.org/officeDocument/2006/relationships/slide" Target="slide47.xml"/><Relationship Id="rId27" Type="http://schemas.openxmlformats.org/officeDocument/2006/relationships/slide" Target="slide47.xml"/><Relationship Id="rId2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image" Target="../media/image8.jpeg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image" Target="../media/image9.jpeg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image" Target="../media/image10.jpeg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image" Target="../media/image11.jpeg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image" Target="../media/image12.jpeg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image" Target="../media/image13.jpeg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image" Target="../media/image14.jpeg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image" Target="../media/image15.jpeg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image" Target="../media/image16.jpeg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image" Target="../media/image17.jpeg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image" Target="../media/image18.jpeg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image" Target="../media/image19.jpeg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23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23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23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j0300840"/>
          <p:cNvPicPr/>
          <p:nvPr/>
        </p:nvPicPr>
        <p:blipFill>
          <a:blip r:embed="rId2"/>
          <a:stretch/>
        </p:blipFill>
        <p:spPr>
          <a:xfrm>
            <a:off x="6715080" y="2357280"/>
            <a:ext cx="1814400" cy="1528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36000" cy="624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0" lang="ru-RU" sz="5400" spc="-1" strike="noStrike">
                <a:solidFill>
                  <a:srgbClr val="ff6600"/>
                </a:solidFill>
                <a:latin typeface="Tahoma"/>
              </a:rPr>
              <a:t>Интеллектуальный турнир знатоков естественных наук</a:t>
            </a:r>
            <a:br>
              <a:rPr sz="5400"/>
            </a:br>
            <a:br>
              <a:rPr sz="5400"/>
            </a:b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Внеклассное интегрированное мероприятие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                                            учитель географии М.В. Соболевская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1523880" y="404640"/>
          <a:ext cx="6361200" cy="579600"/>
        </p:xfrm>
        <a:graphic>
          <a:graphicData uri="http://schemas.openxmlformats.org/drawingml/2006/table">
            <a:tbl>
              <a:tblPr/>
              <a:tblGrid>
                <a:gridCol w="63612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Аукцио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476360" y="3500280"/>
          <a:ext cx="1943280" cy="1872000"/>
        </p:xfrm>
        <a:graphic>
          <a:graphicData uri="http://schemas.openxmlformats.org/drawingml/2006/table">
            <a:tbl>
              <a:tblPr/>
              <a:tblGrid>
                <a:gridCol w="194328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6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419640" y="3500280"/>
          <a:ext cx="2160360" cy="187344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18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6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580000" y="3500280"/>
          <a:ext cx="2040120" cy="1873440"/>
        </p:xfrm>
        <a:graphic>
          <a:graphicData uri="http://schemas.openxmlformats.org/drawingml/2006/table">
            <a:tbl>
              <a:tblPr/>
              <a:tblGrid>
                <a:gridCol w="2040120"/>
              </a:tblGrid>
              <a:tr h="18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6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6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476360" y="1773360"/>
          <a:ext cx="1943280" cy="1726920"/>
        </p:xfrm>
        <a:graphic>
          <a:graphicData uri="http://schemas.openxmlformats.org/drawingml/2006/table">
            <a:tbl>
              <a:tblPr/>
              <a:tblGrid>
                <a:gridCol w="1943280"/>
              </a:tblGrid>
              <a:tr h="17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6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419640" y="1773360"/>
          <a:ext cx="2160360" cy="172692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17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6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580000" y="1773360"/>
          <a:ext cx="2040120" cy="1726920"/>
        </p:xfrm>
        <a:graphic>
          <a:graphicData uri="http://schemas.openxmlformats.org/drawingml/2006/table">
            <a:tbl>
              <a:tblPr/>
              <a:tblGrid>
                <a:gridCol w="2040120"/>
              </a:tblGrid>
              <a:tr h="17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6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7" descr="0_27054_4b7cc749_XL.jpeg"/>
          <p:cNvPicPr/>
          <p:nvPr/>
        </p:nvPicPr>
        <p:blipFill>
          <a:blip r:embed="rId2"/>
          <a:stretch/>
        </p:blipFill>
        <p:spPr>
          <a:xfrm>
            <a:off x="6929280" y="214200"/>
            <a:ext cx="2071800" cy="20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1523880" y="404640"/>
          <a:ext cx="6096240" cy="8226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92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4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Кот в мешке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11280" y="1397160"/>
          <a:ext cx="8208720" cy="4063680"/>
        </p:xfrm>
        <a:graphic>
          <a:graphicData uri="http://schemas.openxmlformats.org/drawingml/2006/table">
            <a:tbl>
              <a:tblPr/>
              <a:tblGrid>
                <a:gridCol w="8208720"/>
              </a:tblGrid>
              <a:tr h="40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о самое грандиозное сооружение древности за тысячелетия своего существования много раз ремонтировалось, перестаивалось, к ней пристраивались новые участки и дополнительные сооружения. Общая длина всех её линий 3930 миль(6700 км). Основная часть сооружения со всеми сторожевыми башнями, сигнальными вспышками и гарнизонными поселениями приобрела свои формы еще 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веке до нашей эры во времена правления императора. Сроилась для защиты от набег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348000" y="5373720"/>
          <a:ext cx="5327640" cy="934920"/>
        </p:xfrm>
        <a:graphic>
          <a:graphicData uri="http://schemas.openxmlformats.org/drawingml/2006/table">
            <a:tbl>
              <a:tblPr/>
              <a:tblGrid>
                <a:gridCol w="532764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ahoma"/>
                        </a:rPr>
                        <a:t>Китайская сте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Скругленный прямоугольник 5">
            <a:hlinkClick r:id="rId4" action="ppaction://hlinksldjump"/>
          </p:cNvPr>
          <p:cNvSpPr/>
          <p:nvPr/>
        </p:nvSpPr>
        <p:spPr>
          <a:xfrm>
            <a:off x="6443640" y="623736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Myaukan'e_kowki__.mp3" descr=""/>
          <p:cNvPicPr/>
          <p:nvPr/>
        </p:nvPicPr>
        <p:blipFill>
          <a:blip r:embed="rId6"/>
          <a:stretch/>
        </p:blipFill>
        <p:spPr>
          <a:xfrm>
            <a:off x="642924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0" dur="7187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6" descr="0_27054_4b7cc749_XL.jpeg"/>
          <p:cNvPicPr/>
          <p:nvPr/>
        </p:nvPicPr>
        <p:blipFill>
          <a:blip r:embed="rId2"/>
          <a:stretch/>
        </p:blipFill>
        <p:spPr>
          <a:xfrm>
            <a:off x="6929280" y="214200"/>
            <a:ext cx="2071800" cy="20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1523880" y="692280"/>
          <a:ext cx="6096240" cy="10810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4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Кот в мешке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84360" y="1700280"/>
          <a:ext cx="7848360" cy="35798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35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середине века этому растению приписывали чудесное свойство: якобы он способен предохранять воина от смерти и ударов мечей. Философы древности использовали его при изучении астрономии. Ему приписывали лечебные свойства и считали, что даже его запах предохраняет от заболевания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300720" y="5373720"/>
          <a:ext cx="1871640" cy="792000"/>
        </p:xfrm>
        <a:graphic>
          <a:graphicData uri="http://schemas.openxmlformats.org/drawingml/2006/table">
            <a:tbl>
              <a:tblPr/>
              <a:tblGrid>
                <a:gridCol w="18716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ahoma"/>
                        </a:rPr>
                        <a:t>Луковиц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Скругленный прямоугольник 4">
            <a:hlinkClick r:id="rId4" action="ppaction://hlinksldjump"/>
          </p:cNvPr>
          <p:cNvSpPr/>
          <p:nvPr/>
        </p:nvSpPr>
        <p:spPr>
          <a:xfrm>
            <a:off x="4357800" y="62866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Myaukan'e_kowki__.mp3" descr=""/>
          <p:cNvPicPr/>
          <p:nvPr/>
        </p:nvPicPr>
        <p:blipFill>
          <a:blip r:embed="rId6"/>
          <a:stretch/>
        </p:blipFill>
        <p:spPr>
          <a:xfrm>
            <a:off x="600084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8" dur="7187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523880" y="476280"/>
          <a:ext cx="6096240" cy="9367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</a:t>
                      </a: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Аукцион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042920" y="1341360"/>
          <a:ext cx="7081920" cy="3111480"/>
        </p:xfrm>
        <a:graphic>
          <a:graphicData uri="http://schemas.openxmlformats.org/drawingml/2006/table">
            <a:tbl>
              <a:tblPr/>
              <a:tblGrid>
                <a:gridCol w="7081920"/>
              </a:tblGrid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о растение посвящено Богу науки и искусства Аполлону. Им награждали художников, артистов и ученых в знак признания их творческих успехов. Именно отсюда произошло слово «лауреат» 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516720" y="4724280"/>
          <a:ext cx="1295280" cy="73656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ahoma"/>
                        </a:rPr>
                        <a:t>Лав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Скругленный прямоугольник 4">
            <a:hlinkClick r:id="rId3" action="ppaction://hlinksldjump"/>
          </p:cNvPr>
          <p:cNvSpPr/>
          <p:nvPr/>
        </p:nvSpPr>
        <p:spPr>
          <a:xfrm>
            <a:off x="7500960" y="65008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523880" y="476280"/>
          <a:ext cx="6096240" cy="6490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</a:t>
                      </a: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Аукци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95280" y="1052640"/>
          <a:ext cx="4608360" cy="396072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1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оружение начали строить в 1063 году в честь победоносного морского сражения против сарацин. Но, построив первый этаж высотой 11 метров и два колоннадных кольца, архитектор обнаружил отклонения в сооружении и исчез. Через некоторое время работу по строительству возобновили и к 1223 году было построено 5 этажей, но когда архитектор обнаружил уже большие отклонения от первоначального, то тоже исчез. Затем в 1350 году следующий архитектор, взявшийся за продолжения работы решил сделать эти отклонения в строительстве его достоинством. Построив еще 3 этажа, завершил сооружение звонницей, так, не сумев воплотить первоначальный замысел архитектора, по которому это сооружение должно было быть 12 этажным зданием – высотой 98 метров. Назовите сооружение, страну и какой дефект был в строительств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68360" y="5589720"/>
          <a:ext cx="2519280" cy="792000"/>
        </p:xfrm>
        <a:graphic>
          <a:graphicData uri="http://schemas.openxmlformats.org/drawingml/2006/table">
            <a:tbl>
              <a:tblPr/>
              <a:tblGrid>
                <a:gridCol w="25192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b050"/>
                          </a:solidFill>
                          <a:latin typeface="Tahoma"/>
                        </a:rPr>
                        <a:t>Пизанская башня, Италия, накл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1" name="Picture 32" descr=""/>
          <p:cNvPicPr/>
          <p:nvPr/>
        </p:nvPicPr>
        <p:blipFill>
          <a:blip r:embed="rId3"/>
          <a:stretch/>
        </p:blipFill>
        <p:spPr>
          <a:xfrm>
            <a:off x="5148360" y="476280"/>
            <a:ext cx="3816360" cy="6381720"/>
          </a:xfrm>
          <a:prstGeom prst="rect">
            <a:avLst/>
          </a:prstGeom>
          <a:ln w="0">
            <a:noFill/>
          </a:ln>
        </p:spPr>
      </p:pic>
      <p:sp>
        <p:nvSpPr>
          <p:cNvPr id="232" name="Скругленный прямоугольник 5">
            <a:hlinkClick r:id="rId4" action="ppaction://hlinksldjump"/>
          </p:cNvPr>
          <p:cNvSpPr/>
          <p:nvPr/>
        </p:nvSpPr>
        <p:spPr>
          <a:xfrm>
            <a:off x="3429000" y="621504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2843280" y="277920"/>
            <a:ext cx="2701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Аукц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55640" y="1773360"/>
          <a:ext cx="7704000" cy="259236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лектромагнитные волны какого диапазона имеют наибольшую частоту колебани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5867280" y="5084640"/>
          <a:ext cx="2376720" cy="792360"/>
        </p:xfrm>
        <a:graphic>
          <a:graphicData uri="http://schemas.openxmlformats.org/drawingml/2006/table">
            <a:tbl>
              <a:tblPr/>
              <a:tblGrid>
                <a:gridCol w="2376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ahoma"/>
                        </a:rPr>
                        <a:t>γ</a:t>
                      </a: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Tahoma"/>
                        </a:rPr>
                        <a:t> -излуч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Скругленный прямоугольник 4">
            <a:hlinkClick r:id="rId3" action="ppaction://hlinksldjump"/>
          </p:cNvPr>
          <p:cNvSpPr/>
          <p:nvPr/>
        </p:nvSpPr>
        <p:spPr>
          <a:xfrm>
            <a:off x="4357800" y="635796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1547640" y="312840"/>
            <a:ext cx="58359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Кот в мешк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87280" y="2060640"/>
          <a:ext cx="6432840" cy="1944720"/>
        </p:xfrm>
        <a:graphic>
          <a:graphicData uri="http://schemas.openxmlformats.org/drawingml/2006/table">
            <a:tbl>
              <a:tblPr/>
              <a:tblGrid>
                <a:gridCol w="643284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 какой частотой колебаний в секунду может воспринимать звуки ухо челове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5148360" y="5373720"/>
          <a:ext cx="3527280" cy="944640"/>
        </p:xfrm>
        <a:graphic>
          <a:graphicData uri="http://schemas.openxmlformats.org/drawingml/2006/table">
            <a:tbl>
              <a:tblPr/>
              <a:tblGrid>
                <a:gridCol w="3527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ahoma"/>
                        </a:rPr>
                        <a:t>От 10  до 20 тыс. колеба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Скругленный прямоугольник 4">
            <a:hlinkClick r:id="rId3" action="ppaction://hlinksldjump"/>
          </p:cNvPr>
          <p:cNvSpPr/>
          <p:nvPr/>
        </p:nvSpPr>
        <p:spPr>
          <a:xfrm>
            <a:off x="3500280" y="6286680"/>
            <a:ext cx="100044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Myaukan'e_kowki__.mp3" descr=""/>
          <p:cNvPicPr/>
          <p:nvPr/>
        </p:nvPicPr>
        <p:blipFill>
          <a:blip r:embed="rId5"/>
          <a:stretch/>
        </p:blipFill>
        <p:spPr>
          <a:xfrm>
            <a:off x="6357960" y="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7" descr="0_27054_4b7cc749_XL.jpeg"/>
          <p:cNvPicPr/>
          <p:nvPr/>
        </p:nvPicPr>
        <p:blipFill>
          <a:blip r:embed="rId6"/>
          <a:stretch/>
        </p:blipFill>
        <p:spPr>
          <a:xfrm>
            <a:off x="6929280" y="214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4" dur="7187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Раунд 3.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gong.mp3" descr=""/>
          <p:cNvPicPr/>
          <p:nvPr/>
        </p:nvPicPr>
        <p:blipFill>
          <a:blip r:embed="rId2"/>
          <a:stretch/>
        </p:blipFill>
        <p:spPr>
          <a:xfrm>
            <a:off x="6786720" y="2428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7" dur="6184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1332000" y="620640"/>
            <a:ext cx="63356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Конкурс капитан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928800" y="1989000"/>
          <a:ext cx="2039760" cy="2100240"/>
        </p:xfrm>
        <a:graphic>
          <a:graphicData uri="http://schemas.openxmlformats.org/drawingml/2006/table">
            <a:tbl>
              <a:tblPr/>
              <a:tblGrid>
                <a:gridCol w="2039760"/>
              </a:tblGrid>
              <a:tr h="21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6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429000" y="2000160"/>
          <a:ext cx="2087640" cy="208908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6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929200" y="2071800"/>
          <a:ext cx="1968480" cy="2089080"/>
        </p:xfrm>
        <a:graphic>
          <a:graphicData uri="http://schemas.openxmlformats.org/drawingml/2006/table">
            <a:tbl>
              <a:tblPr/>
              <a:tblGrid>
                <a:gridCol w="1968480"/>
              </a:tblGrid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6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9" name="Picture 21" descr="C:\Documents and Settings\User_2\Рабочий стол\Капитаны.jpg"/>
          <p:cNvPicPr/>
          <p:nvPr/>
        </p:nvPicPr>
        <p:blipFill>
          <a:blip r:embed="rId6"/>
          <a:stretch/>
        </p:blipFill>
        <p:spPr>
          <a:xfrm>
            <a:off x="2428920" y="4286160"/>
            <a:ext cx="3692520" cy="2363760"/>
          </a:xfrm>
          <a:prstGeom prst="rect">
            <a:avLst/>
          </a:prstGeom>
          <a:ln w="0">
            <a:noFill/>
          </a:ln>
        </p:spPr>
      </p:pic>
      <p:pic>
        <p:nvPicPr>
          <p:cNvPr id="250" name="капитаны.mp3" descr=""/>
          <p:cNvPicPr/>
          <p:nvPr/>
        </p:nvPicPr>
        <p:blipFill>
          <a:blip r:embed="rId7"/>
          <a:stretch/>
        </p:blipFill>
        <p:spPr>
          <a:xfrm>
            <a:off x="6215040" y="5143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4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755640" y="476280"/>
          <a:ext cx="7631280" cy="914400"/>
        </p:xfrm>
        <a:graphic>
          <a:graphicData uri="http://schemas.openxmlformats.org/drawingml/2006/table">
            <a:tbl>
              <a:tblPr/>
              <a:tblGrid>
                <a:gridCol w="7631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Древнегреческий географ и историк Страбон писал, что в глубине Африки живут племена, которые за слиток этого металла дают 10 слитков золо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755640" y="1557360"/>
          <a:ext cx="7488360" cy="914400"/>
        </p:xfrm>
        <a:graphic>
          <a:graphicData uri="http://schemas.openxmlformats.org/drawingml/2006/table">
            <a:tbl>
              <a:tblPr/>
              <a:tblGrid>
                <a:gridCol w="7488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В «Одиссее» Гомера рассказывают, что победителям в спортивных соревнованиях вручали кусок этого металла и кусок золо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826920" y="2565360"/>
          <a:ext cx="7344000" cy="936720"/>
        </p:xfrm>
        <a:graphic>
          <a:graphicData uri="http://schemas.openxmlformats.org/drawingml/2006/table">
            <a:tbl>
              <a:tblPr/>
              <a:tblGrid>
                <a:gridCol w="734400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Среди сокровищ египетских пирамид, где золота очень много, ученые нашли несколько украшений из этого металла. Они называли его «вааепере» - «родившийся на небе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826920" y="3645000"/>
          <a:ext cx="7417080" cy="5047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По имени этого металла назван век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716360" y="5300640"/>
          <a:ext cx="3600720" cy="792360"/>
        </p:xfrm>
        <a:graphic>
          <a:graphicData uri="http://schemas.openxmlformats.org/drawingml/2006/table">
            <a:tbl>
              <a:tblPr/>
              <a:tblGrid>
                <a:gridCol w="360072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желез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Скругленный прямоугольник 6">
            <a:hlinkClick r:id="rId3" action="ppaction://hlinksldjump"/>
          </p:cNvPr>
          <p:cNvSpPr/>
          <p:nvPr/>
        </p:nvSpPr>
        <p:spPr>
          <a:xfrm>
            <a:off x="7572240" y="6429240"/>
            <a:ext cx="100044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5640" y="291960"/>
            <a:ext cx="7201080" cy="580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, биология, наука из наук!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 впереди! Как мало за плечами!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сть химия нам будет вместо рук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сть будет география очами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разлучайте этих трех сестер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ния всего в подлунном мире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огда лишь будет ум и глаз остер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знанья человеческие шир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08 - P. Mauriat - Love is Blue.mp3" descr=""/>
          <p:cNvPicPr/>
          <p:nvPr/>
        </p:nvPicPr>
        <p:blipFill>
          <a:blip r:embed="rId2"/>
          <a:stretch/>
        </p:blipFill>
        <p:spPr>
          <a:xfrm>
            <a:off x="6572160" y="13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17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59372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971640" y="476280"/>
          <a:ext cx="7200720" cy="936720"/>
        </p:xfrm>
        <a:graphic>
          <a:graphicData uri="http://schemas.openxmlformats.org/drawingml/2006/table">
            <a:tbl>
              <a:tblPr/>
              <a:tblGrid>
                <a:gridCol w="72007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Это сложное вещество в старину называли властителем жизни и смер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971640" y="1341360"/>
          <a:ext cx="7200720" cy="914400"/>
        </p:xfrm>
        <a:graphic>
          <a:graphicData uri="http://schemas.openxmlformats.org/drawingml/2006/table">
            <a:tbl>
              <a:tblPr/>
              <a:tblGrid>
                <a:gridCol w="7200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Оно служило мерилом богатств. По поверьям, оно обладает способностью помогать человеку во всех его делах: начиная день - проглоти  кристалл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971640" y="2421000"/>
          <a:ext cx="7200720" cy="792000"/>
        </p:xfrm>
        <a:graphic>
          <a:graphicData uri="http://schemas.openxmlformats.org/drawingml/2006/table">
            <a:tbl>
              <a:tblPr/>
              <a:tblGrid>
                <a:gridCol w="72007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Оно в воде рождается и в воде умирает. «Из воды родится, а воды боится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971640" y="3213000"/>
          <a:ext cx="7200720" cy="914400"/>
        </p:xfrm>
        <a:graphic>
          <a:graphicData uri="http://schemas.openxmlformats.org/drawingml/2006/table">
            <a:tbl>
              <a:tblPr/>
              <a:tblGrid>
                <a:gridCol w="7200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На пирах у киевского князя его ставили в золотой посуде на стол, где сидел князь и его приближенные. А гости попроще уходили «не солоно хлебавши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580000" y="5589720"/>
          <a:ext cx="2952720" cy="79200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Поваренная 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Скругленный прямоугольник 6">
            <a:hlinkClick r:id="rId3" action="ppaction://hlinksldjump"/>
          </p:cNvPr>
          <p:cNvSpPr/>
          <p:nvPr/>
        </p:nvSpPr>
        <p:spPr>
          <a:xfrm>
            <a:off x="4143240" y="6286680"/>
            <a:ext cx="100044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4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4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4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4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4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4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4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4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95280" y="476280"/>
          <a:ext cx="8424720" cy="91440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Зерна кристалла этого вещества хрупкие, их не удается расплющить даже молотком на наковальне. Растворить их не удается ни в кислотах, ни в щелочах. «Ни огнем, ни искусством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5280" y="1557360"/>
          <a:ext cx="8424720" cy="173664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Он следовал за золотом как тень. Его примесь в золоте проявлялась в том, что мерк червонный блеск присущий высокопробному золоту: монеты приобретали сероватый тусклый оттенок. Такое золото называли гнилым или "испанским". Дукаты самого могущественного государства – Испании - упали в цене. Злые языки утверждали, что монеты померкли, как сама испанская корон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95280" y="3429000"/>
          <a:ext cx="8424720" cy="64764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Его привезли в Европу из Колумбии и дель Пинто. Он был под запретом в Испании 43 года. Покупали его для поделок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95280" y="4221000"/>
          <a:ext cx="8424720" cy="179244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20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В 1752г. в актах Стокгольмской академии наук появилось сообщение о белом золоте, или седьмом металле, "называемом серебром из Пинто"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ложили назвать этот элемент белое золото. (Aurum Album). Предложенное название не прижилось. Серебришко осталось серебришком. Теперь это металл роскоши, "ювелирный король", из него сделаны первые эталоны длины и массы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6948360" y="6093000"/>
          <a:ext cx="1944720" cy="50472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плат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Скругленный прямоугольник 6">
            <a:hlinkClick r:id="rId3" action="ppaction://hlinksldjump"/>
          </p:cNvPr>
          <p:cNvSpPr/>
          <p:nvPr/>
        </p:nvSpPr>
        <p:spPr>
          <a:xfrm>
            <a:off x="4643280" y="6286680"/>
            <a:ext cx="100044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4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4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Раунд 4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57200" y="3284640"/>
          <a:ext cx="8229600" cy="20160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воя игра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1" name="gong.mp3" descr=""/>
          <p:cNvPicPr/>
          <p:nvPr/>
        </p:nvPicPr>
        <p:blipFill>
          <a:blip r:embed="rId2"/>
          <a:stretch/>
        </p:blipFill>
        <p:spPr>
          <a:xfrm>
            <a:off x="6786720" y="1071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8" dur="6184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179280" y="189000"/>
          <a:ext cx="1440000" cy="129528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179280" y="1484280"/>
          <a:ext cx="1440000" cy="11527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кры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79280" y="2637000"/>
          <a:ext cx="1440000" cy="12967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вления прир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79280" y="3933720"/>
          <a:ext cx="1440000" cy="129564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уде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79280" y="5229360"/>
          <a:ext cx="1440000" cy="122400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ука и строитель-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619280" y="189000"/>
          <a:ext cx="1440000" cy="129528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059280" y="189000"/>
          <a:ext cx="1511280" cy="1295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4572000" y="189000"/>
          <a:ext cx="1440000" cy="129528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6012000" y="189000"/>
          <a:ext cx="1439640" cy="129528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7451640" y="189000"/>
          <a:ext cx="1297080" cy="1295280"/>
        </p:xfrm>
        <a:graphic>
          <a:graphicData uri="http://schemas.openxmlformats.org/drawingml/2006/table">
            <a:tbl>
              <a:tblPr/>
              <a:tblGrid>
                <a:gridCol w="129708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1619280" y="1484280"/>
          <a:ext cx="1440000" cy="11527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3059280" y="1484280"/>
          <a:ext cx="1512720" cy="115272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4572000" y="1484280"/>
          <a:ext cx="1440000" cy="11527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6012000" y="1484280"/>
          <a:ext cx="1439640" cy="115272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7451640" y="1484280"/>
          <a:ext cx="1297080" cy="1152720"/>
        </p:xfrm>
        <a:graphic>
          <a:graphicData uri="http://schemas.openxmlformats.org/drawingml/2006/table">
            <a:tbl>
              <a:tblPr/>
              <a:tblGrid>
                <a:gridCol w="129708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1619280" y="2637000"/>
          <a:ext cx="1440000" cy="12967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1619280" y="3933720"/>
          <a:ext cx="1440000" cy="129564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1619280" y="5229360"/>
          <a:ext cx="1440000" cy="122400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059280" y="2637000"/>
          <a:ext cx="1512720" cy="129672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3059280" y="3933720"/>
          <a:ext cx="1512720" cy="129564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4572000" y="2637000"/>
          <a:ext cx="1440000" cy="12967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6012000" y="2637000"/>
          <a:ext cx="1439640" cy="129672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7451640" y="2637000"/>
          <a:ext cx="1297080" cy="1296720"/>
        </p:xfrm>
        <a:graphic>
          <a:graphicData uri="http://schemas.openxmlformats.org/drawingml/2006/table">
            <a:tbl>
              <a:tblPr/>
              <a:tblGrid>
                <a:gridCol w="1297080"/>
              </a:tblGrid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572000" y="3933720"/>
          <a:ext cx="1440000" cy="129564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1" action="ppaction://hlinksldjump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6012000" y="3933720"/>
          <a:ext cx="1439640" cy="129564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2" action="ppaction://hlinksldjump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7451640" y="3933720"/>
          <a:ext cx="1297080" cy="1295640"/>
        </p:xfrm>
        <a:graphic>
          <a:graphicData uri="http://schemas.openxmlformats.org/drawingml/2006/table">
            <a:tbl>
              <a:tblPr/>
              <a:tblGrid>
                <a:gridCol w="1297080"/>
              </a:tblGrid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3" action="ppaction://hlinksldjump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3059280" y="5229360"/>
          <a:ext cx="1512720" cy="122400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4" action="ppaction://hlinksldjump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572000" y="5229360"/>
          <a:ext cx="1440000" cy="122400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5" action="ppaction://hlinksldjump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6012000" y="5229360"/>
          <a:ext cx="1439640" cy="122400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6" action="ppaction://hlinksldjump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7451640" y="5229360"/>
          <a:ext cx="1297080" cy="1224000"/>
        </p:xfrm>
        <a:graphic>
          <a:graphicData uri="http://schemas.openxmlformats.org/drawingml/2006/table">
            <a:tbl>
              <a:tblPr/>
              <a:tblGrid>
                <a:gridCol w="1297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7" action="ppaction://hlinksldjump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вечение газов в атмосфере за счет действия силы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Лорен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Picture 4" descr="2"/>
          <p:cNvPicPr/>
          <p:nvPr/>
        </p:nvPicPr>
        <p:blipFill>
          <a:blip r:embed="rId3"/>
          <a:stretch/>
        </p:blipFill>
        <p:spPr>
          <a:xfrm>
            <a:off x="395280" y="1871640"/>
            <a:ext cx="8280360" cy="4343400"/>
          </a:xfrm>
          <a:prstGeom prst="rect">
            <a:avLst/>
          </a:prstGeom>
          <a:ln w="0">
            <a:noFill/>
          </a:ln>
        </p:spPr>
      </p:pic>
      <p:sp>
        <p:nvSpPr>
          <p:cNvPr id="305" name="Скругленный прямоугольник 4">
            <a:hlinkClick r:id="rId4" action="ppaction://hlinksldjump"/>
          </p:cNvPr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4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4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915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цесс превращения одних веществ в друг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124000" y="5084640"/>
            <a:ext cx="65628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Химическая реа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Скругленный прямоугольник 3">
            <a:hlinkClick r:id="rId3" action="ppaction://hlinksldjump"/>
          </p:cNvPr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4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4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ссеивание солнечного света на капельках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0" y="5229360"/>
            <a:ext cx="41148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раду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Скругленный прямоугольник 3">
            <a:hlinkClick r:id="rId3" action="ppaction://hlinksldjump"/>
          </p:cNvPr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4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4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вследствие какого природного явления погиб  этот горо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388944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вержение вулк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250920" y="3573360"/>
            <a:ext cx="27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Помпе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3"/>
          <a:stretch/>
        </p:blipFill>
        <p:spPr>
          <a:xfrm>
            <a:off x="4211640" y="1773360"/>
            <a:ext cx="4321080" cy="4655880"/>
          </a:xfrm>
          <a:prstGeom prst="rect">
            <a:avLst/>
          </a:prstGeom>
          <a:ln w="0">
            <a:noFill/>
          </a:ln>
        </p:spPr>
      </p:pic>
      <p:sp>
        <p:nvSpPr>
          <p:cNvPr id="316" name="Скругленный прямоугольник 5">
            <a:hlinkClick r:id="rId4" action="ppaction://hlinksldjump"/>
          </p:cNvPr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4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4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то это за чудо и где оно находитс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9" name="Picture 4" descr="16106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1949400"/>
            <a:ext cx="9144000" cy="4908600"/>
          </a:xfrm>
          <a:prstGeom prst="rect">
            <a:avLst/>
          </a:prstGeom>
          <a:ln w="0">
            <a:noFill/>
          </a:ln>
        </p:spPr>
      </p:pic>
      <p:sp>
        <p:nvSpPr>
          <p:cNvPr id="320" name="Скругленный прямоугольник 4">
            <a:hlinkClick r:id="rId4" action="ppaction://hlinksldjump"/>
          </p:cNvPr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358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зовите чудо Вавилонской башн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4" descr="Сады Семирамиды">
            <a:hlinkClick r:id="rId2" action="ppaction://hlinksldjump"/>
          </p:cNvPr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39640" y="1916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24" name="Скругленный прямоугольник 4">
            <a:hlinkClick r:id="rId4" action="ppaction://hlinksldjump"/>
          </p:cNvPr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4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4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Представление коман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755640" y="1557360"/>
            <a:ext cx="753120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6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Обыграть название коман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buClr>
                <a:srgbClr val="ff6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2. Представление эмбл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3. Приветств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684360" y="1557360"/>
          <a:ext cx="3095640" cy="324000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32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 это за сооружение и кто его автор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003640" y="692280"/>
            <a:ext cx="3529080" cy="5473440"/>
          </a:xfrm>
          <a:prstGeom prst="rect">
            <a:avLst/>
          </a:prstGeom>
          <a:ln w="0">
            <a:noFill/>
          </a:ln>
        </p:spPr>
      </p:pic>
      <p:sp>
        <p:nvSpPr>
          <p:cNvPr id="327" name="Скругленный прямоугольник 3">
            <a:hlinkClick r:id="rId4" action="ppaction://hlinksldjump"/>
          </p:cNvPr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4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4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457200" y="291960"/>
          <a:ext cx="8229600" cy="14083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4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овите имя богини, в честь которой был назван этот хра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9" name="Picture 12" descr="wonder04-0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8360" y="1773360"/>
            <a:ext cx="8207280" cy="4895640"/>
          </a:xfrm>
          <a:prstGeom prst="rect">
            <a:avLst/>
          </a:prstGeom>
          <a:ln w="0">
            <a:noFill/>
          </a:ln>
        </p:spPr>
      </p:pic>
      <p:sp>
        <p:nvSpPr>
          <p:cNvPr id="330" name="Скругленный прямоугольник 3">
            <a:hlinkClick r:id="rId4" action="ppaction://hlinksldjump"/>
          </p:cNvPr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татуя какого бога стала символом города Родосс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елиос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г солн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3" name="Picture 4" descr="COLOSSUS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780000" y="1890720"/>
            <a:ext cx="4895640" cy="4130640"/>
          </a:xfrm>
          <a:prstGeom prst="rect">
            <a:avLst/>
          </a:prstGeom>
          <a:ln w="0">
            <a:noFill/>
          </a:ln>
        </p:spPr>
      </p:pic>
      <p:sp>
        <p:nvSpPr>
          <p:cNvPr id="334" name="Скругленный прямоугольник 4">
            <a:hlinkClick r:id="rId4" action="ppaction://hlinksldjump"/>
          </p:cNvPr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4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4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тмосферное явление - вода в твердом и жидком состоян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867280" y="5300640"/>
          <a:ext cx="2819520" cy="71928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осад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Скругленный прямоугольник 3">
            <a:hlinkClick r:id="rId3" action="ppaction://hlinksldjump"/>
          </p:cNvPr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4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4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900000" y="907920"/>
          <a:ext cx="6720120" cy="1737000"/>
        </p:xfrm>
        <a:graphic>
          <a:graphicData uri="http://schemas.openxmlformats.org/drawingml/2006/table">
            <a:tbl>
              <a:tblPr/>
              <a:tblGrid>
                <a:gridCol w="67201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амилия ученого, который шел из Холмогор за знаниями в Москву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4572000" y="2349360"/>
          <a:ext cx="3887640" cy="3816360"/>
        </p:xfrm>
        <a:graphic>
          <a:graphicData uri="http://schemas.openxmlformats.org/drawingml/2006/table">
            <a:tbl>
              <a:tblPr/>
              <a:tblGrid>
                <a:gridCol w="3887640"/>
              </a:tblGrid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Ломоносо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0" name="Picture 23" descr="lomonosov"/>
          <p:cNvPicPr/>
          <p:nvPr/>
        </p:nvPicPr>
        <p:blipFill>
          <a:blip r:embed="rId3"/>
          <a:stretch/>
        </p:blipFill>
        <p:spPr>
          <a:xfrm>
            <a:off x="5940360" y="3716280"/>
            <a:ext cx="2095560" cy="2463840"/>
          </a:xfrm>
          <a:prstGeom prst="rect">
            <a:avLst/>
          </a:prstGeom>
          <a:ln w="0">
            <a:noFill/>
          </a:ln>
        </p:spPr>
      </p:pic>
      <p:sp>
        <p:nvSpPr>
          <p:cNvPr id="341" name="Скругленный прямоугольник 4">
            <a:hlinkClick r:id="rId4" action="ppaction://hlinksldjump"/>
          </p:cNvPr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1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4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4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826920" y="549360"/>
          <a:ext cx="7201080" cy="1366920"/>
        </p:xfrm>
        <a:graphic>
          <a:graphicData uri="http://schemas.openxmlformats.org/drawingml/2006/table">
            <a:tbl>
              <a:tblPr/>
              <a:tblGrid>
                <a:gridCol w="7201080"/>
              </a:tblGrid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ый, чью фамилию носит лошадь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3851280" y="2060640"/>
          <a:ext cx="3960720" cy="100800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Пржевальски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4" name="Picture 20" descr="przheval_nm"/>
          <p:cNvPicPr/>
          <p:nvPr/>
        </p:nvPicPr>
        <p:blipFill>
          <a:blip r:embed="rId3"/>
          <a:stretch/>
        </p:blipFill>
        <p:spPr>
          <a:xfrm>
            <a:off x="6188040" y="3068640"/>
            <a:ext cx="2587680" cy="3166920"/>
          </a:xfrm>
          <a:prstGeom prst="rect">
            <a:avLst/>
          </a:prstGeom>
          <a:ln w="0">
            <a:noFill/>
          </a:ln>
        </p:spPr>
      </p:pic>
      <p:sp>
        <p:nvSpPr>
          <p:cNvPr id="345" name="Скругленный прямоугольник 4">
            <a:hlinkClick r:id="rId4" action="ppaction://hlinksldjump"/>
          </p:cNvPr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4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4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1187280" y="1052640"/>
          <a:ext cx="7056720" cy="208908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то экспериментально обнаружил существование электромагнитных волн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3059280" y="4437000"/>
          <a:ext cx="3600360" cy="64764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36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 Герц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8" name="Picture 21" descr="LGERS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6156360" y="3357720"/>
            <a:ext cx="2592360" cy="3240000"/>
          </a:xfrm>
          <a:prstGeom prst="rect">
            <a:avLst/>
          </a:prstGeom>
          <a:ln w="0">
            <a:noFill/>
          </a:ln>
        </p:spPr>
      </p:pic>
      <p:sp>
        <p:nvSpPr>
          <p:cNvPr id="349" name="Скругленный прямоугольник 4">
            <a:hlinkClick r:id="rId4" action="ppaction://hlinksldjump"/>
          </p:cNvPr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826920" y="549360"/>
          <a:ext cx="7129800" cy="2103480"/>
        </p:xfrm>
        <a:graphic>
          <a:graphicData uri="http://schemas.openxmlformats.org/drawingml/2006/table">
            <a:tbl>
              <a:tblPr/>
              <a:tblGrid>
                <a:gridCol w="7129800"/>
              </a:tblGrid>
              <a:tr h="21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ый, который мучил собачку для выработки безусловных рефлексо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4643280" y="2421000"/>
          <a:ext cx="3600720" cy="863640"/>
        </p:xfrm>
        <a:graphic>
          <a:graphicData uri="http://schemas.openxmlformats.org/drawingml/2006/table">
            <a:tbl>
              <a:tblPr/>
              <a:tblGrid>
                <a:gridCol w="36007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36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Павлов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2" name="Picture 23" descr="PAVLOV"/>
          <p:cNvPicPr/>
          <p:nvPr/>
        </p:nvPicPr>
        <p:blipFill>
          <a:blip r:embed="rId3"/>
          <a:stretch/>
        </p:blipFill>
        <p:spPr>
          <a:xfrm>
            <a:off x="6500880" y="3214800"/>
            <a:ext cx="2392200" cy="3189240"/>
          </a:xfrm>
          <a:prstGeom prst="rect">
            <a:avLst/>
          </a:prstGeom>
          <a:ln w="0">
            <a:noFill/>
          </a:ln>
        </p:spPr>
      </p:pic>
      <p:sp>
        <p:nvSpPr>
          <p:cNvPr id="353" name="Скругленный прямоугольник 4">
            <a:hlinkClick r:id="rId4" action="ppaction://hlinksldjump"/>
          </p:cNvPr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1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5" dur="4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4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1116000" y="1628640"/>
          <a:ext cx="7488360" cy="1224000"/>
        </p:xfrm>
        <a:graphic>
          <a:graphicData uri="http://schemas.openxmlformats.org/drawingml/2006/table">
            <a:tbl>
              <a:tblPr/>
              <a:tblGrid>
                <a:gridCol w="748836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втор теории относительности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859280" y="5516640"/>
          <a:ext cx="2448000" cy="158436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ru-RU" sz="36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Эйнштейн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6" name="Picture 20" descr="EN6"/>
          <p:cNvPicPr/>
          <p:nvPr/>
        </p:nvPicPr>
        <p:blipFill>
          <a:blip r:embed="rId3"/>
          <a:stretch/>
        </p:blipFill>
        <p:spPr>
          <a:xfrm>
            <a:off x="5580000" y="2708280"/>
            <a:ext cx="2914560" cy="3240000"/>
          </a:xfrm>
          <a:prstGeom prst="rect">
            <a:avLst/>
          </a:prstGeom>
          <a:ln w="0">
            <a:noFill/>
          </a:ln>
        </p:spPr>
      </p:pic>
      <p:sp>
        <p:nvSpPr>
          <p:cNvPr id="357" name="Скругленный прямоугольник 4">
            <a:hlinkClick r:id="rId4" action="ppaction://hlinksldjump"/>
          </p:cNvPr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1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4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4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523880" y="1397160"/>
          <a:ext cx="6096240" cy="20318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овите закон, который яблоко выбило из головы Ньютон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3203640" y="4724280"/>
          <a:ext cx="5329080" cy="1873440"/>
        </p:xfrm>
        <a:graphic>
          <a:graphicData uri="http://schemas.openxmlformats.org/drawingml/2006/table">
            <a:tbl>
              <a:tblPr/>
              <a:tblGrid>
                <a:gridCol w="5329080"/>
              </a:tblGrid>
              <a:tr h="18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Закон всемирного тягот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Скругленный прямоугольник 3">
            <a:hlinkClick r:id="rId3" action="ppaction://hlinksldjump"/>
          </p:cNvPr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95640" y="2276280"/>
            <a:ext cx="47527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Раунд 1.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gong.mp3" descr=""/>
          <p:cNvPicPr/>
          <p:nvPr/>
        </p:nvPicPr>
        <p:blipFill>
          <a:blip r:embed="rId2"/>
          <a:stretch/>
        </p:blipFill>
        <p:spPr>
          <a:xfrm>
            <a:off x="6715080" y="2643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20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6184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1187280" y="1397160"/>
          <a:ext cx="6985080" cy="188748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18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ая часть света была открыта «по дороге в  Китай»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3851280" y="5445000"/>
          <a:ext cx="4968720" cy="863640"/>
        </p:xfrm>
        <a:graphic>
          <a:graphicData uri="http://schemas.openxmlformats.org/drawingml/2006/table">
            <a:tbl>
              <a:tblPr/>
              <a:tblGrid>
                <a:gridCol w="4968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вый свет (Америка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Скругленный прямоугольник 3"/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611280" y="692280"/>
          <a:ext cx="7561080" cy="3492360"/>
        </p:xfrm>
        <a:graphic>
          <a:graphicData uri="http://schemas.openxmlformats.org/drawingml/2006/table">
            <a:tbl>
              <a:tblPr/>
              <a:tblGrid>
                <a:gridCol w="7561080"/>
              </a:tblGrid>
              <a:tr h="34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Не упустить бы мысли той!»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н элементы ставит в строй, 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 все ж таблица не выходит... 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гда усталостью сражен.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г на диван и видит сон...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м закончился сон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4140360" y="5516640"/>
          <a:ext cx="4752720" cy="944640"/>
        </p:xfrm>
        <a:graphic>
          <a:graphicData uri="http://schemas.openxmlformats.org/drawingml/2006/table">
            <a:tbl>
              <a:tblPr/>
              <a:tblGrid>
                <a:gridCol w="4752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здание периодической системы Д.И.Менделее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Скругленный прямоугольник 3"/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971640" y="907920"/>
          <a:ext cx="6648480" cy="2233800"/>
        </p:xfrm>
        <a:graphic>
          <a:graphicData uri="http://schemas.openxmlformats.org/drawingml/2006/table">
            <a:tbl>
              <a:tblPr/>
              <a:tblGrid>
                <a:gridCol w="6648480"/>
              </a:tblGrid>
              <a:tr h="22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нтез органических веществ из неорганических под действием света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788000" y="5516640"/>
          <a:ext cx="3744720" cy="93672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тосинтез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Скругленный прямоугольник 3"/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1523880" y="1397160"/>
          <a:ext cx="6096240" cy="12398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крытие Резерфорда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4716360" y="5445000"/>
          <a:ext cx="3672000" cy="863640"/>
        </p:xfrm>
        <a:graphic>
          <a:graphicData uri="http://schemas.openxmlformats.org/drawingml/2006/table">
            <a:tbl>
              <a:tblPr/>
              <a:tblGrid>
                <a:gridCol w="3672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роение атом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Скругленный прямоугольник 3"/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187280" y="1268280"/>
          <a:ext cx="6432840" cy="1873440"/>
        </p:xfrm>
        <a:graphic>
          <a:graphicData uri="http://schemas.openxmlformats.org/drawingml/2006/table">
            <a:tbl>
              <a:tblPr/>
              <a:tblGrid>
                <a:gridCol w="6432840"/>
              </a:tblGrid>
              <a:tr h="18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тройство забивающее сваи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651640" y="4508640"/>
          <a:ext cx="1968480" cy="952200"/>
        </p:xfrm>
        <a:graphic>
          <a:graphicData uri="http://schemas.openxmlformats.org/drawingml/2006/table">
            <a:tbl>
              <a:tblPr/>
              <a:tblGrid>
                <a:gridCol w="1968480"/>
              </a:tblGrid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п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Скругленный прямоугольник 3"/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1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4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4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684360" y="1397160"/>
          <a:ext cx="7775280" cy="1455480"/>
        </p:xfrm>
        <a:graphic>
          <a:graphicData uri="http://schemas.openxmlformats.org/drawingml/2006/table">
            <a:tbl>
              <a:tblPr/>
              <a:tblGrid>
                <a:gridCol w="7775280"/>
              </a:tblGrid>
              <a:tr h="14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 является кирпичиком                    живого организма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5219640" y="4797360"/>
          <a:ext cx="3456000" cy="100800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ет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Скругленный прямоугольник 3"/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4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4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1042920" y="981000"/>
          <a:ext cx="7537680" cy="2881440"/>
        </p:xfrm>
        <a:graphic>
          <a:graphicData uri="http://schemas.openxmlformats.org/drawingml/2006/table">
            <a:tbl>
              <a:tblPr/>
              <a:tblGrid>
                <a:gridCol w="7537680"/>
              </a:tblGrid>
              <a:tr h="288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лежами каких полезных ископаемых используемых в строительстве богата наша область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724360" y="4941720"/>
          <a:ext cx="2856240" cy="879480"/>
        </p:xfrm>
        <a:graphic>
          <a:graphicData uri="http://schemas.openxmlformats.org/drawingml/2006/table">
            <a:tbl>
              <a:tblPr/>
              <a:tblGrid>
                <a:gridCol w="2856240"/>
              </a:tblGrid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вестня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Скругленный прямоугольник 3"/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1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4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4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611280" y="1052640"/>
          <a:ext cx="7632720" cy="192060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25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 * mSiO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назовите вещество и где оно используется в строительстве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5580000" y="4797360"/>
          <a:ext cx="2808360" cy="7923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к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4" name="Скругленный прямоугольник 3"/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1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4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4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Театральная пау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50920" y="2060640"/>
          <a:ext cx="2520720" cy="2735280"/>
        </p:xfrm>
        <a:graphic>
          <a:graphicData uri="http://schemas.openxmlformats.org/drawingml/2006/table">
            <a:tbl>
              <a:tblPr/>
              <a:tblGrid>
                <a:gridCol w="2520720"/>
              </a:tblGrid>
              <a:tr h="27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ffc000"/>
                          </a:solidFill>
                          <a:uFillTx/>
                          <a:latin typeface="Tahoma"/>
                        </a:rPr>
                        <a:t>Биологи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2987640" y="2060640"/>
          <a:ext cx="2592360" cy="273672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27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Химики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6072120" y="2071800"/>
          <a:ext cx="2602080" cy="2736720"/>
        </p:xfrm>
        <a:graphic>
          <a:graphicData uri="http://schemas.openxmlformats.org/drawingml/2006/table">
            <a:tbl>
              <a:tblPr/>
              <a:tblGrid>
                <a:gridCol w="2602080"/>
              </a:tblGrid>
              <a:tr h="27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Географ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е мнение высказал бы Христофор Колумб , узнав об исчезновении лесов с территории Европ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Скругленный прямоугольник 2"/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00040" y="2857680"/>
          <a:ext cx="2602080" cy="2449440"/>
        </p:xfrm>
        <a:graphic>
          <a:graphicData uri="http://schemas.openxmlformats.org/drawingml/2006/table">
            <a:tbl>
              <a:tblPr/>
              <a:tblGrid>
                <a:gridCol w="2602080"/>
              </a:tblGrid>
              <a:tr h="24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1 команд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357720" y="2214720"/>
          <a:ext cx="2736720" cy="244944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24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2 команд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99640" y="620640"/>
            <a:ext cx="7488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Разминка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253200" y="3000240"/>
          <a:ext cx="2890800" cy="2449800"/>
        </p:xfrm>
        <a:graphic>
          <a:graphicData uri="http://schemas.openxmlformats.org/drawingml/2006/table">
            <a:tbl>
              <a:tblPr/>
              <a:tblGrid>
                <a:gridCol w="2890800"/>
              </a:tblGrid>
              <a:tr h="244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3 команд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5" name="Picture 6" descr="макака"/>
          <p:cNvPicPr/>
          <p:nvPr/>
        </p:nvPicPr>
        <p:blipFill>
          <a:blip r:embed="rId5"/>
          <a:stretch/>
        </p:blipFill>
        <p:spPr>
          <a:xfrm>
            <a:off x="3786120" y="5357880"/>
            <a:ext cx="2087640" cy="12110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7"/>
          <p:cNvSpPr/>
          <p:nvPr/>
        </p:nvSpPr>
        <p:spPr>
          <a:xfrm flipV="1" rot="10800000">
            <a:off x="6286680" y="5571000"/>
            <a:ext cx="1800000" cy="792360"/>
          </a:xfrm>
          <a:prstGeom prst="wedgeEllipseCallout">
            <a:avLst>
              <a:gd name="adj1" fmla="val 157523"/>
              <a:gd name="adj2" fmla="val -6538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Отвечай быстро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е мнение высказал бы Ч. Дарвин, узнав, что в настоящее время число видов растений и животных с каждым годом увеличиваетс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Скругленный прямоугольник 2"/>
          <p:cNvSpPr/>
          <p:nvPr/>
        </p:nvSpPr>
        <p:spPr>
          <a:xfrm>
            <a:off x="7429680" y="658656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Как бы оцени И. И Менделеев положение химии в современной жизн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Скругленный прямоугольник 2"/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минка: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1 коман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907920"/>
          <a:ext cx="5400720" cy="30492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Какой химический элемент  носит название соснового леса?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084720" y="1125360"/>
          <a:ext cx="2602080" cy="304920"/>
        </p:xfrm>
        <a:graphic>
          <a:graphicData uri="http://schemas.openxmlformats.org/drawingml/2006/table">
            <a:tbl>
              <a:tblPr/>
              <a:tblGrid>
                <a:gridCol w="2602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бо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68360" y="1341360"/>
          <a:ext cx="6707160" cy="397080"/>
        </p:xfrm>
        <a:graphic>
          <a:graphicData uri="http://schemas.openxmlformats.org/drawingml/2006/table">
            <a:tbl>
              <a:tblPr/>
              <a:tblGrid>
                <a:gridCol w="6707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Назовите самые маленькие кости скелета человека.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435640" y="1628640"/>
          <a:ext cx="3251160" cy="365400"/>
        </p:xfrm>
        <a:graphic>
          <a:graphicData uri="http://schemas.openxmlformats.org/drawingml/2006/table">
            <a:tbl>
              <a:tblPr/>
              <a:tblGrid>
                <a:gridCol w="3251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слуховы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косточки, 0,05 г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39640" y="1844640"/>
          <a:ext cx="4248360" cy="304920"/>
        </p:xfrm>
        <a:graphic>
          <a:graphicData uri="http://schemas.openxmlformats.org/drawingml/2006/table">
            <a:tbl>
              <a:tblPr/>
              <a:tblGrid>
                <a:gridCol w="424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Насильственное переселени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508720" y="2133720"/>
          <a:ext cx="2111400" cy="304560"/>
        </p:xfrm>
        <a:graphic>
          <a:graphicData uri="http://schemas.openxmlformats.org/drawingml/2006/table">
            <a:tbl>
              <a:tblPr/>
              <a:tblGrid>
                <a:gridCol w="2111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депорта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11280" y="2349360"/>
          <a:ext cx="4968720" cy="304920"/>
        </p:xfrm>
        <a:graphic>
          <a:graphicData uri="http://schemas.openxmlformats.org/drawingml/2006/table">
            <a:tbl>
              <a:tblPr/>
              <a:tblGrid>
                <a:gridCol w="4968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Самоуправляющаяся коло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508720" y="2565360"/>
          <a:ext cx="2111400" cy="304920"/>
        </p:xfrm>
        <a:graphic>
          <a:graphicData uri="http://schemas.openxmlformats.org/drawingml/2006/table">
            <a:tbl>
              <a:tblPr/>
              <a:tblGrid>
                <a:gridCol w="2111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доминио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11280" y="2852640"/>
          <a:ext cx="3600360" cy="36036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Чем пищит кома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508720" y="3068640"/>
          <a:ext cx="2111400" cy="792000"/>
        </p:xfrm>
        <a:graphic>
          <a:graphicData uri="http://schemas.openxmlformats.org/drawingml/2006/table">
            <a:tbl>
              <a:tblPr/>
              <a:tblGrid>
                <a:gridCol w="21114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крылья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11280" y="3357720"/>
          <a:ext cx="3097080" cy="358560"/>
        </p:xfrm>
        <a:graphic>
          <a:graphicData uri="http://schemas.openxmlformats.org/drawingml/2006/table">
            <a:tbl>
              <a:tblPr/>
              <a:tblGrid>
                <a:gridCol w="3097080"/>
              </a:tblGrid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Светит ли лун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580000" y="3573360"/>
          <a:ext cx="2040120" cy="304920"/>
        </p:xfrm>
        <a:graphic>
          <a:graphicData uri="http://schemas.openxmlformats.org/drawingml/2006/table">
            <a:tbl>
              <a:tblPr/>
              <a:tblGrid>
                <a:gridCol w="2040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11280" y="3860640"/>
          <a:ext cx="8208720" cy="304920"/>
        </p:xfrm>
        <a:graphic>
          <a:graphicData uri="http://schemas.openxmlformats.org/drawingml/2006/table">
            <a:tbl>
              <a:tblPr/>
              <a:tblGrid>
                <a:gridCol w="8208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 Какой ученый сформулировал теорию происхождения человек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580000" y="4149720"/>
          <a:ext cx="3024360" cy="304920"/>
        </p:xfrm>
        <a:graphic>
          <a:graphicData uri="http://schemas.openxmlformats.org/drawingml/2006/table">
            <a:tbl>
              <a:tblPr/>
              <a:tblGrid>
                <a:gridCol w="3024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Ч. Дарв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9640" y="4365720"/>
          <a:ext cx="7488360" cy="365040"/>
        </p:xfrm>
        <a:graphic>
          <a:graphicData uri="http://schemas.openxmlformats.org/drawingml/2006/table">
            <a:tbl>
              <a:tblPr/>
              <a:tblGrid>
                <a:gridCol w="7488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 Какую траекторию описывают стрелки час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580000" y="4643280"/>
          <a:ext cx="2040120" cy="314640"/>
        </p:xfrm>
        <a:graphic>
          <a:graphicData uri="http://schemas.openxmlformats.org/drawingml/2006/table">
            <a:tbl>
              <a:tblPr/>
              <a:tblGrid>
                <a:gridCol w="2040120"/>
              </a:tblGrid>
              <a:tr h="3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круг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11280" y="5013360"/>
          <a:ext cx="7008840" cy="360360"/>
        </p:xfrm>
        <a:graphic>
          <a:graphicData uri="http://schemas.openxmlformats.org/drawingml/2006/table">
            <a:tbl>
              <a:tblPr/>
              <a:tblGrid>
                <a:gridCol w="700884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 Каким химическим элементом богата морская капуста-ламинар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580000" y="5229360"/>
          <a:ext cx="2040120" cy="304560"/>
        </p:xfrm>
        <a:graphic>
          <a:graphicData uri="http://schemas.openxmlformats.org/drawingml/2006/table">
            <a:tbl>
              <a:tblPr/>
              <a:tblGrid>
                <a:gridCol w="2040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й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11280" y="5516640"/>
          <a:ext cx="3456000" cy="36036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 Второе по площади государство 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580000" y="5734080"/>
          <a:ext cx="2040120" cy="503280"/>
        </p:xfrm>
        <a:graphic>
          <a:graphicData uri="http://schemas.openxmlformats.org/drawingml/2006/table">
            <a:tbl>
              <a:tblPr/>
              <a:tblGrid>
                <a:gridCol w="20401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Кана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Скругленный прямоугольник 24">
            <a:hlinkClick r:id="rId3" action="ppaction://hlinksldjump"/>
          </p:cNvPr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 flipV="1" rot="10800000">
            <a:off x="2700360" y="259920"/>
            <a:ext cx="518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минка: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2 коман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13880" y="816120"/>
            <a:ext cx="364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. Самая большая экономическая зон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4857840" y="100008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НАФТ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826920" y="1268280"/>
            <a:ext cx="666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. Государство – теократическая монарх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4788000" y="141300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Ватика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684360" y="177336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. Вывоз из стран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4788000" y="184464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экспор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826920" y="2133720"/>
            <a:ext cx="34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. Почему грязный снег тает быстре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4716360" y="220500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поглощается больше солнечных луче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826920" y="2492280"/>
            <a:ext cx="475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. какой металл обладает бактерицидными свойства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788000" y="2852640"/>
            <a:ext cx="99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серебр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703080" y="3192480"/>
            <a:ext cx="385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. Единица наследственной информац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4788000" y="3284640"/>
            <a:ext cx="103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ге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857160" y="3786120"/>
            <a:ext cx="407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. Какая птица издает звуки, похожие на смех человек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22"/>
          <p:cNvSpPr/>
          <p:nvPr/>
        </p:nvSpPr>
        <p:spPr>
          <a:xfrm>
            <a:off x="785880" y="435780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. Государство по отношению к своим колония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23"/>
          <p:cNvSpPr/>
          <p:nvPr/>
        </p:nvSpPr>
        <p:spPr>
          <a:xfrm>
            <a:off x="5000760" y="450072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метропол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24"/>
          <p:cNvSpPr/>
          <p:nvPr/>
        </p:nvSpPr>
        <p:spPr>
          <a:xfrm>
            <a:off x="677880" y="494172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9. Самый твердый минера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5"/>
          <p:cNvSpPr/>
          <p:nvPr/>
        </p:nvSpPr>
        <p:spPr>
          <a:xfrm>
            <a:off x="4768200" y="506412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алмаз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778680" y="556740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о. Плод картофеля и арбуз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27"/>
          <p:cNvSpPr/>
          <p:nvPr/>
        </p:nvSpPr>
        <p:spPr>
          <a:xfrm>
            <a:off x="4773600" y="5640480"/>
            <a:ext cx="6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я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Скругленный прямоугольник 22">
            <a:hlinkClick r:id="rId3" action="ppaction://hlinksldjump"/>
          </p:cNvPr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4929120" y="3786120"/>
            <a:ext cx="10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фил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116520" y="258840"/>
            <a:ext cx="341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минка: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3 коман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810720" y="6922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. Ввоз в страну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5076720" y="836640"/>
            <a:ext cx="7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импор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826920" y="1052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. Страна, лишенная самостоятельност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5076720" y="1268280"/>
            <a:ext cx="85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коло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826920" y="1484280"/>
            <a:ext cx="35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. Самая распространенная религ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5028840" y="167940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христианств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659160" y="1916280"/>
            <a:ext cx="52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. Что помогает птицам ориентироваться в пространств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5076720" y="2133720"/>
            <a:ext cx="148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магнитное пол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768960" y="2471760"/>
            <a:ext cx="30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. Какой металл болеет «чумой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5054760" y="26161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олов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753120" y="2975040"/>
            <a:ext cx="33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. Где сливки отстаиваются быстре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5023800" y="3119400"/>
            <a:ext cx="175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в холодном мест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751680" y="3479760"/>
            <a:ext cx="35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. Какая птица носит название танц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5054400" y="364500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чечет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776520" y="400536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. Радиоактивная руд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5060880" y="42721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ура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24"/>
          <p:cNvSpPr/>
          <p:nvPr/>
        </p:nvSpPr>
        <p:spPr>
          <a:xfrm>
            <a:off x="787320" y="4632480"/>
            <a:ext cx="17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9. Черное золото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5061240" y="48481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неф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26"/>
          <p:cNvSpPr/>
          <p:nvPr/>
        </p:nvSpPr>
        <p:spPr>
          <a:xfrm>
            <a:off x="721080" y="5280120"/>
            <a:ext cx="347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. Воспроизведение себе подобных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27"/>
          <p:cNvSpPr/>
          <p:nvPr/>
        </p:nvSpPr>
        <p:spPr>
          <a:xfrm>
            <a:off x="5021280" y="549576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размноже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Скругленный прямоугольник 22">
            <a:hlinkClick r:id="rId3" action="ppaction://hlinksldjump"/>
          </p:cNvPr>
          <p:cNvSpPr/>
          <p:nvPr/>
        </p:nvSpPr>
        <p:spPr>
          <a:xfrm>
            <a:off x="7500960" y="6515280"/>
            <a:ext cx="1000080" cy="2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7999"/>
              </a:gs>
              <a:gs pos="100000">
                <a:srgbClr val="a0a0ca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Наз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547640" y="1916280"/>
          <a:ext cx="6096240" cy="2592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унд</a:t>
                      </a:r>
                      <a:r>
                        <a:rPr b="0" lang="en-US" sz="9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2.</a:t>
                      </a:r>
                      <a:endParaRPr b="0" lang="en-US" sz="9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gong.mp3" descr=""/>
          <p:cNvPicPr/>
          <p:nvPr/>
        </p:nvPicPr>
        <p:blipFill>
          <a:blip r:embed="rId2"/>
          <a:stretch/>
        </p:blipFill>
        <p:spPr>
          <a:xfrm>
            <a:off x="6643800" y="2214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6184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6:13:07Z</dcterms:created>
  <dc:creator>XXX</dc:creator>
  <dc:description/>
  <dc:language>en-US</dc:language>
  <cp:lastModifiedBy>;-)))</cp:lastModifiedBy>
  <dcterms:modified xsi:type="dcterms:W3CDTF">2003-12-31T21:30:55Z</dcterms:modified>
  <cp:revision>47</cp:revision>
  <dc:subject/>
  <dc:title>Своя игра </dc:title>
</cp:coreProperties>
</file>