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120-589C-4002-8244-605ED54B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62E-A2CB-4EF3-9CD6-6577D999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58F-EB5B-42C1-933A-322C9921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006-C887-4BFD-809D-C0325A7A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9988-E571-4DEE-9A4B-A933B472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B1D5-64F3-4D41-8438-401B0288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35B3-96CA-47AC-A30E-59D6FD9D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89D1-BB07-4162-B44E-1257B44E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B586-4480-452D-95D1-98A4ED02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4268-DDD6-4D4A-AC37-44F836F3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019B-F313-4DE1-B81C-C2A170D2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1A8-8B6C-4104-A0FE-6AC2EB1A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886D-DE9F-438F-BA4B-A009E1F2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75E5-44F7-4B97-8C60-15696565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8D5A-1F46-44C4-8985-D72E314A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39DA-5DD2-4A7D-B38C-BC6EEA71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6334-8DF0-4660-A5F3-0E8095F2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E916-11F8-42EB-B862-4D6EB216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CEA8-D092-467A-B0CE-D0406F01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2D61-E292-47A1-A6D7-2E83A2B5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00C6-9D48-48B5-AB84-BEAB02B7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115B-4A73-4CD6-8DB9-146A1D81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0C3-0B0C-4D7B-8639-7C8119CD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E395-B12C-471B-877E-07B112C4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B999-CFFB-4829-8340-35F2F903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01FFC-E598-46C7-8B36-1ADBBB81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7472-B39D-4EDF-AB7A-AF8A65CB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B8D1-D6B7-4725-BFF1-B38B88F2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467A-2E1F-49F2-B06A-5494B6B6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76D4-D5C8-44EB-8D71-D7130EF8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4CA55-6510-4293-9959-B898D818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D7E7-4E44-4092-A4F9-BA58FB3F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BE6E-5002-4E45-8052-ABCFE8D4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140-6469-4BD9-AAFC-7C73C65A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3E03F-8E88-4D78-95D1-67F88590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F5C5B-B9E0-4032-B43F-5C74FA14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5D0B-3258-437B-933E-49AAAF2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23D4-D3A3-4983-BE0E-DCF6DBF1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50C1-286E-49A3-8465-DB6B2FB1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7C37-FD69-4BB7-9F79-EAA8146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80F91-FA45-4FA3-B015-ED545A71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D9A9-F411-4DE2-BE95-6B0C64BC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EE34-DF5C-4BE7-8E79-F71A4213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FF4-AC1A-4223-B9AC-1644C861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5D2-EF75-43F6-911F-6B9740F1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1AA-C7AA-4DF4-B1F4-A938FCA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14F-ACFE-4B09-8713-EDBE546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FC7-3BFF-4A1B-88E0-2ADDFFE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0B11-341C-4DC0-A563-16AE7C674681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464D-014E-4BAD-99D7-CB350ED2FEEC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82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7B9-C218-4DA3-BEED-045270C52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5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8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4" name="PlaceHolder 3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1779-D559-42EE-8ECD-06DC2A481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нутренняя политика Никола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рок по истории России 8 класс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читель: Лаврушко О.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ные направления внутренней политики Никола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499760" y="1523520"/>
            <a:ext cx="3668760" cy="4714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Укрепление самодержавия и государственного аппарат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Крестьянский вопрос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Борьба с революционным движение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3" name="" descr="&amp;Icy;&amp;zcy;&amp;ocy;&amp;bcy;&amp;rcy;&amp;acy;&amp;zhcy;&amp;iecy;&amp;ncy;&amp;icy;&amp;iecy; “http://upload.wikimedia.org/wikipedia/commons/thumb/1/1a/Tsar_Nicholas_I_-3.jpg/280px-Tsar_Nicholas_I_-3.jpg” &amp;ncy;&amp;iecy; &amp;mcy;&amp;ocy;&amp;zhcy;&amp;iecy;&amp;tcy; &amp;bcy;&amp;ycy;&amp;tcy;&amp;softcy; &amp;pcy;&amp;ocy;&amp;kcy;&amp;acy;&amp;zcy;&amp;acy;&amp;ncy;&amp;ocy;, &amp;tcy;&amp;acy;&amp;kcy; &amp;kcy;&amp;acy;&amp;kcy; &amp;scy;&amp;ocy;&amp;dcy;&amp;iecy;&amp;rcy;&amp;zhcy;&amp;icy;&amp;tcy; &amp;ocy;&amp;shcy;&amp;icy;&amp;bcy;&amp;kcy;&amp;icy;."/>
          <p:cNvPicPr/>
          <p:nvPr/>
        </p:nvPicPr>
        <p:blipFill>
          <a:blip r:embed="rId2"/>
          <a:stretch/>
        </p:blipFill>
        <p:spPr>
          <a:xfrm>
            <a:off x="1476360" y="1557360"/>
            <a:ext cx="3630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ременники о Никола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«Глубоко искренний в своих убеждениях, часто героический и великий в своей преданности тому делу, в котором он видел миссию, возложенную на него провидением, можно сказать, что Николай I был донкихотом самодержавия, донкихотом страшным и зловредным, потому что обладал всемогуществом, позволившим ему подчинять всё своей фанатической и устарелой теории и попирать ногами самые законные стремления и права своего века. Вот почему этот человек, соединявший с душою великодушной и рыцарской характер редкого благородства и честности, сердце горячее и нежное и ум возвышенный и просвещённый, хотя и лишённый широты, вот почему этот человек мог быть для России в течение своего 30-летнего царствования тираном и деспотом, систематически душившим в управляемой им стране всякое проявление инициативы и жизни.» — А. Ф. Тютчева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«В нём много прапорщика и немного Петра Великого», — так писал Пушкин о Николае в своём дневнике 21 мая 1834 г.;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«Ум его не обработан, воспитание его было небрежно», — писала об императоре Николае Павловиче королева Виктория в 1844 год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аткая характеристика Никола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47280" y="134100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7640" y="1125000"/>
            <a:ext cx="456408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Родился в 1796 году, так как имел двух старших братьев Александра и Константина, никогда не готовился занять престол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Николай Павлович получил домашнее образование — к нему и брату Михаилу назначались преподаватели. Но особого усердия к учёбе Николай не проявлял. Он не признавал гуманитарных наук, зато прекрасно разбирался в военном искусстве, увлекался фортификацией, был знаком с инженерным дело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о словам В. А. Муханова, Николай Павлович, окончив курс своего образования, сам ужаснулся своему неведению и после свадьбы старался пополнить этот пробел, но условия жизни рассеянной, преобладание военных занятий и светлые радости семейной жизни отвлекали его от постоянных кабинетных рабо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2905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настический кризис 1825 год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В 1820 году император Александр I сообщил своему брату Николаю Павловичу и его жене, что наследник престола их брат Великий князь Константин Павлович намерен отречься от своего права, поэтому наследником предстоит стать Николаю как следующему по старшинству брату. В 1823 году Константин формально отрёкся от своих прав на престол, так как не имел детей, был разведён и женат вторым браком на польской графине Грудзинской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6 августа 1823 года Александр I подписал втайне составленный манифест, утверждавший отречение Константина Павловича и утверждавший Наследником Престола Николая Павлович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2 декабря 1825 года, не имея возможности убедить Константина занять престол и получив его окончательный отказ (хотя и без формального акта отречения), великий князь Николай Павлович решился принять трон согласно воле Александра I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ледствие и суд над декабристам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К следствию и суду было привлечено 579 человек. Процесс проходил в строжайшей тайне, работу следственной комиссии возглавил сам император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3.07.1826 года пятеро участников восстания: Пестель, Муравьев-Апостол, Бестужев-Рюмин, Каховский и Рылеев были казнены в Петропавловской крепости, более ста человек были сосланы на каторгу и вечное поселение в Сибирь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орьба с революционным движением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9976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88000" y="98100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826 году было создано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III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отделение  императорской канцелярии, в подчинении которого находился корпус жандармов, возглавлял его А.Х. Бенкендорф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826 году был принят новый цензурный устав, названный современниками «чугунным»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6" name="" descr="Alexander von Benckendorff.jpg"/>
          <p:cNvPicPr/>
          <p:nvPr/>
        </p:nvPicPr>
        <p:blipFill>
          <a:blip r:embed="rId1"/>
          <a:stretch/>
        </p:blipFill>
        <p:spPr>
          <a:xfrm>
            <a:off x="1332000" y="1773360"/>
            <a:ext cx="3273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ры по укреплению государственного управл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1523880"/>
            <a:ext cx="4321080" cy="50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В 1826 году М.М. Сперанскому было поручено провести кодификацию российского законодательства. Ему удалось это сделать в течение 5 лет: в 1832 году было опубликовано «Полное собрание законов Российской Империи» в 45-ти томах, а в 1833 – Свод действующих законов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Правительство предприняло ряд мер по поддержке дворянства, что привело к повышению авторитета и роли дворян в Росси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9" name="" descr="&amp;Mcy;&amp;icy;&amp;khcy;&amp;acy;&amp;icy;&amp;lcy; &amp;Mcy;&amp;icy;&amp;khcy;&amp;acy;&amp;jcy;&amp;lcy;&amp;ocy;&amp;vcy;&amp;icy;&amp;chcy; &amp;Scy;&amp;pcy;&amp;iecy;&amp;rcy;&amp;acy;&amp;ncy;&amp;scy;&amp;kcy;&amp;icy;&amp;jcy;"/>
          <p:cNvPicPr/>
          <p:nvPr/>
        </p:nvPicPr>
        <p:blipFill>
          <a:blip r:embed="rId1"/>
          <a:stretch/>
        </p:blipFill>
        <p:spPr>
          <a:xfrm>
            <a:off x="5378400" y="1863720"/>
            <a:ext cx="35560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естьянский вопрос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468144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В 1837-1841 годах П.Д. Киселевым была проведена реформа государственных крестьян, вводившая крестьянское самоуправлени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В 1842 году был издан указ «Об обязанных крестьянах» по которому помещик мог освобождать своих крестьян с предоставлением им наделов в наследственное пользование, но с выполнением определенных повинностей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В 1847-1848 годах крестьяне получили права выкупаться на свободу и приобретать незаселенные земли и строени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Помещикам было запрещено ссылать крестьян в Сибирь и продавать их без зем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1468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63" name="" descr="&amp;Pcy;&amp;ocy;&amp;rcy;&amp;tcy;&amp;rcy;&amp;iecy;&amp;tcy;"/>
          <p:cNvPicPr/>
          <p:nvPr/>
        </p:nvPicPr>
        <p:blipFill>
          <a:blip r:embed="rId1"/>
          <a:stretch/>
        </p:blipFill>
        <p:spPr>
          <a:xfrm>
            <a:off x="5796000" y="1197000"/>
            <a:ext cx="3165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инансовая Рефор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46800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рактическая деятельность Е.Ф. Канкрина, чрезвычайно разносторонняя. С его именем связаны упорядочение русской денежной системы, усиление протекционизма и улучшение государственной отчетности и счетоводств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Денежная реформа 1839 - 1843 годов, заключалась в том, что ассигнации, впервые выпущенные в России при Екатерине II, были фиксированы в существовавшей с 1810 г. серебряной единице (3 рубля 50 копеек ассигнациями = 1 рубль серебром). С 1 июня 1843 г. ассигнации и иные бумажные знаки стали обмениваться на "государственные кредитные билеты", в свою очередь разменные на звонкую монету. Вся реформа была проведена с большой осторожностью и постепенностью.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67" name="" descr="&amp;Pcy;&amp;ocy;&amp;rcy;&amp;tcy;&amp;rcy;&amp;iecy;&amp;tcy;"/>
          <p:cNvPicPr/>
          <p:nvPr/>
        </p:nvPicPr>
        <p:blipFill>
          <a:blip r:embed="rId1"/>
          <a:stretch/>
        </p:blipFill>
        <p:spPr>
          <a:xfrm>
            <a:off x="5940360" y="1197000"/>
            <a:ext cx="301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литика в области образования и культур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8020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Было запрещено принимать крепостных крестьян в средние и высшие учебные заведения, однако именно при Николае 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в 1828 г. в Петербурге был вновь открыт главный педагогический институт. Основан был ряд высших технических и специальных училищ: в 1828 г. Технологический институт в Петербурге, в 1832 г. Училище гражданских инженеров, в 1835 г. Училище правоведения, в 1840 г. Горы-Горецкое земледельческое училище, в 1844 г. Константиновский межевой институт в Москве, в 1830 г. ветеринарная школа в Харькове, в 1848 г. - в Дерпте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Имели место факты, показывающие личное участие Николая 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в развитии искусств: В сентябре 1826 года Николай принял освобождённого им из михайловской ссылки Пушкина, и избавил поэта от общей цензуры (решил сам цензуровать его сочинения), поддержка Александринского театра.  У Николая I хватило и литературного вкуса, и гражданского мужества, чтобы отстоять „Ревизора“ и после первого представления сказать: „Досталось всем — а больше всего МНЕ“»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Однако именно Николай распорядился сослать на Кавказ Лермонтова, По распоряжению царя  были закрыты журналы «Европеец», «Московский телеграф», «Телескоп», преследовался П.Чаадаев, был запрещён к постановке в России Ф. Шиллер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1:57:13Z</dcterms:created>
  <dc:creator>Olya</dc:creator>
  <dc:description/>
  <dc:language>en-US</dc:language>
  <cp:lastModifiedBy>Olya</cp:lastModifiedBy>
  <dcterms:modified xsi:type="dcterms:W3CDTF">2012-02-26T13:53:56Z</dcterms:modified>
  <cp:revision>2</cp:revision>
  <dc:subject/>
  <dc:title>Внутренняя политика Николая I.</dc:title>
</cp:coreProperties>
</file>