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E15-8D1A-4481-B554-A8F3EC3B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675-55F7-4A53-AA4A-9A5C7645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220-BE59-4A1E-8E2D-677A4C9C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715-0889-4D28-97BE-198E3FCD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F3F-7093-42FA-ADBE-5676C655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FB4-2787-4597-B91C-66D00373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8FD-6A42-421C-8059-0C046291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08A-F034-44A6-8FE6-C047F5C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D6E-C224-4BD0-BC10-56F9BA6C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3FD-2C8B-41B5-ACC3-C7CC429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BE8-A765-41A9-815B-FC32983E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073-8C03-4019-B38A-92AF66A8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44A8-1872-46D0-96DB-75D432348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руг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луэ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762120" y="150336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УЭТ  -       очертание   предмета , подобие      его   тени ;   вид   графической  техники,     плоскостно е        о д н о т о н н о е  изображение  фигур и предметов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rcRect l="60938" t="45837" r="14063" b="11457"/>
          <a:stretch/>
        </p:blipFill>
        <p:spPr>
          <a:xfrm>
            <a:off x="3124080" y="2895480"/>
            <a:ext cx="2438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9"/>
          <p:cNvSpPr/>
          <p:nvPr/>
        </p:nvSpPr>
        <p:spPr>
          <a:xfrm flipH="1">
            <a:off x="2971440" y="1447920"/>
            <a:ext cx="1600200" cy="3657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4572000" y="1447920"/>
            <a:ext cx="1676520" cy="3581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 flipV="1">
            <a:off x="2971800" y="3428640"/>
            <a:ext cx="3809880" cy="16765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 flipH="1" flipV="1">
            <a:off x="2361960" y="3504960"/>
            <a:ext cx="3886200" cy="15238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 flipV="1">
            <a:off x="2362320" y="1981080"/>
            <a:ext cx="3733560" cy="1524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H="1">
            <a:off x="4571640" y="1981080"/>
            <a:ext cx="1523880" cy="3733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3048120" y="2057400"/>
            <a:ext cx="1523880" cy="3657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3048120" y="2057400"/>
            <a:ext cx="3733560" cy="1371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344840" y="685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7"/>
          <p:cNvSpPr/>
          <p:nvPr/>
        </p:nvSpPr>
        <p:spPr>
          <a:xfrm>
            <a:off x="7012440" y="304812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8"/>
          <p:cNvSpPr/>
          <p:nvPr/>
        </p:nvSpPr>
        <p:spPr>
          <a:xfrm>
            <a:off x="6478920" y="48769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4421520" y="57913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2516400" y="51055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1"/>
          <p:cNvSpPr/>
          <p:nvPr/>
        </p:nvSpPr>
        <p:spPr>
          <a:xfrm>
            <a:off x="1830240" y="3200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2"/>
          <p:cNvSpPr/>
          <p:nvPr/>
        </p:nvSpPr>
        <p:spPr>
          <a:xfrm>
            <a:off x="2516040" y="1523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3"/>
          <p:cNvSpPr/>
          <p:nvPr/>
        </p:nvSpPr>
        <p:spPr>
          <a:xfrm>
            <a:off x="6249960" y="1447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457200" y="11430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  тюрк,    «чёрный       камень»)       —   стержень  (часто     в  деревянной ,       пластмассовой          или    металлической  оправе)   для   письма ,   рисования ,   черчения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E:\к урокам изо 2011-2012\худож материалы\2_1_85.jpg"/>
          <p:cNvPicPr/>
          <p:nvPr/>
        </p:nvPicPr>
        <p:blipFill>
          <a:blip r:embed="rId1"/>
          <a:stretch/>
        </p:blipFill>
        <p:spPr>
          <a:xfrm>
            <a:off x="3200400" y="24004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rcRect l="25001" t="20204" r="25928" b="15818"/>
          <a:stretch/>
        </p:blipFill>
        <p:spPr>
          <a:xfrm>
            <a:off x="1600200" y="914400"/>
            <a:ext cx="5867280" cy="4906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4344840" y="45720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707160" y="1219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7545240" y="28195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6859800" y="4800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345200" y="56386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135520" y="4952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144800" y="28195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516040" y="83808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ьб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нок, подставка  (чаще треножная), на которой помещается на различной высоте и с соответствующем  наклоном картон, доска, хол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художник"/>
          <p:cNvPicPr/>
          <p:nvPr/>
        </p:nvPicPr>
        <p:blipFill>
          <a:blip r:embed="rId1"/>
          <a:stretch/>
        </p:blipFill>
        <p:spPr>
          <a:xfrm>
            <a:off x="3048120" y="3200400"/>
            <a:ext cx="1654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rcRect l="36113" t="40408" r="41667" b="29289"/>
          <a:stretch/>
        </p:blipFill>
        <p:spPr>
          <a:xfrm>
            <a:off x="1600200" y="1066680"/>
            <a:ext cx="5791320" cy="5092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4268880" y="838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211480" y="144792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25032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088400" y="31240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297080" y="3124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135160" y="4952880"/>
            <a:ext cx="4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68520" y="5638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478560" y="4952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ис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основной     инструмент      в  живописи     и  многих     видах    граф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E:\к урокам изо 2011-2012\худож материалы\2_1_80.jpg"/>
          <p:cNvPicPr/>
          <p:nvPr/>
        </p:nvPicPr>
        <p:blipFill>
          <a:blip r:embed="rId1"/>
          <a:stretch/>
        </p:blipFill>
        <p:spPr>
          <a:xfrm>
            <a:off x="1295280" y="211464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rcRect l="36113" t="40408" r="41667" b="29289"/>
          <a:stretch/>
        </p:blipFill>
        <p:spPr>
          <a:xfrm>
            <a:off x="1752480" y="914400"/>
            <a:ext cx="5791320" cy="50925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4421160" y="685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402600" y="1219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363400" y="129528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525320" y="2971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240680" y="29718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2874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421160" y="5410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554880" y="4800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вар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304920" y="12952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т.,  от  лат.   «вода»)     —   1)   мелкотёртые  краски,    разводимые       водой ,   а  также     живопись   этими     красками ;   2)   произведение ,   написанное   этими   красками ,   как  правило       по  бумаге    или    карт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E:\к урокам изо 2011-2012\худож материалы\2_1_50.jpg"/>
          <p:cNvPicPr/>
          <p:nvPr/>
        </p:nvPicPr>
        <p:blipFill>
          <a:blip r:embed="rId1"/>
          <a:stretch/>
        </p:blipFill>
        <p:spPr>
          <a:xfrm>
            <a:off x="2209680" y="22860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rcRect l="36113" t="40408" r="41667" b="29289"/>
          <a:stretch/>
        </p:blipFill>
        <p:spPr>
          <a:xfrm>
            <a:off x="1523880" y="990720"/>
            <a:ext cx="5791320" cy="5092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4192560" y="838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09768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135520" y="13716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296360" y="3048120"/>
            <a:ext cx="5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7012080" y="312408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059200" y="49528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4192920" y="54864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6402600" y="48769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зашифрован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380880" y="15825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   из   основных      видов    изобразительного  искусства,    произведения       которого     создаются     на   плоскости ,   выполняются        при    помощи     красок,  смальт    и   других материалов ,      наносимых       на   какую-либо       твёрдую    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D:\TP IZO (D)\Intro\izo3_14\3_14_18.jpg"/>
          <p:cNvPicPr/>
          <p:nvPr/>
        </p:nvPicPr>
        <p:blipFill>
          <a:blip r:embed="rId1"/>
          <a:stretch/>
        </p:blipFill>
        <p:spPr>
          <a:xfrm>
            <a:off x="2514600" y="3067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36113" t="40408" r="41667" b="29289"/>
          <a:stretch/>
        </p:blipFill>
        <p:spPr>
          <a:xfrm>
            <a:off x="1523880" y="838080"/>
            <a:ext cx="5791320" cy="5092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2135520" y="1295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116240" y="68580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173640" y="121932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012080" y="289548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297080" y="297180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058840" y="4800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116600" y="53341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6325920" y="4648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2057400" y="4572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рн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D:\TP IZO (D)\Intro\izo3_22\3_22_24.jpg"/>
          <p:cNvPicPr/>
          <p:nvPr/>
        </p:nvPicPr>
        <p:blipFill>
          <a:blip r:embed="rId1"/>
          <a:stretch/>
        </p:blipFill>
        <p:spPr>
          <a:xfrm>
            <a:off x="1371600" y="2362320"/>
            <a:ext cx="5054760" cy="37908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3"/>
          <p:cNvSpPr/>
          <p:nvPr/>
        </p:nvSpPr>
        <p:spPr>
          <a:xfrm>
            <a:off x="304920" y="1295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   «украшение»)       —   узор ,  состоящий   из   ритмически      упорядоченных         элементов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rcRect l="36113" t="40408" r="41667" b="29289"/>
          <a:stretch/>
        </p:blipFill>
        <p:spPr>
          <a:xfrm>
            <a:off x="1523880" y="990720"/>
            <a:ext cx="5791320" cy="5092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4116600" y="8380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173640" y="1295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059200" y="13716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371600" y="3124080"/>
            <a:ext cx="4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012080" y="30481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2058840" y="4876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116600" y="55627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6326280" y="4876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2971800" y="6094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бро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380880" y="14479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  с   натуры,    мгновенно       фиксирующий   зрительное   восприятие   чего-либ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11719" t="19793" r="50002" b="37500"/>
          <a:stretch/>
        </p:blipFill>
        <p:spPr>
          <a:xfrm>
            <a:off x="1905120" y="2209680"/>
            <a:ext cx="4645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rcRect l="36113" t="40408" r="41667" b="29289"/>
          <a:stretch/>
        </p:blipFill>
        <p:spPr>
          <a:xfrm>
            <a:off x="1828800" y="1219320"/>
            <a:ext cx="5659560" cy="4525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4421520" y="9907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6400800" y="152388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7164360" y="3048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6554880" y="45720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2"/>
          <p:cNvSpPr/>
          <p:nvPr/>
        </p:nvSpPr>
        <p:spPr>
          <a:xfrm>
            <a:off x="4421160" y="5257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364120" y="4648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1601640" y="30481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2364120" y="1523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3511080" y="685800"/>
            <a:ext cx="28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рм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533520" y="1523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,  от   гр.  «стройность ,   связь»)     —   стройная   согласованность  частей   единого   целого.            В   изобразительном    искусстве   это   согласованное       и   соразмерное       сочетание  всех    элементов      художественного         произведения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D:\TP IZO (D)\Intro\izo3_18\3_18_25.jpg"/>
          <p:cNvPicPr/>
          <p:nvPr/>
        </p:nvPicPr>
        <p:blipFill>
          <a:blip r:embed="rId1"/>
          <a:stretch/>
        </p:blipFill>
        <p:spPr>
          <a:xfrm>
            <a:off x="3276720" y="2457360"/>
            <a:ext cx="51051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4"/>
          <p:cNvSpPr/>
          <p:nvPr/>
        </p:nvSpPr>
        <p:spPr>
          <a:xfrm>
            <a:off x="2971800" y="1066680"/>
            <a:ext cx="4191120" cy="373392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 rot="2090400">
            <a:off x="3352320" y="1142640"/>
            <a:ext cx="4191120" cy="373392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 rot="19478400">
            <a:off x="2742840" y="1143000"/>
            <a:ext cx="4191120" cy="373392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2743200" y="3352680"/>
            <a:ext cx="48769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3809880" y="1523880"/>
            <a:ext cx="2286000" cy="4191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3809880" y="1523880"/>
            <a:ext cx="3353040" cy="3276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5105520" y="1143000"/>
            <a:ext cx="990360" cy="46483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743200" y="3352680"/>
            <a:ext cx="4419720" cy="1447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 flipH="1">
            <a:off x="2971440" y="1523880"/>
            <a:ext cx="3505320" cy="3276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 flipH="1">
            <a:off x="4191120" y="1523880"/>
            <a:ext cx="2286000" cy="4267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 flipH="1">
            <a:off x="4191120" y="1219320"/>
            <a:ext cx="838080" cy="45720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8"/>
          <p:cNvSpPr/>
          <p:nvPr/>
        </p:nvSpPr>
        <p:spPr>
          <a:xfrm>
            <a:off x="4802400" y="3808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6554880" y="9907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3201840" y="91440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7773840" y="320040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205884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2363760" y="47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4"/>
          <p:cNvSpPr/>
          <p:nvPr/>
        </p:nvSpPr>
        <p:spPr>
          <a:xfrm>
            <a:off x="3811680" y="5715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6097680" y="57150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7316640" y="47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етотен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457200" y="9144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ТЕНЬ          —   одно   из   основных   средств       изобразительного   искусства.    Она    позволяет     художнику      передавать     форму    предмета ,     его  объём ,    особенности       его  поверхности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D:\TP IZO (D)\Intro\izo3_6\3_6_36.jpg"/>
          <p:cNvPicPr/>
          <p:nvPr/>
        </p:nvPicPr>
        <p:blipFill>
          <a:blip r:embed="rId1"/>
          <a:stretch/>
        </p:blipFill>
        <p:spPr>
          <a:xfrm>
            <a:off x="1447920" y="2360520"/>
            <a:ext cx="59958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248160" cy="4896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4268520" y="4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6021360" y="838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7392960" y="2819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859800" y="43434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5564520" y="56386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3430440" y="5638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1753920" y="472428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221120" y="29718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2516400" y="8380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1905120" y="1600200"/>
            <a:ext cx="4876560" cy="4038480"/>
          </a:xfrm>
          <a:custGeom>
            <a:avLst/>
            <a:gdLst>
              <a:gd name="textAreaLeft" fmla="*/ 1506960 w 4876560"/>
              <a:gd name="textAreaRight" fmla="*/ 3369600 w 4876560"/>
              <a:gd name="textAreaTop" fmla="*/ 1542600 h 4038480"/>
              <a:gd name="textAreaBottom" fmla="*/ 3085200 h 4038480"/>
            </a:gdLst>
            <a:ahLst/>
            <a:rect l="textAreaLeft" t="textAreaTop" r="textAreaRight" b="textAreaBottom"/>
            <a:pathLst>
              <a:path w="4876800" h="4038600">
                <a:moveTo>
                  <a:pt x="5" y="1542604"/>
                </a:moveTo>
                <a:lnTo>
                  <a:pt x="1862782" y="1542615"/>
                </a:lnTo>
                <a:lnTo>
                  <a:pt x="2438400" y="0"/>
                </a:lnTo>
                <a:lnTo>
                  <a:pt x="3014018" y="1542615"/>
                </a:lnTo>
                <a:lnTo>
                  <a:pt x="4876795" y="1542604"/>
                </a:lnTo>
                <a:lnTo>
                  <a:pt x="3369770" y="2495980"/>
                </a:lnTo>
                <a:lnTo>
                  <a:pt x="3945416" y="4038587"/>
                </a:lnTo>
                <a:lnTo>
                  <a:pt x="2438400" y="3085195"/>
                </a:lnTo>
                <a:lnTo>
                  <a:pt x="931384" y="4038587"/>
                </a:lnTo>
                <a:lnTo>
                  <a:pt x="1507030" y="2495980"/>
                </a:lnTo>
                <a:close/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9880" y="3124080"/>
            <a:ext cx="10670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H="1">
            <a:off x="3429000" y="3124080"/>
            <a:ext cx="380880" cy="10670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3505320" y="4191120"/>
            <a:ext cx="914400" cy="5331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4952880" y="3200400"/>
            <a:ext cx="304920" cy="9144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V="1">
            <a:off x="4343400" y="4114800"/>
            <a:ext cx="914400" cy="5335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268520" y="84456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936120" y="282564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5868720" y="5638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592360" y="563868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449360" y="2749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рис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609480" y="121932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   выполненный   рисунок         с  н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D:\TP IZO (D)\Intro\izo3_2\3_3_11.jpg"/>
          <p:cNvPicPr/>
          <p:nvPr/>
        </p:nvPicPr>
        <p:blipFill>
          <a:blip r:embed="rId1"/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ск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80880" y="13716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 С К И З     (фр.)   —   в   изобразительном     искусстве    —    предварительный ,  часто    беглый     набросок,    фиксирующи й         замысел      художественного         произвед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D:\TP IZO (D)\Intro\izo3_2\3_3_3.jpg"/>
          <p:cNvPicPr/>
          <p:nvPr/>
        </p:nvPicPr>
        <p:blipFill>
          <a:blip r:embed="rId1"/>
          <a:stretch/>
        </p:blipFill>
        <p:spPr>
          <a:xfrm>
            <a:off x="3124080" y="2341440"/>
            <a:ext cx="5237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638680" cy="4851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344840" y="490680"/>
            <a:ext cx="3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7164360" y="2036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7240320" y="4654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344840" y="6026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601280" y="485604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600920" y="196056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E:\к урокам изо 2011-2012\худож материалы\2_1_11.jpg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5027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1905120"/>
            <a:ext cx="3505320" cy="297180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 rot="3588000">
            <a:off x="3314160" y="2095560"/>
            <a:ext cx="3505320" cy="297180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4648320" y="1981080"/>
            <a:ext cx="0" cy="38862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2895480" y="2819160"/>
            <a:ext cx="3505320" cy="20574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 flipV="1">
            <a:off x="2895120" y="2819520"/>
            <a:ext cx="3581640" cy="2133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419720" y="152388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478200" y="2417760"/>
            <a:ext cx="4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 flipV="1" rot="10709400">
            <a:off x="6554520" y="472248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2439720" y="455148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2516040" y="2341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4573800" y="5896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с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E:\к урокам изо 2011-2012\худож материалы\2_1_37.jpg"/>
          <p:cNvPicPr/>
          <p:nvPr/>
        </p:nvPicPr>
        <p:blipFill>
          <a:blip r:embed="rId1"/>
          <a:stretch/>
        </p:blipFill>
        <p:spPr>
          <a:xfrm>
            <a:off x="1573200" y="1179360"/>
            <a:ext cx="59961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>
            <a:off x="2819520" y="1905120"/>
            <a:ext cx="3962160" cy="335268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 rot="3636600">
            <a:off x="3276360" y="1981080"/>
            <a:ext cx="3962160" cy="335304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2819520" y="2819160"/>
            <a:ext cx="3886200" cy="2438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2895480" y="2819520"/>
            <a:ext cx="3886200" cy="2438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4800600" y="1981080"/>
            <a:ext cx="0" cy="4191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4573800" y="107316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6859440" y="221616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6935400" y="518796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2363760" y="2292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2516040" y="526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4573800" y="6156360"/>
            <a:ext cx="46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0-17T15:34:4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