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D7E6-C99D-4B4C-9449-ABD448EA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825D-5ED7-4A02-918F-F1B1D54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3A37-113F-47E4-B4E3-A1F7FBF1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C759-C319-45D5-A702-D298F897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9AE2-51F3-4052-83A0-17131C93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0BDE-A04C-4353-85FC-B285F86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7D5E-8012-48AB-ABAA-474CF33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35DB-6BF3-43EA-94C3-686004D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3C59-0BA5-455C-ADB0-133C635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503-2CBB-46E1-9380-D3ED91B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EF68-6FB0-462C-A1E8-7A5C09B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C30B-C244-4AC8-BB62-6CA2E2C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4F9F-67BA-400E-8E62-A31B0A1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A3FB-AAEC-49C1-8344-FF28999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D314-0353-4160-85F7-0932E4E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0FB-9677-47D2-AF2D-DDD94B9E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ABA-D671-4565-B29C-10C0D7E5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6AA6-7CBB-4D72-AB35-BF5D2FB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4367-8E7A-4DF1-8883-5297444C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164A-48C9-4A88-83ED-B04C052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CE25-13B0-4FE2-87CA-49ED94E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989F-758A-48AB-8707-6979655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110C-54C9-4057-AB67-27ADC7C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CC93-8332-4C65-A0FE-56C79C9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529-B903-4D05-95E1-90EBE6F39A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AD2-5EAA-40E5-B752-DE887DBBCF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908000" y="184464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62240" y="260280"/>
            <a:ext cx="4549680" cy="626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705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47960" y="287280"/>
            <a:ext cx="49276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27400" y="333360"/>
            <a:ext cx="4727520" cy="604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907920"/>
            <a:ext cx="669636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   зимняя стих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imes New Roman"/>
              </a:rPr>
              <a:t>Как соотносится начало повести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imes New Roman"/>
              </a:rPr>
              <a:t>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981000"/>
            <a:ext cx="8532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романтической таинственности – спокой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романтического героя – «добрый Гаврила Гаврилович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взволнованного настоящего – уравновешенное прошедш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драматических коллизий – обыденность, скука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Наташа</cp:lastModifiedBy>
  <dcterms:modified xsi:type="dcterms:W3CDTF">2012-02-27T19:26:31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