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13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23.gif" ContentType="image/gif"/>
  <Override PartName="/ppt/media/image17.jpeg" ContentType="image/jpeg"/>
  <Override PartName="/ppt/media/image14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3890-40DB-4445-9543-533C9DFC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B1F8-2B76-47B0-B8DC-EAB09C6A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3A95-989A-4956-83DD-A779CDA40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EC9F-5F47-4BAC-BC1A-448EAE889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C617-471D-4376-BCBE-9212193B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05DD-CEB6-4A11-A47E-EF55BA9F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7714-EBCC-4B35-8551-5C0AB818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C663-C350-4F65-984E-1D1CBC77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E8FC-FA9C-45F1-B41A-528A1A1F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257A-CAF3-4126-8011-C94A25BA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D387-1325-4487-A0EB-E3F90BAC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A93F-64EE-4314-A34C-FC16DAC8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D1D2-996F-4805-A32C-40FCC317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36A6-99E0-4472-9D63-B9784207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B84A-43AD-450D-BDE5-6C04BD89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6EC3-6D8D-432B-9BBF-663EC6D0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A575-0A53-4307-8158-ED2769C34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AFC1-F4FB-44A5-A2D1-D8E81E51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69D1-0152-478B-9420-5EB2C2B4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C849-7C08-4DB4-A2DD-74421D53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7004-6FB7-4D91-8C9A-326B145E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49E1-B925-4A04-997C-2BE47E02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FF1A-7D91-4C90-BD3D-ACFB169C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79CC-3DA5-48EA-9DCA-2B1A30D6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S Yermak_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S Yermak_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S Yermak_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E86E-5B35-499C-8B84-E8EE537E1A1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S Yermak_D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S Yermak_D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DS Yermak_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DS Yermak_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DS Yermak_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DS Yermak_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DS Yermak_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DS Yermak_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DS Yermak_D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DS Yermak_D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DS Yermak_D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ffffff"/>
                    </a:solidFill>
                    <a:latin typeface="DS Yermak_D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ffffff"/>
                    </a:solidFill>
                    <a:latin typeface="DS Yermak_D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ffffff"/>
                    </a:solidFill>
                    <a:latin typeface="DS Yermak_D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DS Yermak_D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DS Yermak_D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DS Yermak_D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ffffff"/>
                    </a:solidFill>
                    <a:latin typeface="DS Yermak_D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ffffff"/>
                    </a:solidFill>
                    <a:latin typeface="DS Yermak_D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ffffff"/>
                    </a:solidFill>
                    <a:latin typeface="DS Yermak_D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ffffff"/>
                    </a:solidFill>
                    <a:latin typeface="DS Yermak_D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ffffff"/>
                    </a:solidFill>
                    <a:latin typeface="DS Yermak_D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ffffff"/>
                    </a:solidFill>
                    <a:latin typeface="DS Yermak_D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ffffff"/>
                    </a:solidFill>
                    <a:latin typeface="DS Yermak_D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ffffff"/>
                    </a:solidFill>
                    <a:latin typeface="DS Yermak_D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DS Yermak_D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DS Yermak_D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DS Yermak_D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ffffff"/>
                    </a:solidFill>
                    <a:latin typeface="DS Yermak_D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ffffff"/>
                    </a:solidFill>
                    <a:latin typeface="DS Yermak_D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ffffff"/>
                    </a:solidFill>
                    <a:latin typeface="DS Yermak_D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ffffff"/>
                    </a:solidFill>
                    <a:latin typeface="DS Yermak_D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ffffff"/>
                    </a:solidFill>
                    <a:latin typeface="DS Yermak_D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ffffff"/>
                    </a:solidFill>
                    <a:latin typeface="DS Yermak_D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ffffff"/>
                    </a:solidFill>
                    <a:latin typeface="DS Yermak_D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ffffff"/>
                    </a:solidFill>
                    <a:latin typeface="DS Yermak_D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DS Yermak_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S Yermak_D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DS Yermak_D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DS Yermak_D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DS Yermak_D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DS Yermak_D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DS Yermak_D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DS Yermak_D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DS Yermak_D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DS Yermak_D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DS Yermak_D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DS Yermak_D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DS Yermak_D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DS Yermak_D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DS Yermak_D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DS Yermak_D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DS Yermak_D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DS Yermak_D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S Yermak_D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S Yermak_D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S Yermak_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S Yermak_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0556-8F34-4782-9B5D-C4BA332EB759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2205000"/>
            <a:ext cx="6834240" cy="2232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8080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DS Yermak_D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Классный час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Начало славянской письменности»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2340000" y="4385160"/>
            <a:ext cx="482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DS Yermak_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готовил:</a:t>
            </a:r>
            <a:endParaRPr b="0" lang="en-US" sz="2400" spc="-1" strike="noStrike">
              <a:solidFill>
                <a:srgbClr val="ffffff"/>
              </a:solidFill>
              <a:latin typeface="DS Yermak_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читель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DS Yermak_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авославной культуры</a:t>
            </a:r>
            <a:endParaRPr b="0" lang="en-US" sz="2400" spc="-1" strike="noStrike">
              <a:solidFill>
                <a:srgbClr val="ffffff"/>
              </a:solidFill>
              <a:latin typeface="DS Yermak_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редней школы № 2</a:t>
            </a:r>
            <a:endParaRPr b="0" lang="en-US" sz="2400" spc="-1" strike="noStrike">
              <a:solidFill>
                <a:srgbClr val="ffffff"/>
              </a:solidFill>
              <a:latin typeface="DS Yermak_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.Ф.Таничев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DS Yermak_D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971640" y="4437000"/>
            <a:ext cx="2016000" cy="1440000"/>
          </a:xfrm>
          <a:prstGeom prst="horizontalScroll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S Yermak_D"/>
            </a:endParaRPr>
          </a:p>
        </p:txBody>
      </p:sp>
      <p:sp>
        <p:nvSpPr>
          <p:cNvPr id="154" name="AutoShape 9"/>
          <p:cNvSpPr/>
          <p:nvPr/>
        </p:nvSpPr>
        <p:spPr>
          <a:xfrm>
            <a:off x="539640" y="5589720"/>
            <a:ext cx="1944720" cy="36036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S Yermak_D"/>
            </a:endParaRPr>
          </a:p>
        </p:txBody>
      </p:sp>
      <p:pic>
        <p:nvPicPr>
          <p:cNvPr id="155" name="Picture 12" descr="033"/>
          <p:cNvPicPr/>
          <p:nvPr/>
        </p:nvPicPr>
        <p:blipFill>
          <a:blip r:embed="rId1"/>
          <a:stretch/>
        </p:blipFill>
        <p:spPr>
          <a:xfrm rot="988200">
            <a:off x="6164280" y="558720"/>
            <a:ext cx="2397240" cy="1409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SO00938_"/>
          <p:cNvPicPr/>
          <p:nvPr/>
        </p:nvPicPr>
        <p:blipFill>
          <a:blip r:embed="rId2"/>
          <a:stretch/>
        </p:blipFill>
        <p:spPr>
          <a:xfrm rot="21034200">
            <a:off x="323640" y="5229000"/>
            <a:ext cx="2266920" cy="11397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9"/>
          <p:cNvSpPr/>
          <p:nvPr/>
        </p:nvSpPr>
        <p:spPr>
          <a:xfrm>
            <a:off x="1857240" y="142920"/>
            <a:ext cx="5500800" cy="5806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620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93300"/>
                </a:solidFill>
                <a:latin typeface="Times New Roman"/>
                <a:ea typeface="Times New Roman"/>
              </a:rPr>
              <a:t>МОУ СОШ № 2</a:t>
            </a:r>
            <a:endParaRPr b="0" lang="en-US" sz="1600" spc="-1" strike="noStrike">
              <a:solidFill>
                <a:srgbClr val="ffffff"/>
              </a:solidFill>
              <a:latin typeface="DS Yermak_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933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193300"/>
                </a:solidFill>
                <a:latin typeface="Times New Roman"/>
                <a:ea typeface="Times New Roman"/>
              </a:rPr>
              <a:t>г. Алексеевки Белгородской области</a:t>
            </a:r>
            <a:endParaRPr b="0" lang="en-US" sz="1600" spc="-1" strike="noStrike">
              <a:solidFill>
                <a:srgbClr val="ffffff"/>
              </a:solidFill>
              <a:latin typeface="DS Yermak_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597384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0" name="Picture 4" descr="4DCBFDA0"/>
          <p:cNvPicPr/>
          <p:nvPr/>
        </p:nvPicPr>
        <p:blipFill>
          <a:blip r:embed="rId1">
            <a:lum bright="12000"/>
          </a:blip>
          <a:srcRect l="17184" t="1281" r="59740" b="73872"/>
          <a:stretch/>
        </p:blipFill>
        <p:spPr>
          <a:xfrm>
            <a:off x="3564000" y="1125360"/>
            <a:ext cx="1871640" cy="2808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1" name="Picture 5" descr="4DCBFDA0"/>
          <p:cNvPicPr/>
          <p:nvPr/>
        </p:nvPicPr>
        <p:blipFill>
          <a:blip r:embed="rId2">
            <a:lum bright="12000"/>
          </a:blip>
          <a:srcRect l="3785" t="26088" r="69202" b="47821"/>
          <a:stretch/>
        </p:blipFill>
        <p:spPr>
          <a:xfrm>
            <a:off x="5850000" y="1125360"/>
            <a:ext cx="2035080" cy="27352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2" name="Picture 6" descr="4DCBFDA0"/>
          <p:cNvPicPr/>
          <p:nvPr/>
        </p:nvPicPr>
        <p:blipFill>
          <a:blip r:embed="rId3">
            <a:lum bright="12000"/>
          </a:blip>
          <a:srcRect l="57797" t="50968" r="17133" b="21441"/>
          <a:stretch/>
        </p:blipFill>
        <p:spPr>
          <a:xfrm rot="662400">
            <a:off x="6227640" y="3933360"/>
            <a:ext cx="1764000" cy="27352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3" name="Picture 7" descr="85E954AE"/>
          <p:cNvPicPr/>
          <p:nvPr/>
        </p:nvPicPr>
        <p:blipFill>
          <a:blip r:embed="rId4">
            <a:lum bright="12000"/>
          </a:blip>
          <a:srcRect l="1929" t="26347" r="73073" b="47890"/>
          <a:stretch/>
        </p:blipFill>
        <p:spPr>
          <a:xfrm rot="21163800">
            <a:off x="3708000" y="4076280"/>
            <a:ext cx="1866960" cy="2592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4" name="Picture 8" descr="105_GL_Inicyal"/>
          <p:cNvPicPr/>
          <p:nvPr/>
        </p:nvPicPr>
        <p:blipFill>
          <a:blip r:embed="rId5"/>
          <a:stretch/>
        </p:blipFill>
        <p:spPr>
          <a:xfrm>
            <a:off x="324000" y="907920"/>
            <a:ext cx="2962080" cy="4464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95" name="Text Box 10"/>
          <p:cNvSpPr/>
          <p:nvPr/>
        </p:nvSpPr>
        <p:spPr>
          <a:xfrm>
            <a:off x="2195640" y="288360"/>
            <a:ext cx="52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Slavianskiy"/>
              </a:rPr>
              <a:t>Буквицы</a:t>
            </a:r>
            <a:endParaRPr b="0" lang="en-US" sz="4400" spc="-1" strike="noStrike">
              <a:solidFill>
                <a:srgbClr val="ffffff"/>
              </a:solidFill>
              <a:latin typeface="DS Yermak_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627280" y="5229360"/>
            <a:ext cx="4464000" cy="98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Slavianskiy"/>
              </a:rPr>
              <a:t>Петр </a:t>
            </a:r>
            <a:r>
              <a:rPr b="1" lang="en-US" sz="4000" spc="-1" strike="noStrike">
                <a:solidFill>
                  <a:srgbClr val="ffff00"/>
                </a:solidFill>
                <a:latin typeface="Slavianskiy"/>
              </a:rPr>
              <a:t>I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8" name="Picture 4" descr="105_PS_PetrI"/>
          <p:cNvPicPr/>
          <p:nvPr/>
        </p:nvPicPr>
        <p:blipFill>
          <a:blip r:embed="rId1"/>
          <a:stretch/>
        </p:blipFill>
        <p:spPr>
          <a:xfrm>
            <a:off x="2771640" y="549360"/>
            <a:ext cx="3603600" cy="4824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9" name="Picture 5" descr="4F6AC5DA"/>
          <p:cNvPicPr/>
          <p:nvPr/>
        </p:nvPicPr>
        <p:blipFill>
          <a:blip r:embed="rId2">
            <a:lum bright="12000"/>
          </a:blip>
          <a:srcRect l="18619" t="2362" r="13095" b="40045"/>
          <a:stretch/>
        </p:blipFill>
        <p:spPr>
          <a:xfrm rot="20949600">
            <a:off x="539640" y="836640"/>
            <a:ext cx="1441440" cy="20178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00" name="Picture 6" descr="AA605AF8"/>
          <p:cNvPicPr/>
          <p:nvPr/>
        </p:nvPicPr>
        <p:blipFill>
          <a:blip r:embed="rId3">
            <a:lum bright="12000"/>
          </a:blip>
          <a:srcRect l="21194" t="10041" r="23969" b="36469"/>
          <a:stretch/>
        </p:blipFill>
        <p:spPr>
          <a:xfrm rot="916800">
            <a:off x="6804000" y="4076640"/>
            <a:ext cx="1390680" cy="18288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807320" cy="8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Викторина «Откуда азбука пришла»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24000" y="1125360"/>
            <a:ext cx="8353440" cy="49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каком городе родились создатели славянской письменности братья Кирилл и Мефодий?</a:t>
            </a:r>
            <a:endParaRPr b="0" lang="en-US" sz="2400" spc="-1" strike="noStrike">
              <a:solidFill>
                <a:srgbClr val="ffffff"/>
              </a:solidFill>
              <a:latin typeface="DS Yermak_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какой день прославляют  св. братьев Кирилла и Мефодия? </a:t>
            </a:r>
            <a:endParaRPr b="0" lang="en-US" sz="2400" spc="-1" strike="noStrike">
              <a:solidFill>
                <a:srgbClr val="ffffff"/>
              </a:solidFill>
              <a:latin typeface="DS Yermak_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На сколько лет пережил своего брата святой равноап. Мефодий? </a:t>
            </a:r>
            <a:endParaRPr b="0" lang="en-US" sz="2400" spc="-1" strike="noStrike">
              <a:solidFill>
                <a:srgbClr val="ffffff"/>
              </a:solidFill>
              <a:latin typeface="DS Yermak_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До времени правления, какого русского царя кириллица просуществовала без изменений?</a:t>
            </a:r>
            <a:endParaRPr b="0" lang="en-US" sz="2400" spc="-1" strike="noStrike">
              <a:solidFill>
                <a:srgbClr val="ffffff"/>
              </a:solidFill>
              <a:latin typeface="DS Yermak_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Указать изменения, внесенные в кириллицу при составлении «гражданского» алфавита.</a:t>
            </a:r>
            <a:endParaRPr b="0" lang="en-US" sz="2400" spc="-1" strike="noStrike">
              <a:solidFill>
                <a:srgbClr val="ffffff"/>
              </a:solidFill>
              <a:latin typeface="DS Yermak_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Какие книги были переведены с греческого языка святыми равноапостольными братьями Кириллом и Мефодием?</a:t>
            </a:r>
            <a:endParaRPr b="0" lang="en-US" sz="2400" spc="-1" strike="noStrike">
              <a:solidFill>
                <a:srgbClr val="ffffff"/>
              </a:solidFill>
              <a:latin typeface="DS Yermak_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DS Yermak_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58560" y="4868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Slavianskiy"/>
              </a:rPr>
              <a:t>Святые равноапостольные Кирилл и Мефодий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Slavianskiy"/>
              </a:rPr>
              <a:t>Икона (Болгария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5" name="Picture 4" descr="69A0D4EC"/>
          <p:cNvPicPr/>
          <p:nvPr/>
        </p:nvPicPr>
        <p:blipFill>
          <a:blip r:embed="rId1"/>
          <a:srcRect l="15414" t="1493" r="15365" b="14340"/>
          <a:stretch/>
        </p:blipFill>
        <p:spPr>
          <a:xfrm>
            <a:off x="3419640" y="333360"/>
            <a:ext cx="3012840" cy="4608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204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Slavianskiy"/>
              </a:rPr>
              <a:t>Тропарь праздника прославления святых равноапостольных Мефодия и Кирилла, первоучителей словенских, глас 4-й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79898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Slavianskiy"/>
              </a:rPr>
              <a:t>Яко Апостолом единонравии и Словенских странах учителе, Кирилле и Мефодие Богомудрии, Владыку всех молите, вся языки Словенския утвердити в православии и единомыслии, умирити мир, и спаси души наши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8" name="Picture 4" descr="RE00006_"/>
          <p:cNvPicPr/>
          <p:nvPr/>
        </p:nvPicPr>
        <p:blipFill>
          <a:blip r:embed="rId1"/>
          <a:stretch/>
        </p:blipFill>
        <p:spPr>
          <a:xfrm>
            <a:off x="7093080" y="5013360"/>
            <a:ext cx="104904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69608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imes New Roman"/>
              </a:rPr>
              <a:t>Желаю успехов!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0" name="Picture 5" descr="1b3"/>
          <p:cNvPicPr/>
          <p:nvPr/>
        </p:nvPicPr>
        <p:blipFill>
          <a:blip r:embed="rId1"/>
          <a:stretch/>
        </p:blipFill>
        <p:spPr>
          <a:xfrm>
            <a:off x="1332000" y="3213000"/>
            <a:ext cx="2952720" cy="2181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1b3"/>
          <p:cNvPicPr/>
          <p:nvPr/>
        </p:nvPicPr>
        <p:blipFill>
          <a:blip r:embed="rId2"/>
          <a:stretch/>
        </p:blipFill>
        <p:spPr>
          <a:xfrm>
            <a:off x="5435640" y="620640"/>
            <a:ext cx="915840" cy="6764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1b3"/>
          <p:cNvPicPr/>
          <p:nvPr/>
        </p:nvPicPr>
        <p:blipFill>
          <a:blip r:embed="rId3"/>
          <a:stretch/>
        </p:blipFill>
        <p:spPr>
          <a:xfrm>
            <a:off x="5724360" y="4508640"/>
            <a:ext cx="170820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03280" y="980640"/>
            <a:ext cx="435276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Slavianskiy"/>
              </a:rPr>
              <a:t>Святые равноапостольные Кирилл и Мефодий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9" name="Picture 4" descr="SO00938_"/>
          <p:cNvPicPr/>
          <p:nvPr/>
        </p:nvPicPr>
        <p:blipFill>
          <a:blip r:embed="rId1"/>
          <a:stretch/>
        </p:blipFill>
        <p:spPr>
          <a:xfrm>
            <a:off x="6084720" y="5086440"/>
            <a:ext cx="2411640" cy="1212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1E0CB52A"/>
          <p:cNvPicPr/>
          <p:nvPr/>
        </p:nvPicPr>
        <p:blipFill>
          <a:blip r:embed="rId2"/>
          <a:srcRect l="82827" t="41215" r="4694" b="27685"/>
          <a:stretch/>
        </p:blipFill>
        <p:spPr>
          <a:xfrm>
            <a:off x="971640" y="260280"/>
            <a:ext cx="2238120" cy="6048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61" name="Rectangle 9"/>
          <p:cNvSpPr/>
          <p:nvPr/>
        </p:nvSpPr>
        <p:spPr>
          <a:xfrm rot="872400">
            <a:off x="4067280" y="4002120"/>
            <a:ext cx="201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S Yermak_D"/>
              </a:rPr>
              <a:t>X w</a:t>
            </a:r>
            <a:endParaRPr b="0" lang="en-US" sz="2000" spc="-1" strike="noStrike">
              <a:solidFill>
                <a:srgbClr val="ffffff"/>
              </a:solidFill>
              <a:latin typeface="DS Yermak_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S Yermak_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DS Yermak_D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DS Yermak_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S Yermak_D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DS Yermak_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DS Yermak_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S Yermak_D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DS Yermak_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S Yermak_D"/>
              </a:rPr>
              <a:t>]</a:t>
            </a:r>
            <a:r>
              <a:rPr b="0" lang="ru-RU" sz="2000" spc="-1" strike="noStrike">
                <a:solidFill>
                  <a:srgbClr val="ffffff"/>
                </a:solidFill>
                <a:latin typeface="DS Yermak_D"/>
              </a:rPr>
              <a:t>Ъ</a:t>
            </a:r>
            <a:endParaRPr b="0" lang="en-US" sz="2000" spc="-1" strike="noStrike">
              <a:solidFill>
                <a:srgbClr val="ffffff"/>
              </a:solidFill>
              <a:latin typeface="DS Yermak_D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755640" y="568908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DS Yermak_D"/>
              </a:rPr>
              <a:t>24222222</a:t>
            </a:r>
            <a:endParaRPr b="0" lang="en-US" sz="4400" spc="-1" strike="noStrike">
              <a:solidFill>
                <a:srgbClr val="ffffff"/>
              </a:solidFill>
              <a:latin typeface="DS Yermak_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3640" y="907920"/>
            <a:ext cx="37796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Slavianskiy"/>
              </a:rPr>
              <a:t>Патриарх Фотий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4" name="Picture 4" descr="105_PS_Fotiy"/>
          <p:cNvPicPr/>
          <p:nvPr/>
        </p:nvPicPr>
        <p:blipFill>
          <a:blip r:embed="rId1"/>
          <a:stretch/>
        </p:blipFill>
        <p:spPr>
          <a:xfrm>
            <a:off x="1042920" y="1844640"/>
            <a:ext cx="2573280" cy="3672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5" name="Picture 5" descr="105_PS_GrigoriyBogoslov"/>
          <p:cNvPicPr/>
          <p:nvPr/>
        </p:nvPicPr>
        <p:blipFill>
          <a:blip r:embed="rId2"/>
          <a:stretch/>
        </p:blipFill>
        <p:spPr>
          <a:xfrm>
            <a:off x="5130720" y="620640"/>
            <a:ext cx="2616120" cy="3960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66" name="Text Box 7"/>
          <p:cNvSpPr/>
          <p:nvPr/>
        </p:nvSpPr>
        <p:spPr>
          <a:xfrm>
            <a:off x="4211640" y="472428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Slavianskiy"/>
              </a:rPr>
              <a:t>Григорий Богослов</a:t>
            </a:r>
            <a:endParaRPr b="0" lang="en-US" sz="3600" spc="-1" strike="noStrike">
              <a:solidFill>
                <a:srgbClr val="ffffff"/>
              </a:solidFill>
              <a:latin typeface="DS Yermak_D"/>
            </a:endParaRPr>
          </a:p>
        </p:txBody>
      </p:sp>
    </p:spTree>
  </p:cSld>
  <p:transition>
    <p:comb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687096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Slavianskiy"/>
              </a:rPr>
              <a:t>Ростислав Моравский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8" name="Picture 4" descr="105_PS_Rostislav_Moravskiy"/>
          <p:cNvPicPr/>
          <p:nvPr/>
        </p:nvPicPr>
        <p:blipFill>
          <a:blip r:embed="rId1"/>
          <a:stretch/>
        </p:blipFill>
        <p:spPr>
          <a:xfrm>
            <a:off x="2484360" y="1557360"/>
            <a:ext cx="4149720" cy="4896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p:transition>
    <p:strips dir="r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5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4653000"/>
            <a:ext cx="2916000" cy="57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Slavianskiy"/>
              </a:rPr>
              <a:t>Глаголица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1" name="Picture 4" descr="EF3D7CD0"/>
          <p:cNvPicPr/>
          <p:nvPr/>
        </p:nvPicPr>
        <p:blipFill>
          <a:blip r:embed="rId1">
            <a:grayscl/>
            <a:lum bright="6000"/>
          </a:blip>
          <a:srcRect l="44371" t="64295" r="16165" b="16476"/>
          <a:stretch/>
        </p:blipFill>
        <p:spPr>
          <a:xfrm>
            <a:off x="826920" y="692280"/>
            <a:ext cx="3602160" cy="37591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2" name="Picture 5" descr="4D719442"/>
          <p:cNvPicPr/>
          <p:nvPr/>
        </p:nvPicPr>
        <p:blipFill>
          <a:blip r:embed="rId2"/>
          <a:srcRect l="7727" t="8866" r="17287" b="31796"/>
          <a:stretch/>
        </p:blipFill>
        <p:spPr>
          <a:xfrm>
            <a:off x="3564000" y="2060640"/>
            <a:ext cx="4262400" cy="4365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73" name="Text Box 6"/>
          <p:cNvSpPr/>
          <p:nvPr/>
        </p:nvSpPr>
        <p:spPr>
          <a:xfrm rot="793200">
            <a:off x="4639320" y="1043640"/>
            <a:ext cx="316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Slavianskiy"/>
              </a:rPr>
              <a:t>Кириллица</a:t>
            </a:r>
            <a:endParaRPr b="0" lang="en-US" sz="4400" spc="-1" strike="noStrike">
              <a:solidFill>
                <a:srgbClr val="ffffff"/>
              </a:solidFill>
              <a:latin typeface="DS Yermak_D"/>
            </a:endParaRPr>
          </a:p>
        </p:txBody>
      </p:sp>
    </p:spTree>
  </p:cSld>
  <p:transition>
    <p:push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920" y="188640"/>
            <a:ext cx="8064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Slavianski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99"/>
                </a:solidFill>
                <a:uFillTx/>
                <a:latin typeface="Slavianskiy"/>
              </a:rPr>
              <a:t>Евангелие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(греч.  - благая весть)  - первые четыре книги Нового Завета, в которых апостолами изложены жизнь и учение Иисуса Христа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Slavianski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99"/>
                </a:solidFill>
                <a:uFillTx/>
                <a:latin typeface="Slavianskiy"/>
              </a:rPr>
              <a:t>Псалтирь (Псалтырь</a:t>
            </a:r>
            <a:r>
              <a:rPr b="1" lang="ru-RU" sz="2800" spc="-1" strike="noStrike">
                <a:solidFill>
                  <a:srgbClr val="ffff99"/>
                </a:solidFill>
                <a:latin typeface="Slavianskiy"/>
              </a:rPr>
              <a:t>)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- Библейская книга </a:t>
            </a:r>
            <a:r>
              <a:rPr b="1" lang="ru-RU" sz="2800" spc="-1" strike="noStrike" u="sng">
                <a:solidFill>
                  <a:srgbClr val="ffff99"/>
                </a:solidFill>
                <a:uFillTx/>
                <a:latin typeface="Times New Roman"/>
              </a:rPr>
              <a:t>Ветхого Завета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, состоящая из 150 </a:t>
            </a:r>
            <a:r>
              <a:rPr b="1" lang="ru-RU" sz="2800" spc="-1" strike="noStrike" u="sng">
                <a:solidFill>
                  <a:srgbClr val="ffff99"/>
                </a:solidFill>
                <a:uFillTx/>
                <a:latin typeface="Times New Roman"/>
              </a:rPr>
              <a:t>псалмов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, сочинение которых приписывается </a:t>
            </a:r>
            <a:r>
              <a:rPr b="1" lang="ru-RU" sz="2800" spc="-1" strike="noStrike" u="sng">
                <a:solidFill>
                  <a:srgbClr val="ffff99"/>
                </a:solidFill>
                <a:uFillTx/>
                <a:latin typeface="Times New Roman"/>
              </a:rPr>
              <a:t>царю Давиду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Slavianski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99"/>
                </a:solidFill>
                <a:uFillTx/>
                <a:latin typeface="Slavianskiy"/>
              </a:rPr>
              <a:t>Апостол</a:t>
            </a:r>
            <a:r>
              <a:rPr b="1" lang="ru-RU" sz="2800" spc="-1" strike="noStrike">
                <a:solidFill>
                  <a:srgbClr val="ffff99"/>
                </a:solidFill>
                <a:latin typeface="Slavianskiy"/>
              </a:rPr>
              <a:t> 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-  одна из книг, которая используется на богослужении Православной Церкви. Она содержит книгу Деяний святых апостолов и Послания апостолов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7696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ru-RU" sz="3600" spc="-1" strike="noStrike">
                <a:solidFill>
                  <a:srgbClr val="ffff00"/>
                </a:solidFill>
                <a:latin typeface="Comic Sans MS"/>
              </a:rPr>
              <a:t>«Вот, брат, были мы с тобой парой в одной упряжке и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i="1" lang="ru-RU" sz="3600" spc="-1" strike="noStrike">
                <a:solidFill>
                  <a:srgbClr val="ffff00"/>
                </a:solidFill>
                <a:latin typeface="Comic Sans MS"/>
              </a:rPr>
              <a:t>пахали одну (и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i="1" lang="ru-RU" sz="3600" spc="-1" strike="noStrike">
                <a:solidFill>
                  <a:srgbClr val="ffff00"/>
                </a:solidFill>
                <a:latin typeface="Comic Sans MS"/>
              </a:rPr>
              <a:t>ту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i="1" lang="ru-RU" sz="3600" spc="-1" strike="noStrike">
                <a:solidFill>
                  <a:srgbClr val="ffff00"/>
                </a:solidFill>
                <a:latin typeface="Comic Sans MS"/>
              </a:rPr>
              <a:t>же) борозду, и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i="1" lang="ru-RU" sz="3600" spc="-1" strike="noStrike">
                <a:solidFill>
                  <a:srgbClr val="ffff00"/>
                </a:solidFill>
                <a:latin typeface="Comic Sans MS"/>
              </a:rPr>
              <a:t>я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i="1" lang="ru-RU" sz="3600" spc="-1" strike="noStrike">
                <a:solidFill>
                  <a:srgbClr val="ffff00"/>
                </a:solidFill>
                <a:latin typeface="Comic Sans MS"/>
              </a:rPr>
              <a:t>на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i="1" lang="ru-RU" sz="3600" spc="-1" strike="noStrike">
                <a:solidFill>
                  <a:srgbClr val="ffff00"/>
                </a:solidFill>
                <a:latin typeface="Comic Sans MS"/>
              </a:rPr>
              <a:t>поле падаю, окончив день свой. Ты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i="1" lang="ru-RU" sz="3600" spc="-1" strike="noStrike">
                <a:solidFill>
                  <a:srgbClr val="ffff00"/>
                </a:solidFill>
                <a:latin typeface="Comic Sans MS"/>
              </a:rPr>
              <a:t>же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i="1" lang="ru-RU" sz="3600" spc="-1" strike="noStrike">
                <a:solidFill>
                  <a:srgbClr val="ffff00"/>
                </a:solidFill>
                <a:latin typeface="Comic Sans MS"/>
              </a:rPr>
              <a:t>не смей... оставить учительство свое, ибо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i="1" lang="ru-RU" sz="3600" spc="-1" strike="noStrike">
                <a:solidFill>
                  <a:srgbClr val="ffff00"/>
                </a:solidFill>
                <a:latin typeface="Comic Sans MS"/>
              </a:rPr>
              <a:t>чем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i="1" lang="ru-RU" sz="3600" spc="-1" strike="noStrike">
                <a:solidFill>
                  <a:srgbClr val="ffff00"/>
                </a:solidFill>
                <a:latin typeface="Comic Sans MS"/>
              </a:rPr>
              <a:t>иным можешь ты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i="1" lang="ru-RU" sz="3600" spc="-1" strike="noStrike">
                <a:solidFill>
                  <a:srgbClr val="ffff00"/>
                </a:solidFill>
                <a:latin typeface="Comic Sans MS"/>
              </a:rPr>
              <a:t>лучше достичь спасения».</a:t>
            </a:r>
            <a:r>
              <a:rPr b="0" lang="ru-RU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694512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Slavianskiy"/>
              </a:rPr>
              <a:t>Могила святого Кирилла.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Slavianskiy"/>
              </a:rPr>
              <a:t>Церковь Святого Климента в Риме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9" name="Picture 4" descr="5E205016"/>
          <p:cNvPicPr/>
          <p:nvPr/>
        </p:nvPicPr>
        <p:blipFill>
          <a:blip r:embed="rId1"/>
          <a:srcRect l="57858" t="60618" r="22776" b="26120"/>
          <a:stretch/>
        </p:blipFill>
        <p:spPr>
          <a:xfrm>
            <a:off x="2124000" y="2433600"/>
            <a:ext cx="3743280" cy="35305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4076280"/>
            <a:ext cx="241128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Slavianskiy"/>
              </a:rPr>
              <a:t>Уставное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Slavianskiy"/>
              </a:rPr>
              <a:t>письмо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47920" y="2133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2" name="Picture 4" descr="105_GL_Lavrent_letopis"/>
          <p:cNvPicPr/>
          <p:nvPr/>
        </p:nvPicPr>
        <p:blipFill>
          <a:blip r:embed="rId1"/>
          <a:stretch/>
        </p:blipFill>
        <p:spPr>
          <a:xfrm rot="21408600">
            <a:off x="250560" y="549360"/>
            <a:ext cx="2376360" cy="33112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83" name="Picture 5" descr="105_GL_Pergament"/>
          <p:cNvPicPr/>
          <p:nvPr/>
        </p:nvPicPr>
        <p:blipFill>
          <a:blip r:embed="rId2"/>
          <a:stretch/>
        </p:blipFill>
        <p:spPr>
          <a:xfrm rot="437400">
            <a:off x="2555640" y="1844280"/>
            <a:ext cx="3024000" cy="29480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84" name="Picture 6" descr="105_GR_GenBibl_"/>
          <p:cNvPicPr/>
          <p:nvPr/>
        </p:nvPicPr>
        <p:blipFill>
          <a:blip r:embed="rId3"/>
          <a:stretch/>
        </p:blipFill>
        <p:spPr>
          <a:xfrm rot="20784600">
            <a:off x="6084720" y="765000"/>
            <a:ext cx="2179800" cy="3024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105_GR_Ostrojh_Bibliya"/>
          <p:cNvPicPr/>
          <p:nvPr/>
        </p:nvPicPr>
        <p:blipFill>
          <a:blip r:embed="rId4"/>
          <a:stretch/>
        </p:blipFill>
        <p:spPr>
          <a:xfrm rot="1180800">
            <a:off x="5879880" y="3351240"/>
            <a:ext cx="2157120" cy="31669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8"/>
          <p:cNvSpPr/>
          <p:nvPr/>
        </p:nvSpPr>
        <p:spPr>
          <a:xfrm>
            <a:off x="2627280" y="50119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Slavianskiy"/>
              </a:rPr>
              <a:t>Пергамент</a:t>
            </a:r>
            <a:endParaRPr b="0" lang="en-US" sz="2800" spc="-1" strike="noStrike">
              <a:solidFill>
                <a:srgbClr val="ffffff"/>
              </a:solidFill>
              <a:latin typeface="DS Yermak_D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2700360" y="-28944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Slavianskiy"/>
              </a:rPr>
              <a:t>Первые книги Руси</a:t>
            </a:r>
            <a:endParaRPr b="0" lang="en-US" sz="3600" spc="-1" strike="noStrike">
              <a:solidFill>
                <a:srgbClr val="ffffff"/>
              </a:solidFill>
              <a:latin typeface="DS Yermak_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3:11:34Z</dcterms:created>
  <dc:creator>User</dc:creator>
  <dc:description/>
  <dc:language>en-US</dc:language>
  <cp:lastModifiedBy>Admin</cp:lastModifiedBy>
  <dcterms:modified xsi:type="dcterms:W3CDTF">2012-02-27T08:54:03Z</dcterms:modified>
  <cp:revision>5</cp:revision>
  <dc:subject/>
  <dc:title>24 мая - День славянской письменности</dc:title>
</cp:coreProperties>
</file>