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012-A800-4E96-A1F2-0792A810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E06-C725-4A2C-AF8A-55EBEA0B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581-C0E6-465C-8FBC-B923F3A4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84B-10C3-4ED1-84AC-7C8BCD7F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91D9-F32E-4766-900C-87A9C0A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7B4-F72F-412C-8DE2-D618EF1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C359-4F2D-4396-A951-D5A89588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28AE-7C31-43E4-A401-E2243FCF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9AC-2A37-4AEB-A1A4-8E1AB44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9E21-888B-45D0-8019-C237715B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0F05-0596-47DE-BF21-667DAD8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4B7-123E-4A8F-9114-D31CF75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5AA5-5113-41CD-A4EC-AF2C47A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E6B-71C3-46DD-AA73-7D013FE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BDB1-0661-4663-830F-350048AD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F59E-6A02-4193-991C-726C19E4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DDA9-9EE2-4FFB-8509-4EF2B8D5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C261-4CF8-44EC-A100-B691611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1EDC-B668-44E2-8F4F-D663793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7AF1-CF1C-4EAC-ACD3-B92838A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D5F3-8203-4283-B7F5-70F3D2F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8619-7225-4EDF-B5A4-76424D4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6F5-E1DE-4C8D-852E-C6B1A2CA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D54B-4616-4357-96D7-8F31163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FEBD-AE08-40CC-A625-F8333F2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A5BD-DDBB-4166-A873-821BEC0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9E57-41BC-4FC7-BC3E-7DE9709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F1B1-D560-4E9E-9996-375352B5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79C1-A71A-4CDB-B848-903C7A0E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4BB1-D2D9-455D-8740-D3D3A890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799A-0855-4046-9815-131AE0AE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99CA-45EA-4537-9842-307D551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B01A-9636-4B88-9688-9623438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8C9-909D-435E-9258-055118B9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6D6A7-25AB-424C-87C5-0154D5B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DF61-1A36-471B-96AB-3D1F8A1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C19B-D8FF-4F7D-8BD6-B927D9AE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C285-BBE8-4A15-9CE8-FAED8C0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5D78-FA26-4CF1-8411-8BBFCEE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CF9B-32D7-43CD-8CA1-8EDE1A9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B55B-33B1-4429-B71A-804E7881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C416-8B10-45B6-B8DB-45B11D81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4465-0684-490C-96E5-32B323D2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042AA-4F77-4422-8C95-834EAB76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33B-AD54-4ABB-8C34-A825F30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34E9-65D0-4E21-BD9E-E56A94A5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FCC6-E1A7-4CB2-B2DE-A5FF81A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1BC5-4D25-4677-91C0-CA3BFB32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F6CE-DC46-4CF1-AE22-4C4CB995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A12C-62CF-411F-86A4-24B92FE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E232-4798-456B-BAC0-E885FCD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A367-D1D8-4C3E-A5A2-2530DC9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F19C-B3A7-4CAF-AA95-065727A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72F8-4390-4F0D-B7A4-EBBACDE3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729B2-FF88-42D1-9836-CD66CBD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285-541F-4630-A2C2-4EE3222B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AE37-3F34-4F48-8011-2997BC0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27FC-8054-410E-AE88-26490ACC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91E5A-F07A-44D5-8D38-CA9861D3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0462-CEB0-4F10-8E24-5A227AB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9969-EF5D-4B01-8DEC-57A0F5C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8C04-8687-4613-8092-452DB43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ACDC-84DD-4D2E-834D-E7128E6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0416-8015-4152-9E39-030ED1F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BDDC-084A-44E0-8065-AE83D3D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90A3-2A59-442B-92FA-477C8AD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2A0-CDCB-4E68-80E2-262FA94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9B319-ED90-4188-A309-74A9791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EE1A-90CA-4A0D-ACE0-91C9AB22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1821-FEC1-4A45-9651-196FCDFF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84CC-676E-4887-8416-99A322F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72E5-B021-4808-9D79-FE59337E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33A9-8CF0-494C-B7D5-8D092494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5B677-A96D-4C57-AC6E-107D805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A61B1-CDB9-472A-B3C1-FA4B9EB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33EAC-7C3B-49E9-9C1C-6ADC3AE3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E548-D6D4-4C77-B1F5-AF55893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05F-7222-4F6B-9E63-98A2B5E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7FAA9-F01E-4123-9DC3-D0F7B02B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FF8E-B139-45CF-A094-CCCFE30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24D6-A20D-468D-8139-2E305154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6DF3-8161-4A07-9D1C-95A6E015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9D35-2399-460B-B92C-5B3AD38D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7E3-5F85-494F-AE9A-02491D7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0EC8-F231-4BDF-845C-858D4721FB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002-881B-44A8-8F61-CFD4468E53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4A3-E594-4DBE-A76A-816234C5EA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7EA4-1C5E-42CC-A520-DD2D0E2CF1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084F-1531-4282-B938-7E2048CBFF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36A-EA4A-4FDA-AA64-B9839FFB20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893-33EB-45B9-9BE2-1329D0BB6E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4"/>
          <p:cNvSpPr txBox="1"/>
          <p:nvPr/>
        </p:nvSpPr>
        <p:spPr>
          <a:xfrm>
            <a:off x="1285920" y="785880"/>
            <a:ext cx="4286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кт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319" name="WordArt 5"/>
          <p:cNvSpPr txBox="1"/>
          <p:nvPr/>
        </p:nvSpPr>
        <p:spPr>
          <a:xfrm>
            <a:off x="2286000" y="1857240"/>
            <a:ext cx="39290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бываю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320" name="WordArt 6"/>
          <p:cNvSpPr txBox="1"/>
          <p:nvPr/>
        </p:nvSpPr>
        <p:spPr>
          <a:xfrm>
            <a:off x="4000680" y="3071880"/>
            <a:ext cx="35715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раз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>
            <a:lum bright="12000"/>
          </a:blip>
          <a:srcRect l="24838" t="0" r="24946" b="0"/>
          <a:stretch/>
        </p:blipFill>
        <p:spPr>
          <a:xfrm>
            <a:off x="685800" y="3573360"/>
            <a:ext cx="1336680" cy="2664000"/>
          </a:xfrm>
          <a:prstGeom prst="rect">
            <a:avLst/>
          </a:prstGeom>
          <a:ln w="0">
            <a:noFill/>
          </a:ln>
        </p:spPr>
      </p:pic>
      <p:pic>
        <p:nvPicPr>
          <p:cNvPr id="322" name="WordArt 6" descr=""/>
          <p:cNvPicPr/>
          <p:nvPr/>
        </p:nvPicPr>
        <p:blipFill>
          <a:blip r:embed="rId2"/>
          <a:stretch/>
        </p:blipFill>
        <p:spPr>
          <a:xfrm>
            <a:off x="4206960" y="4425840"/>
            <a:ext cx="4187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-21456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 –детский врач</a:t>
            </a: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286000" cy="29289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6"/>
          <p:cNvSpPr/>
          <p:nvPr/>
        </p:nvSpPr>
        <p:spPr>
          <a:xfrm>
            <a:off x="4572000" y="714240"/>
            <a:ext cx="42861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 лечит простудные заболе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еты педиа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период холодов имеет смысл одеваться «не по моде», а по пог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держаться подальше от людей с видимыми симптомами просту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проветривать помещения и делать ежедневно влажную убо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ще мыть ру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 выходом на улицу смазывать наружные носовые ходы оксолиновой мазь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5" descr="C:\Users\Администратор\Pictures\pediatr.jpg"/>
          <p:cNvPicPr/>
          <p:nvPr/>
        </p:nvPicPr>
        <p:blipFill>
          <a:blip r:embed="rId2"/>
          <a:stretch/>
        </p:blipFill>
        <p:spPr>
          <a:xfrm>
            <a:off x="357120" y="3929040"/>
            <a:ext cx="400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49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лист (офтальмолог)-наши гла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3952800" cy="23497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428760" y="3786120"/>
            <a:ext cx="371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тальмолог- это врач, занимающийся диагностикой и лечением глазных боле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4572000" y="714240"/>
            <a:ext cx="457200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ы для сохранения з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Ежегодный профилактический осмотр у офтальм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ниги надо читать на расстоянии 20-25 см от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мещения, где находятся люди, должны быть хорошо осве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Так же хорошо должно быть освещено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Нельзя долго сидеть за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Нельзя с близкого расстояния смотреть телеви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бязательно делать гимнастику для глаз и кушать вита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-143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 (отоларинголог) –ухо, горло, но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857760" cy="264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3816360" cy="27860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2"/>
          <p:cNvSpPr/>
          <p:nvPr/>
        </p:nvSpPr>
        <p:spPr>
          <a:xfrm>
            <a:off x="0" y="3643200"/>
            <a:ext cx="5429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 ЛОР  заболев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оскание гор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мывание носа два раза в день водой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астое проветривание по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бегание переохлаждений, сквозня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ение в рацион свежих овощей и фр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езно смазывание носовых ходов оксолиновой  маз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поливитаминных препа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4"/>
          <p:cNvSpPr/>
          <p:nvPr/>
        </p:nvSpPr>
        <p:spPr>
          <a:xfrm>
            <a:off x="4286160" y="92880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ларинголог занимается диагностикой, лечением различных острых и хронических заболеваний верхних дыхательных путей и у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г-ортопед- наш скел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44400" y="1071720"/>
            <a:ext cx="3384720" cy="2544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311640" cy="24843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285840" y="3857760"/>
            <a:ext cx="435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еты хирурга- ортопе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ьте как можно больше продуктов питания, в составе которых имеется кальций, ведите здоровый образ жизни, занимайтесь спортом, особенно плаванием, и все у Вас будет хорошо, в том числе и с опорно-двигательным аппар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572000" y="1292400"/>
            <a:ext cx="43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ирург-ортопе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это специалист, занимающийся как диагностикой, так и лечением, а также профилактикой всех возможных заболеваний опорно-двигатель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>
            <a:lum bright="12000"/>
          </a:blip>
          <a:srcRect l="24784" t="0" r="24914" b="0"/>
          <a:stretch/>
        </p:blipFill>
        <p:spPr>
          <a:xfrm>
            <a:off x="7358040" y="3143160"/>
            <a:ext cx="1592280" cy="3167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928440" y="1071720"/>
            <a:ext cx="77864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заинтересован в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и и сохранении своег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, а в случае болезни - в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могает нам сохранять своё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67760" indent="-12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785880" y="3929040"/>
            <a:ext cx="7215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й вопрос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3880" y="8568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ос среди учащих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могает тебе в случае болезни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Диаграмма 5" descr=""/>
          <p:cNvPicPr/>
          <p:nvPr/>
        </p:nvPicPr>
        <p:blipFill>
          <a:blip r:embed="rId1"/>
          <a:stretch/>
        </p:blipFill>
        <p:spPr>
          <a:xfrm>
            <a:off x="1000080" y="2500200"/>
            <a:ext cx="7572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Диаграмма 4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750096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071360" y="214200"/>
            <a:ext cx="786276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медицинские специальности ты знаеш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1071720" y="5000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ывается существуют разные медицинские специальности. Чем занимаются врачи каждой специа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WordArt 5"/>
          <p:cNvSpPr txBox="1"/>
          <p:nvPr/>
        </p:nvSpPr>
        <p:spPr>
          <a:xfrm>
            <a:off x="500040" y="1571760"/>
            <a:ext cx="86439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642960" y="1143000"/>
            <a:ext cx="8501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какие 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специальности, чем занимаются врачи каждой специ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нать, как можно сохранить и укрепить своё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00080" y="-21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00080" y="71424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темы проек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на группы по интерес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утей сбора информ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– узнать, какие есть медицинские специальности, чем занимается каждый специали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узнать о детских заболеваниях и о путях оздоровл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-  вспомнить  правил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обранного матери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езультатов исследова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презент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книги «Если хочешь быть здоров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устного журнала «Детская поликлиника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нформаци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4" descr="I:\фото\DSC04736.JPG"/>
          <p:cNvPicPr/>
          <p:nvPr/>
        </p:nvPicPr>
        <p:blipFill>
          <a:blip r:embed="rId1"/>
          <a:stretch/>
        </p:blipFill>
        <p:spPr>
          <a:xfrm>
            <a:off x="357120" y="1000080"/>
            <a:ext cx="3929040" cy="261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I:\фото\DSC04022.JPG"/>
          <p:cNvPicPr/>
          <p:nvPr/>
        </p:nvPicPr>
        <p:blipFill>
          <a:blip r:embed="rId2"/>
          <a:stretch/>
        </p:blipFill>
        <p:spPr>
          <a:xfrm>
            <a:off x="4572000" y="3786120"/>
            <a:ext cx="4214880" cy="27273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6" descr="DSC04737.JPG"/>
          <p:cNvPicPr/>
          <p:nvPr/>
        </p:nvPicPr>
        <p:blipFill>
          <a:blip r:embed="rId3"/>
          <a:stretch/>
        </p:blipFill>
        <p:spPr>
          <a:xfrm>
            <a:off x="4572000" y="1000080"/>
            <a:ext cx="4214880" cy="26337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DSC04758.JPG"/>
          <p:cNvPicPr/>
          <p:nvPr/>
        </p:nvPicPr>
        <p:blipFill>
          <a:blip r:embed="rId4"/>
          <a:stretch/>
        </p:blipFill>
        <p:spPr>
          <a:xfrm>
            <a:off x="357120" y="378612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обранного материал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I:\фото\DSC04730.JPG"/>
          <p:cNvPicPr/>
          <p:nvPr/>
        </p:nvPicPr>
        <p:blipFill>
          <a:blip r:embed="rId1"/>
          <a:stretch/>
        </p:blipFill>
        <p:spPr>
          <a:xfrm>
            <a:off x="285840" y="928800"/>
            <a:ext cx="4071960" cy="27144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DSC04732.JPG"/>
          <p:cNvPicPr/>
          <p:nvPr/>
        </p:nvPicPr>
        <p:blipFill>
          <a:blip r:embed="rId2"/>
          <a:stretch/>
        </p:blipFill>
        <p:spPr>
          <a:xfrm>
            <a:off x="4786200" y="3786120"/>
            <a:ext cx="4143600" cy="285768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" descr="DSC04745.JPG"/>
          <p:cNvPicPr/>
          <p:nvPr/>
        </p:nvPicPr>
        <p:blipFill>
          <a:blip r:embed="rId3"/>
          <a:stretch/>
        </p:blipFill>
        <p:spPr>
          <a:xfrm>
            <a:off x="4786200" y="857160"/>
            <a:ext cx="4071960" cy="28576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DSC04755.JPG"/>
          <p:cNvPicPr/>
          <p:nvPr/>
        </p:nvPicPr>
        <p:blipFill>
          <a:blip r:embed="rId4"/>
          <a:stretch/>
        </p:blipFill>
        <p:spPr>
          <a:xfrm>
            <a:off x="214200" y="3786120"/>
            <a:ext cx="4143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КТОРА БЫВАЮТ РАЗНЫЕ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13840" y="135684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врача – одна из наиболее древних  професс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выдающимся врачом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ости был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пократ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ния помогали лечить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, спасли многие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, способствовал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медицин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351480" y="3492360"/>
            <a:ext cx="232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4:48Z</dcterms:created>
  <dc:creator>User</dc:creator>
  <dc:description/>
  <dc:language>en-US</dc:language>
  <cp:lastModifiedBy>Елена</cp:lastModifiedBy>
  <dcterms:modified xsi:type="dcterms:W3CDTF">2012-02-27T05:48:04Z</dcterms:modified>
  <cp:revision>93</cp:revision>
  <dc:subject/>
  <dc:title>Слайд 1</dc:title>
</cp:coreProperties>
</file>