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D30-CCC3-4946-B1B2-EB944119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E47-A599-477C-AD55-743EC23C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114-7F40-4DE9-8543-4B8C2614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4F5-0551-44CB-9898-C6EAA439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BE2D-DB9F-4B32-9FCE-A05CF6A1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ED6C-1AEE-4461-BA2B-DC3E5D6C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49CE-A698-42E1-BFF2-4215BB8D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9AA7-4140-4120-A941-B43BF7F8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378C-DDDF-4C3F-AD4F-937A781E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0D4E-5A47-4E14-857E-A8ACCDD5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F105-F114-4B6B-B366-1E1BA8DE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93E-C685-4EFB-96B8-21DCA592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73B6-208A-4879-AF36-6DA58067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D1B5-D5D0-428B-9100-A3885DA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4849-5D66-41ED-9666-AC4CAAD3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423D-9974-4280-B8C8-3748B659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5010-0F6D-4789-8AF8-8F475FE9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543FC-8E5F-45E6-A6E4-672EC2DA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7984-AB1B-43DA-9E75-54742F61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FC70-4607-4F3E-A432-8F02B20F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460A-0D05-43DC-8833-5744D71B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9A195-E2FA-41BB-AD71-8F55C83F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200-9E80-44EF-869A-0D5CC0A3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E560-5047-464E-BDA2-D0B8F49C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37C7-B566-4AFB-B374-14B22972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613A-D61F-45E7-9021-C4B41529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DB27-9609-48C2-B68F-146AC8B7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DEC6-EA31-453D-B53F-319D0EF7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3245-3863-4578-A3A1-539BF7FA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9E3F-6372-413F-A507-A8FBFEF0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6B6F-D7E1-411B-9785-D1028E53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6273-EAE0-4DA5-8201-4D82BC20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C5968-6F03-40AE-A5F7-6C7F1FE4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A19-1A67-47C3-8FC5-EB90E74A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518A-23B9-460C-9891-24DB4EAD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238A3-1002-4E93-9734-34D2589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26601-F32C-4FEA-A04C-9AD1553B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7E9D-832B-4A75-9290-CDF7F4D5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42C9-2900-4F33-8DF5-18B2C63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399D5-2803-4C51-B08C-0086202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DA8E-007B-4EE0-B528-DCB0857F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3F32-6A93-4CFA-AA03-B39117EC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E5D8-26B9-4018-8B1A-02D09B72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1B06B-0F24-4ED9-8265-197D9BEC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8F6-833A-4D7D-9C5E-05BBC3A8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073E-FF9E-4C59-9A6F-BC6F8DDE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60D4-DDA1-4611-AF78-BC7D7BD6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5E83-778D-4DF7-A096-02229D15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8574-68DA-48DC-902F-B668E4F3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61BB0-DB6A-4134-99FA-B348ADCE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A7464-49C4-45D0-9E62-C0A92BDD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5EB8-D7E0-4268-B8EA-F52E985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8E61E-7137-4EE1-8EB1-EB02BC8C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D8DAF-FF4D-4185-8215-3CCF4CE2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FFA14-86CF-4FE4-A3FC-3710EEE5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E4E-628A-4ECC-BE51-3D464A83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12291-FF6E-47D3-AD1D-68E03A8E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5BBC-378E-4F63-BA3E-CE5590AF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3FF50-8D4A-4818-9207-16E53D0B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07D9-7F62-434B-B182-3BBE659C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F2406-77DD-472C-A8EC-96B25B3B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69598-A6ED-4DE2-A799-21896945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2C22D-76F4-4C80-AC7B-CEDCA779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C7497-AB2D-430F-B169-1EF0C117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B406C-645E-4B1D-A551-9652FD1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F3816-43C0-4846-AA40-649FF1F0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861-CDE4-472F-B3EB-4DBB6D16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EA1F-F387-46A6-9586-06FD7C52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207D-DD61-49E6-B8AF-D3C5B63A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A953D-1C20-4632-9F9E-5A26C39F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23913-4DFC-4A32-B648-A431B7D2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B97EE-5696-4CB0-8374-3FE8735A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4E0BE-57D8-4BB2-B086-FA7E750D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EEB1D-9497-46B7-94B3-8001ABCD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CA00-E696-48BD-BC56-FDAC9D03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753EC-8EA7-40CA-8C43-5779B799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E398E-A7BF-4806-B46D-AD95E43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50E-A84E-42AA-81BA-3C3B08DF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13055-D7B3-401C-9D26-D0DD56C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36C57-57D0-4EEA-9156-97E6FBCF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08A07-1306-4758-8902-B0CD5816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DEC27-ED24-4B56-B10E-0E5E64AB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DD217-6CCC-4262-94AE-2CF61043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7E6-7042-4C6A-A01D-D051505F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6DF9-0AF5-4F67-990E-9E2DB82483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B30C-6D06-4D67-B681-661E294CF33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0CB3-17A2-4B70-9F1C-17CA393AB6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58D8-D38A-447B-A348-DB9D74921B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A6E4-5352-49AE-B572-7D42CD0EB0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B9B-0228-4509-8DF2-E19E6EF32EE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EF55-77E5-4F71-B2FA-FB6534250A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4"/>
          <p:cNvSpPr txBox="1"/>
          <p:nvPr/>
        </p:nvSpPr>
        <p:spPr>
          <a:xfrm>
            <a:off x="1285920" y="785880"/>
            <a:ext cx="4286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Докто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319" name="WordArt 5"/>
          <p:cNvSpPr txBox="1"/>
          <p:nvPr/>
        </p:nvSpPr>
        <p:spPr>
          <a:xfrm>
            <a:off x="2286000" y="1857240"/>
            <a:ext cx="392904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бываю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320" name="WordArt 6"/>
          <p:cNvSpPr txBox="1"/>
          <p:nvPr/>
        </p:nvSpPr>
        <p:spPr>
          <a:xfrm>
            <a:off x="4000680" y="3071880"/>
            <a:ext cx="35715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разны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>
            <a:lum bright="12000"/>
          </a:blip>
          <a:srcRect l="24838" t="0" r="24946" b="0"/>
          <a:stretch/>
        </p:blipFill>
        <p:spPr>
          <a:xfrm>
            <a:off x="685800" y="3573360"/>
            <a:ext cx="1336680" cy="2664000"/>
          </a:xfrm>
          <a:prstGeom prst="rect">
            <a:avLst/>
          </a:prstGeom>
          <a:ln w="0">
            <a:noFill/>
          </a:ln>
        </p:spPr>
      </p:pic>
      <p:pic>
        <p:nvPicPr>
          <p:cNvPr id="322" name="WordArt 6" descr=""/>
          <p:cNvPicPr/>
          <p:nvPr/>
        </p:nvPicPr>
        <p:blipFill>
          <a:blip r:embed="rId2"/>
          <a:stretch/>
        </p:blipFill>
        <p:spPr>
          <a:xfrm>
            <a:off x="4206960" y="4425840"/>
            <a:ext cx="4187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WordArt 4" descr=""/>
          <p:cNvPicPr/>
          <p:nvPr/>
        </p:nvPicPr>
        <p:blipFill>
          <a:blip r:embed="rId1"/>
          <a:stretch/>
        </p:blipFill>
        <p:spPr>
          <a:xfrm>
            <a:off x="1773360" y="560520"/>
            <a:ext cx="6181560" cy="15062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3" descr="DSC04783.JPG"/>
          <p:cNvPicPr/>
          <p:nvPr/>
        </p:nvPicPr>
        <p:blipFill>
          <a:blip r:embed="rId2"/>
          <a:stretch/>
        </p:blipFill>
        <p:spPr>
          <a:xfrm>
            <a:off x="4786200" y="2286000"/>
            <a:ext cx="4130640" cy="358920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DSC04776.JPG"/>
          <p:cNvPicPr/>
          <p:nvPr/>
        </p:nvPicPr>
        <p:blipFill>
          <a:blip r:embed="rId3"/>
          <a:stretch/>
        </p:blipFill>
        <p:spPr>
          <a:xfrm>
            <a:off x="214200" y="228600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энциклопедия школьника. – М.: Росмэн, 2003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Даль. Толковый словарь живого великорусского языка. – М: Просвещение, 1990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И.Староверов. Детские болезни: мини-энциклопедия для родителей. – С-П: Издательская Компания «Невский проспект», 2001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В.Шеврыгин. Если малыш часто болеет…  - М: Просвещение, 1990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знаю мир: Дет. энцикл.: Медицина/Сост. Н.Ю. Буянова и др. – М.: ООО «Фирма «Издательство АСТ», 1999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6560" y="-243360"/>
            <a:ext cx="76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лог- наше сердц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kar2.jpg"/>
          <p:cNvPicPr/>
          <p:nvPr/>
        </p:nvPicPr>
        <p:blipFill>
          <a:blip r:embed="rId1"/>
          <a:stretch/>
        </p:blipFill>
        <p:spPr>
          <a:xfrm>
            <a:off x="5214960" y="785880"/>
            <a:ext cx="3500280" cy="25002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izabella-gogoleva-vrach-kardiolog.jpg"/>
          <p:cNvPicPr/>
          <p:nvPr/>
        </p:nvPicPr>
        <p:blipFill>
          <a:blip r:embed="rId2"/>
          <a:stretch/>
        </p:blipFill>
        <p:spPr>
          <a:xfrm>
            <a:off x="5214960" y="3643200"/>
            <a:ext cx="3571920" cy="296244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5"/>
          <p:cNvSpPr/>
          <p:nvPr/>
        </p:nvSpPr>
        <p:spPr>
          <a:xfrm>
            <a:off x="214200" y="1000080"/>
            <a:ext cx="4643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-кардиолог 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ется диагностикой, лечением, реабилитацией, профилактикой всех заболеваний сердечно-сосудист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охранить сердце здоров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лгие годы, необходимо соблюдать несколько важных прави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 кур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вильно и разнообразно питаться (мясо, рыба, овощи, фрукты, крупы, хлеб из цельного зерна, растительные масла, меньше жиров и сладостей) и следить за своим ве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ольше двигаться, особенно на свежем воздухе: например, проходить быстрым шагом не менее 3, а лучше 5 км в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энтеролог- наш желудок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99720"/>
            <a:ext cx="485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ы гастроэнтеролог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шьте 4-6 раз в день небольшими порциями. Ешьте не спеша, тщательно пережевывая пищу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цион должен содержать белки, жиры, углеводы, клетчатку. Больше ешьте нежирную рыбу и мясо, кисломолочные продукты, зелень, фрукты и овощи, сухофрукты, орех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житесь или сведите к минимуму такие вредные продукты, как чипсы, газированные напитки, сладости и пирожны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язательно хорошо высыпайтес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1320001904_14-3.jpg"/>
          <p:cNvPicPr/>
          <p:nvPr/>
        </p:nvPicPr>
        <p:blipFill>
          <a:blip r:embed="rId1"/>
          <a:stretch/>
        </p:blipFill>
        <p:spPr>
          <a:xfrm>
            <a:off x="4929120" y="785880"/>
            <a:ext cx="3952800" cy="32860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4"/>
          <p:cNvSpPr/>
          <p:nvPr/>
        </p:nvSpPr>
        <p:spPr>
          <a:xfrm>
            <a:off x="4786200" y="41432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энтеролог занимается диагностикой и лечением всех заболеваний, связанных с желудочно-кишечным тра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кринолог- щитовидная желез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357440" y="1071720"/>
            <a:ext cx="47862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и  эндокринологи занимаются диагностикой, лечением и профилактикой заболеваний эндокринной системы человек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ы врач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итать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вать предпочт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щным  блюд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молочны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, морепродукт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умеренны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нагруз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4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4" descr="shhitovidka.jpg"/>
          <p:cNvPicPr/>
          <p:nvPr/>
        </p:nvPicPr>
        <p:blipFill>
          <a:blip r:embed="rId2"/>
          <a:stretch/>
        </p:blipFill>
        <p:spPr>
          <a:xfrm>
            <a:off x="500040" y="364320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564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лог –наши зубы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2830680" cy="2320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2"/>
          <a:stretch/>
        </p:blipFill>
        <p:spPr>
          <a:xfrm>
            <a:off x="6072120" y="1071720"/>
            <a:ext cx="2857680" cy="23032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3143160" y="928800"/>
            <a:ext cx="285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на земле люди, чья профессия - дарить людям открытую и белоснежную улыб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214200" y="3429000"/>
            <a:ext cx="40719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авила сохранения зубов здоровы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стите зубы 2-3 раза в день по три мин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няйте зубную щетку 4 раза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лощите рот после 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ещайте стоматолога не менее 2-х раз в год, а при необходимости и ча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тайтесь 3-4 раза в день, употребляя больше овощей, фруктов и зел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6"/>
          <p:cNvPicPr/>
          <p:nvPr/>
        </p:nvPicPr>
        <p:blipFill>
          <a:blip r:embed="rId3"/>
          <a:stretch/>
        </p:blipFill>
        <p:spPr>
          <a:xfrm>
            <a:off x="492912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8800" y="142560"/>
            <a:ext cx="771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у помогает медицинская сестр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902040" cy="2923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e7dec9"/>
            </a:outerShdw>
          </a:effectLst>
        </p:spPr>
      </p:pic>
      <p:sp>
        <p:nvSpPr>
          <p:cNvPr id="343" name="Rectangle 6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4643280" y="1500120"/>
            <a:ext cx="4286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 за боль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лечебных процедур, назначенных врач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врачу на при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, учет и хранение медика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своевременной медицинской помощи в экстренных ситуац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медицинской документ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- врач для животных</a:t>
            </a:r>
            <a:r>
              <a:rPr b="0" lang="ru-RU" sz="39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285840" y="1285920"/>
            <a:ext cx="392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амый большой друг животных, он лечит, помогает им, если они попали в б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и делает прививки от разных болезней животным, а также проводит сложные операции, осуществляет срочную ветеринарную помощ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286160" cy="3571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жка-малышка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хочешь быть здоров»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WordArt 4"/>
          <p:cNvSpPr txBox="1"/>
          <p:nvPr/>
        </p:nvSpPr>
        <p:spPr>
          <a:xfrm>
            <a:off x="457200" y="1484280"/>
            <a:ext cx="58435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642960" y="1571760"/>
            <a:ext cx="5143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йдет сама прост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и зн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ё не запусти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про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а наша не простая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й врачи дают со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скорей  берись за д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ять все надо см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сегда здоровым буд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то л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4" descr="DSC04784.JPG"/>
          <p:cNvPicPr/>
          <p:nvPr/>
        </p:nvPicPr>
        <p:blipFill>
          <a:blip r:embed="rId1"/>
          <a:stretch/>
        </p:blipFill>
        <p:spPr>
          <a:xfrm>
            <a:off x="6286680" y="1428840"/>
            <a:ext cx="2428560" cy="24289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6" descr="DSC04782.JPG"/>
          <p:cNvPicPr/>
          <p:nvPr/>
        </p:nvPicPr>
        <p:blipFill>
          <a:blip r:embed="rId2"/>
          <a:stretch/>
        </p:blipFill>
        <p:spPr>
          <a:xfrm>
            <a:off x="6286680" y="3929040"/>
            <a:ext cx="2428560" cy="278604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7" descr="DSC04766.JPG"/>
          <p:cNvPicPr/>
          <p:nvPr/>
        </p:nvPicPr>
        <p:blipFill>
          <a:blip r:embed="rId3"/>
          <a:stretch/>
        </p:blipFill>
        <p:spPr>
          <a:xfrm>
            <a:off x="642960" y="171468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 журнал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ая поликлиника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Рисунок 3" descr="DSC04775.JPG"/>
          <p:cNvPicPr/>
          <p:nvPr/>
        </p:nvPicPr>
        <p:blipFill>
          <a:blip r:embed="rId1"/>
          <a:stretch/>
        </p:blipFill>
        <p:spPr>
          <a:xfrm>
            <a:off x="5000760" y="714240"/>
            <a:ext cx="3844800" cy="297360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5" descr="DSC04770.JPG"/>
          <p:cNvPicPr/>
          <p:nvPr/>
        </p:nvPicPr>
        <p:blipFill>
          <a:blip r:embed="rId2"/>
          <a:stretch/>
        </p:blipFill>
        <p:spPr>
          <a:xfrm>
            <a:off x="571680" y="714240"/>
            <a:ext cx="3857400" cy="30006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DSC04768.JPG"/>
          <p:cNvPicPr/>
          <p:nvPr/>
        </p:nvPicPr>
        <p:blipFill>
          <a:blip r:embed="rId3"/>
          <a:stretch/>
        </p:blipFill>
        <p:spPr>
          <a:xfrm>
            <a:off x="571680" y="3786120"/>
            <a:ext cx="3857400" cy="2857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7" descr="DSC04777.JPG"/>
          <p:cNvPicPr/>
          <p:nvPr/>
        </p:nvPicPr>
        <p:blipFill>
          <a:blip r:embed="rId4"/>
          <a:stretch/>
        </p:blipFill>
        <p:spPr>
          <a:xfrm>
            <a:off x="5072040" y="3786120"/>
            <a:ext cx="3786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4:48Z</dcterms:created>
  <dc:creator>User</dc:creator>
  <dc:description/>
  <dc:language>en-US</dc:language>
  <cp:lastModifiedBy>Елена</cp:lastModifiedBy>
  <dcterms:modified xsi:type="dcterms:W3CDTF">2012-02-27T05:48:19Z</dcterms:modified>
  <cp:revision>94</cp:revision>
  <dc:subject/>
  <dc:title>Слайд 1</dc:title>
</cp:coreProperties>
</file>