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72B-434D-4052-B5D8-782D81E2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8CC-34CD-4701-A550-8928089B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12A-C1BF-4103-B095-9FCD6B8B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FC2-182E-4160-A3E6-5D9EE7C5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C9C1-168C-48EB-9FD7-A86A1060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72ED-C9D2-43E5-9C4C-B94B25E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7BE1-D112-45C8-9130-E041672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254C-04B3-41CF-8586-E7C1067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D18-93A5-4111-98B2-44530D5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8FB8-FCE5-47B5-91C4-60CF0A6C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87D-D8FF-4286-9E78-D771B6D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B22-E95C-4E26-BFF6-8BF4E825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37EC-4A4A-40F3-940D-CFF7343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EB38-6D64-49EF-9A58-3D76DB4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7D5D-7F19-40AC-8253-A7A7116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F18-F781-4715-AA28-903E7412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6359-7781-43C8-B0FD-1F759D59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6633-73DE-4DCD-951D-28EEBAC0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E76C-15C2-4413-A4C6-5918616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1C9A-AA2D-43A9-A931-826D22E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3AE8-9122-4459-AC15-DAEC42E0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B1EE-8700-4B78-B4DB-F99DD6F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231-CB8D-4168-AE6B-8573D6F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88F1-57A0-4B6A-ABDF-453B735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AFF9-1A00-4096-9A57-E8A2CC2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92ED-F8BA-4E99-A938-DB86856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847B-B51D-4FED-A8AF-6C5ABDD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132E-AF0B-444C-B901-8E38B870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D659-0F03-4330-A7FE-3E11285F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50DB-E503-4DAC-8441-7A48559E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F6963-F03F-45AD-8B0B-89B9B03E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FCD6F-951F-4E3B-AEC5-AE32324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A8332-7D5E-4201-B523-A77BEFD9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9F3-C533-42F1-80F9-C1CF1CC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8653B-F343-46DD-B443-5CC9BDE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B9C9A-C3DB-4E73-BF38-646C404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275C5-EE9C-4ACF-8D30-DF5CC8B0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A5CA6-6E4D-4C90-AFDC-008FE2E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10B34-F1DB-4256-B97E-A04A1462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5CBD0-3454-40DD-8455-A0DF8A3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6D4EB-C927-42D4-B31F-232D1E3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9E92B-E3C4-4E40-AB3B-47EDDBE1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67821-B34D-472F-B12B-4DE069A7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467E-35DF-4D38-BA95-A4D0F513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C25-5755-4B58-812E-9736994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3AB3-FFA4-4FDA-A92A-6CA1DA3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DF9C-DDBF-4B03-9086-651360A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2CFE-F4E8-4D98-8FCE-10E4803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C6FF-6F06-4D3D-ADB8-03B37AB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EEF5-40A3-4F63-AA68-B20D260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3CD2-A487-4E60-A339-9D4E7D8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C655-AAAD-42AB-908F-0A54F93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77F3-F44E-4E76-8B34-4E0C51BB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7715-A2D6-45BD-AB7B-A1C8EAB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247B-9708-4FBD-84FA-71A37442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CEC-A381-41B2-8F31-60C8193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483C-EB04-4B04-B2E6-272C5943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CC0-92DB-41FF-95FA-F2D7AB3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356-DD25-4390-BEF8-9F8EC54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072-850B-46E4-BE7C-2B40C01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4DA6-67E6-4282-9ABD-6120DFD4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A854-2FB5-4897-828E-E311029F6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4330-2F2C-4431-BAB2-06515AF1A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EBD-BA1E-4A0A-85C2-D7F0FCB1AF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12B-2A98-467E-A130-B873AA3D00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быт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щен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ев, бык, собака, кошка, коршун, сокол, ибис, крокодил, кобра, скорпион, жук - скара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ца иб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к - скара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К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Иерогл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м Кар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м Лук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гипетские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яя Гр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нятия первобыт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ор пл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еде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то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рам Парфен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татуя богини Аф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ий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а основания Рима – 753 год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и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ли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нтеон – храм всех б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мп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лицы города Помп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улкан Везу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р Древности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лекий и близ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а Везу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Закрепление материал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Какие государства Древнего мира вы знает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Приведи примеры знаменитых сооружений Древнего ми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Запомни слова: иероглифы, пирамиды, фарао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Какое государство было образовано не в период Древнего ми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) Др. Египет;  Б) Др. Рим;  В) Др. Р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Какой бог считался богом мудрости, счё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) Тот;  Б) Ра;  В) Себ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Акрополь в Древней Греции –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храм;  Б) холм;  В) площа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ум в Древнем Риме –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А) храм;  Б)холм;  В) площа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амом всех богов в Др. Риме назыв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А) Колизей;  Б) Пантеон;  В) Парфен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люч к тесту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В;  </a:t>
            </a: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А; </a:t>
            </a: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Б;  </a:t>
            </a: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В;  </a:t>
            </a: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Б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Домашнее зада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1- в: сообщение о Древнем Египте; 2- в.: о Древней Грец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в: о Древнем Ри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Боги Егип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г РА – Бог сол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г солнца 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г воды и разлива Нила - Себ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г воды - Себ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 – Тот, бог -  мудрости, счёта и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55:25Z</dcterms:created>
  <dc:creator>Лиля</dc:creator>
  <dc:description/>
  <dc:language>en-US</dc:language>
  <cp:lastModifiedBy>Лилия</cp:lastModifiedBy>
  <dcterms:modified xsi:type="dcterms:W3CDTF">2012-02-27T19:08:43Z</dcterms:modified>
  <cp:revision>9</cp:revision>
  <dc:subject/>
  <dc:title>    первобытный человек</dc:title>
</cp:coreProperties>
</file>