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6493-65E3-40FE-B50F-E7B4CB24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FFD1-DA80-43FE-BA44-4AAF9410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3C59-C6AB-4B01-93DC-2664D0DD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AA3F-C259-4EE5-840A-708969DA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858C-04FE-467A-9541-57E96A6E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FCE-5F46-4419-97DA-6EA6FCA7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8FCF-6DFF-43E7-84C0-91DE9B10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4F04-0AB9-4192-9786-B29FB13C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A67B-00CA-4301-84E7-F5751A5A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F06E-6CB5-47D4-A66C-F53F37B1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EDB1-DD3F-4B0C-9108-16670C68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42B8-E73A-4C78-AF0A-EB9FC78E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B236-89C8-42F2-9571-84DB91A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E58A-8727-45C9-AC46-39EC7B1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6DE7-0A39-46A1-9470-A2B4BEA2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0192-3A1B-4994-8E00-1244940B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01F0-519F-4A36-98C5-D45DDACC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D7C4-AC26-4025-8F01-A619CEE7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3920-5551-4485-9229-0B010411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D154-41C0-4D04-A1F0-A97C4E9A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A9B4-0DD9-47CA-97AC-3839A626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12E0-B387-44CC-9AD7-A015F2F4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8E6B-1560-4BA4-86DA-FA18621A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456B-8698-4030-92D3-4B8ECB9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6276-8863-499F-99A1-B6777816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B913-253E-40FE-A142-4391C512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6177-F5DA-4153-822A-425C4B8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AA7C-4420-4485-834C-E9A293F4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19A6F-1BA4-434D-84BF-49901049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E6ED-AF9A-4946-9ED0-7FA45AF7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4BF3-4463-4B26-9A29-24903B4D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E2F0-FA97-4A3A-91B6-B18A253A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5D07-8999-46BD-B736-F0691A4B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C389-5B1F-43B1-B77B-4B6CE3BA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29E9-EB1E-4B54-B3C8-D63C7B8C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6F7F-06F7-422C-9148-671B4F07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FBF3-68A1-4193-A837-62ADFAB8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1FF6-840E-45B3-B65B-39225BB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D25D-5841-4130-8535-841472F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8695A-6D3A-4F56-95CE-D6167A9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F224-8F90-4C3D-9FAE-6755D0DD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7947-70B1-4188-BB24-8E9285FE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A44A-1DAF-48FE-9FEB-4BF35A00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B1660-765F-43AE-BC99-866164B3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6712-E57F-40B3-A92D-64AA902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881D-DD9C-4F04-A00E-CD7BCA5A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1CE12-3567-4381-9F24-172B18E3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B6E4-9DA4-4F47-B421-2D263847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F861-4450-468D-B80F-DB9DA063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BC12-BC48-4605-8F8B-2D54C41C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FFAAC-2EBC-4EC2-A6F2-CC3375B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90B2-9EF7-405C-B7BA-3988D8F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7872-A313-46E8-B4BD-2F30D64D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8AF1-6356-4F68-8D59-E4F359DF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689B-2E2D-47F6-8649-DDCF5B98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9D65-90C9-4714-B741-12DC0BA8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82D8-DC02-4408-B627-37EF2E5C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9ECF-3942-4404-BEF2-12D0BF06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F6CF-2D8F-4253-901F-6CAB68D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4286A-0B45-4D22-892C-5F2257FC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05AB-B4E8-47B1-A7B8-766FB262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1E92C-03E5-405D-AD06-490A56F2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9E023-0E87-4401-8A09-2FED8A66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F589-8AEF-465D-A9A4-403625BB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7BFD-58B5-45AC-A1C2-1F94DCA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F58B-735F-46C5-B99F-578385B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B323-8891-4ABC-9CAC-C998937D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B9CA-A5D4-4EF6-A5D7-EEF60A55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ED384-E495-48DC-962D-205EC7CE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E5237-47E8-4600-A093-883577C6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751AD-0328-41CF-8D16-97642E1D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8B678-7D64-4AE2-87D9-1A9D846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5AFA-E44B-4B48-BD33-A9A70D80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399EB-84B6-42C5-A801-AA1BE5F9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49C3A-3DCB-461F-96A0-9F833811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11BAE-D248-40E8-9DE7-5C2A0C6B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3ECCA-AA41-42A9-B0A9-8BD409E6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10E5-3D30-4984-A2D1-03BF48D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07477-4622-41AF-95BB-C4833C2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825AF-AFB7-4D1B-97AC-A6E7995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A26E6-A17D-481D-B7DD-A41D89DA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9E4D6-2817-43AE-BB82-E4122CF1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15376-FFF6-4173-9D5B-96585DAA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C983-87C6-4EA6-B8DA-06ECF9CC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3380-2A3E-424B-BC90-9B6C1B4DF3C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F63-8B4F-4030-947E-A45F26BDCBE2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B298-130F-4D84-B71E-B3153E99579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6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Прямая соединительная линия 7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71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Прямая соединительная линия 8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74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9C61-C2AF-40F0-AEBF-A2A3508D7C3D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1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137F-AF45-4A35-8208-2829CC7CA965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Прямая соединительная лини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6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8960-16A0-40E9-9AE9-458A74F8542D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Прямая соединительная линия 6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0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a0b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2a0b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DA8F-E4B9-4F01-87E7-D6D586F0CEAA}" type="slidenum">
              <a:rPr b="0" lang="ru-RU" sz="1200" spc="-1" strike="noStrike">
                <a:solidFill>
                  <a:srgbClr val="82a0b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0" y="1116000"/>
            <a:ext cx="8747280" cy="28893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28120" y="3935160"/>
            <a:ext cx="8013960" cy="19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fc2ab"/>
                </a:solidFill>
                <a:latin typeface="Tahoma"/>
              </a:rPr>
              <a:t>Меркулова Надежд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fc2ab"/>
                </a:solidFill>
                <a:latin typeface="Tahoma"/>
              </a:rPr>
              <a:t>Учащаяся  2  А клас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fc2ab"/>
                </a:solidFill>
                <a:latin typeface="Tahoma"/>
              </a:rPr>
              <a:t>МАОУ «СОШ № 20»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fc2ab"/>
                </a:solidFill>
                <a:latin typeface="Tahoma"/>
              </a:rPr>
              <a:t>Руководитель: Чиккуева Галина Владимировн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Вывод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иняная игрушка является неотъемлемой частью жизни и воспитания подрастающего поколения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блема: В современный век компьютерных игр наблюдается падение интереса к народной глиняной игруш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Цель: Заинтересовать друзей и всех окружающих красотой народной глиняной игруш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Определить: что такое глиняная игруш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Изучить историю возникновения глиняной игруш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Исследовать глиняную игрушку в современ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Выяснить процесс изготовления глиняной игруш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Представить выставку своих глиняных игрушек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457200" y="77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536400" y="676440"/>
            <a:ext cx="8467920" cy="15238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250920" y="2133360"/>
            <a:ext cx="4093920" cy="28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2ab"/>
                </a:solidFill>
                <a:latin typeface="Tahoma"/>
              </a:rPr>
              <a:t>Игрушка близка к фольклору, создаёт ощущение особенностей русского национального народного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2" descr="E:\разинкина\Глиненая игрушка\Фестиваль 2011 056.jpg"/>
          <p:cNvPicPr/>
          <p:nvPr/>
        </p:nvPicPr>
        <p:blipFill>
          <a:blip r:embed="rId2"/>
          <a:stretch/>
        </p:blipFill>
        <p:spPr>
          <a:xfrm>
            <a:off x="3938760" y="1859040"/>
            <a:ext cx="5010120" cy="3925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467920" cy="13237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42880" y="1746000"/>
            <a:ext cx="3138480" cy="30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2ab"/>
                </a:solidFill>
                <a:latin typeface="Tahoma"/>
              </a:rPr>
              <a:t>Находили глиняную игрушку в раскопках X-XVII вв. (Москва, Рязань) - свистульки (кони, птицы, фигурки люд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Picture 3" descr="E:\разинкина\Новая папка\игрушка\107058114.jpg"/>
          <p:cNvPicPr/>
          <p:nvPr/>
        </p:nvPicPr>
        <p:blipFill>
          <a:blip r:embed="rId2"/>
          <a:stretch/>
        </p:blipFill>
        <p:spPr>
          <a:xfrm>
            <a:off x="4427640" y="1771560"/>
            <a:ext cx="432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76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E:\разинкина\Глиняная игрушка\Фестиваль 2011 322.jpg"/>
          <p:cNvPicPr/>
          <p:nvPr/>
        </p:nvPicPr>
        <p:blipFill>
          <a:blip r:embed="rId2"/>
          <a:stretch/>
        </p:blipFill>
        <p:spPr>
          <a:xfrm>
            <a:off x="250920" y="1484280"/>
            <a:ext cx="3889440" cy="4830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E:\разинкина\Глиняная игрушка\Фестиваль 2011 323.jpg"/>
          <p:cNvPicPr/>
          <p:nvPr/>
        </p:nvPicPr>
        <p:blipFill>
          <a:blip r:embed="rId3"/>
          <a:stretch/>
        </p:blipFill>
        <p:spPr>
          <a:xfrm>
            <a:off x="5076720" y="1557360"/>
            <a:ext cx="3816360" cy="4751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E:\разинкина\Глиняная игрушка\Фестиваль 2011 324.jpg"/>
          <p:cNvPicPr/>
          <p:nvPr/>
        </p:nvPicPr>
        <p:blipFill>
          <a:blip r:embed="rId4"/>
          <a:stretch/>
        </p:blipFill>
        <p:spPr>
          <a:xfrm>
            <a:off x="4427640" y="1413000"/>
            <a:ext cx="4465440" cy="4968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76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E:\разинкина\Глиняная игрушка\Фестиваль 2011 346.jpg"/>
          <p:cNvPicPr/>
          <p:nvPr/>
        </p:nvPicPr>
        <p:blipFill>
          <a:blip r:embed="rId2"/>
          <a:stretch/>
        </p:blipFill>
        <p:spPr>
          <a:xfrm>
            <a:off x="1979640" y="1484280"/>
            <a:ext cx="5545080" cy="5184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76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E:\разинкина\Глиняная игрушка\Фестиваль 2011 325.jpg"/>
          <p:cNvPicPr/>
          <p:nvPr/>
        </p:nvPicPr>
        <p:blipFill>
          <a:blip r:embed="rId2"/>
          <a:stretch/>
        </p:blipFill>
        <p:spPr>
          <a:xfrm>
            <a:off x="5003640" y="1341360"/>
            <a:ext cx="3745080" cy="4896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af.attachmail.ru/cgi-bin/readmsg/DSC03515.JPG?rid=117771203633076118129933988372140870505&amp;file=DSC03515.JPG&amp;id=13259512570000000776;0;4&amp;mode=attachment&amp;channel="/>
          <p:cNvPicPr/>
          <p:nvPr/>
        </p:nvPicPr>
        <p:blipFill>
          <a:blip r:embed="rId3"/>
          <a:stretch/>
        </p:blipFill>
        <p:spPr>
          <a:xfrm>
            <a:off x="611280" y="1341360"/>
            <a:ext cx="3816360" cy="489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44440" y="469800"/>
            <a:ext cx="4546800" cy="584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E:\разинкина\Глиняная игрушка\Фестиваль 2011 342.jpg"/>
          <p:cNvPicPr/>
          <p:nvPr/>
        </p:nvPicPr>
        <p:blipFill>
          <a:blip r:embed="rId2"/>
          <a:stretch/>
        </p:blipFill>
        <p:spPr>
          <a:xfrm>
            <a:off x="5003640" y="404640"/>
            <a:ext cx="3456000" cy="5904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http://af.attachmail.ru/cgi-bin/readmsg/DSC03516.JPG?rid=3586544042413564076927736487902981801017&amp;file=DSC03516.JPG&amp;id=13259512570000000776;0;3&amp;mode=attachment&amp;channel="/>
          <p:cNvPicPr/>
          <p:nvPr/>
        </p:nvPicPr>
        <p:blipFill>
          <a:blip r:embed="rId3"/>
          <a:stretch/>
        </p:blipFill>
        <p:spPr>
          <a:xfrm>
            <a:off x="468360" y="47628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76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E:\разинкина\Глиняная игрушка\Фестиваль 2011 397.jpg"/>
          <p:cNvPicPr/>
          <p:nvPr/>
        </p:nvPicPr>
        <p:blipFill>
          <a:blip r:embed="rId2"/>
          <a:stretch/>
        </p:blipFill>
        <p:spPr>
          <a:xfrm>
            <a:off x="684360" y="1557360"/>
            <a:ext cx="7632720" cy="4608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5:35:47Z</dcterms:created>
  <dc:creator>Grey Wolf</dc:creator>
  <dc:description/>
  <dc:language>en-US</dc:language>
  <cp:lastModifiedBy>попов</cp:lastModifiedBy>
  <dcterms:modified xsi:type="dcterms:W3CDTF">2012-02-27T18:36:42Z</dcterms:modified>
  <cp:revision>67</cp:revision>
  <dc:subject/>
  <dc:title>Слайд 1</dc:title>
</cp:coreProperties>
</file>