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2403-F7E0-4306-B63E-E58BEEB6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4B1C-D7F1-4B0D-BFD3-EFCC7E4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7405-7707-454F-8FB6-A930803F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C095-652F-4836-A18A-A1492012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A4B7-3A3E-49F8-8C95-2460F7F7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7AEB-1692-450C-9D4B-A2B6BB6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385-FE5A-4EF2-8457-CDC24AFE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C309-71E5-40CF-A56F-C700727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98C-C1DC-493B-BCDC-18FC33D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670-7613-425D-B174-838484E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9ECB-E441-46EB-B710-5C9E60A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7DD5-3E65-4B50-941B-30CA872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4CDD-0E47-411B-990F-40D5204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29BD-E2A0-4B59-9CF9-604A9BDC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082-33C1-43CE-BD03-F9E9C98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7B4-9F6B-4B61-8789-E6DB59B6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5C9-BCF5-4295-B717-88AB84C2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E020-6C6F-45F5-9092-2455CF6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3D12-7307-41B2-B5AC-CA09396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63A0-3AD0-4D1C-B4F6-9BC6AC1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8B2D-2C75-4ACC-8452-48721E7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7282-43CD-4627-931C-34DBEA8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855A-8EFD-4FBF-BD46-47F9F6F0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CEF7-1F4F-4377-920C-881BA6E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897E-C790-47CF-AB6D-ED4A0BE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BFFE-DC12-44AB-9070-6634BC9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2519-D866-476B-83D9-52C321E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25A9-686B-4E00-9EBA-60C0416F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819E-E043-4596-BD5D-F06D3AF7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7284-ED3E-46CA-915F-EF2D9ECF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D225-BF35-49AB-98A3-6FC8991B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6AB8-279E-4FDD-9BC9-DE92980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C638-2DE5-4F1F-AC2E-5B3EF9D3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1EEF-DD72-4510-BE37-01A11722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389A-E4D4-4029-BC7E-7197A2F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07A2-9367-4696-8B6B-5FB3097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2DEA-C12E-4854-848E-AC9E5DD3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4AC3-CF20-448B-80E5-BFDB6B4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A35B-A8DA-41C7-BC0F-BBF4D7C5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2B36-F75A-47A9-9764-2AD605EC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9230-1ABE-4B35-ACCF-C5B0240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32CE-620C-46B3-891A-0B9828C6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957B-ED79-4783-B7EE-F54EEE2B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F187-3317-4DC8-BF97-08922171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B784-EF43-47AB-BED3-2C504EE0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9D7B-D8D5-4793-B2D5-DBEFF12C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3B54-6D57-45AE-A0D6-30B76B6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EEF63-6252-431D-BEEB-3EEB06F7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CDAC1-A1E7-48B4-858F-CEF426D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D4F03-09F8-4E1D-B2A6-422657CE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EBC59-2091-4D03-959D-B91C25B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53DC-94C9-4A10-890F-461EA00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C642-10A8-4AB8-AEC0-CEA40D8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34DB2-60DE-42DC-9C83-CA51CFC0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BB0A-DABD-45B5-9931-624904D2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D77C-3986-4E55-83F6-E0FFEE5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615E-036D-4B2C-9953-7E146656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654A-C521-4ACE-B2BF-FC79093F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7B66-DC75-4F7D-B675-185A82B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0538-CDBF-4EAC-A34B-32E8B2C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33AC-5995-4A30-B091-6FF7AC1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6785-DFCF-4A0E-B874-00B04DC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A2B3-9CE6-4C02-B048-8633A59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D737-966E-4CA1-83B5-5A4E048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FF9D-4BD3-4ADE-AF58-5C3B35A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0C87-4758-4EEE-A27C-A2F71FB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8577-DD95-4AAB-9891-980C947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84D6-FBB5-446C-B1F8-47E508A1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19C7-294E-432D-A77D-DB39E33D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A344-F3CF-49C1-BBAE-4EC1880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B8BF-C677-49B8-96EE-7E0C94D4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8755-FAC9-4595-BF09-E323DF8D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6F44-1145-41E6-B77A-D3BB293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74E2-9D1D-45F7-AE20-BAA2D19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1D3D-FD67-4888-A619-E6B51C6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CACB8-B5BA-42C8-A3EA-BB08B97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9BCC-733A-48B1-8236-A2C5BAA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4067-11BE-466F-BD87-A097B8F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149E-E811-4689-BCE4-7EC462E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DB4A-97E3-4C85-A24C-AA8CBE4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7FDB-CA2C-4D2D-8EC8-47C4D36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9E9A-5CDF-40E9-937D-EC94D281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DDB5-7FCE-4DDF-916F-FC041CE2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5CCB-62FA-420C-9911-FD02B10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94A-F10C-425D-8F15-054B11637A0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F32-76D8-4CD2-A771-8B03967C9E8F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7424-3CE0-474F-9300-644B0A3379D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6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1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74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9AB-BB97-4743-B0EC-7FDCD7F7DB3B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1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B68-3044-4864-A81A-45CC75B740A2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6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A7F-516C-456C-BE37-6524AEDA1073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E19D-3F5B-4DE3-BB68-19ABE2D17CB6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0" y="1116000"/>
            <a:ext cx="8747280" cy="28893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28120" y="3935160"/>
            <a:ext cx="8013960" cy="19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Меркулова Надежд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Учащаяся  2  А клас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МАОУ «СОШ № 20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Руководитель: Чиккуева Галина Владимировн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иняная игрушка является неотъемлемой частью жизни и воспитания подрастающего поколения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блема: В современный век компьютерных игр наблюдается падение интереса к народной глиняной игруш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ель: Заинтересовать друзей и всех окружающих красотой народной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Определить: что такое глиняная игруш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Изучить историю возникновения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Исследовать глиняную игрушку в соврем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Выяснить процесс изготовления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Представить выставку своих глиняных игрушек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36400" y="676440"/>
            <a:ext cx="8467920" cy="1523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50920" y="2133360"/>
            <a:ext cx="409392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2ab"/>
                </a:solidFill>
                <a:latin typeface="Tahoma"/>
              </a:rPr>
              <a:t>Игрушка близка к фольклору, создаёт ощущение особенностей русского национального народного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2" descr="E:\разинкина\Глиненая игрушка\Фестиваль 2011 056.jpg"/>
          <p:cNvPicPr/>
          <p:nvPr/>
        </p:nvPicPr>
        <p:blipFill>
          <a:blip r:embed="rId2"/>
          <a:stretch/>
        </p:blipFill>
        <p:spPr>
          <a:xfrm>
            <a:off x="3938760" y="1859040"/>
            <a:ext cx="5010120" cy="392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42880" y="1746000"/>
            <a:ext cx="3138480" cy="30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2ab"/>
                </a:solidFill>
                <a:latin typeface="Tahoma"/>
              </a:rPr>
              <a:t>Находили глиняную игрушку в раскопках X-XVII вв. (Москва, Рязань) - свистульки (кони, птицы, фигурки люд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3" descr="E:\разинкина\Новая папка\игрушка\107058114.jpg"/>
          <p:cNvPicPr/>
          <p:nvPr/>
        </p:nvPicPr>
        <p:blipFill>
          <a:blip r:embed="rId2"/>
          <a:stretch/>
        </p:blipFill>
        <p:spPr>
          <a:xfrm>
            <a:off x="4427640" y="1771560"/>
            <a:ext cx="432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E:\разинкина\Глиняная игрушка\Фестиваль 2011 322.jpg"/>
          <p:cNvPicPr/>
          <p:nvPr/>
        </p:nvPicPr>
        <p:blipFill>
          <a:blip r:embed="rId2"/>
          <a:stretch/>
        </p:blipFill>
        <p:spPr>
          <a:xfrm>
            <a:off x="250920" y="1484280"/>
            <a:ext cx="3889440" cy="4830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E:\разинкина\Глиняная игрушка\Фестиваль 2011 323.jpg"/>
          <p:cNvPicPr/>
          <p:nvPr/>
        </p:nvPicPr>
        <p:blipFill>
          <a:blip r:embed="rId3"/>
          <a:stretch/>
        </p:blipFill>
        <p:spPr>
          <a:xfrm>
            <a:off x="5076720" y="1557360"/>
            <a:ext cx="3816360" cy="475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E:\разинкина\Глиняная игрушка\Фестиваль 2011 324.jpg"/>
          <p:cNvPicPr/>
          <p:nvPr/>
        </p:nvPicPr>
        <p:blipFill>
          <a:blip r:embed="rId4"/>
          <a:stretch/>
        </p:blipFill>
        <p:spPr>
          <a:xfrm>
            <a:off x="4427640" y="1413000"/>
            <a:ext cx="4465440" cy="496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E:\разинкина\Глиняная игрушка\Фестиваль 2011 346.jpg"/>
          <p:cNvPicPr/>
          <p:nvPr/>
        </p:nvPicPr>
        <p:blipFill>
          <a:blip r:embed="rId2"/>
          <a:stretch/>
        </p:blipFill>
        <p:spPr>
          <a:xfrm>
            <a:off x="1979640" y="1484280"/>
            <a:ext cx="5545080" cy="5184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E:\разинкина\Глиняная игрушка\Фестиваль 2011 325.jpg"/>
          <p:cNvPicPr/>
          <p:nvPr/>
        </p:nvPicPr>
        <p:blipFill>
          <a:blip r:embed="rId2"/>
          <a:stretch/>
        </p:blipFill>
        <p:spPr>
          <a:xfrm>
            <a:off x="5003640" y="1341360"/>
            <a:ext cx="3745080" cy="4896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af.attachmail.ru/cgi-bin/readmsg/DSC03515.JPG?rid=117771203633076118129933988372140870505&amp;file=DSC03515.JPG&amp;id=13259512570000000776;0;4&amp;mode=attachment&amp;channel="/>
          <p:cNvPicPr/>
          <p:nvPr/>
        </p:nvPicPr>
        <p:blipFill>
          <a:blip r:embed="rId3"/>
          <a:stretch/>
        </p:blipFill>
        <p:spPr>
          <a:xfrm>
            <a:off x="611280" y="1341360"/>
            <a:ext cx="3816360" cy="489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44440" y="469800"/>
            <a:ext cx="4546800" cy="584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E:\разинкина\Глиняная игрушка\Фестиваль 2011 342.jpg"/>
          <p:cNvPicPr/>
          <p:nvPr/>
        </p:nvPicPr>
        <p:blipFill>
          <a:blip r:embed="rId2"/>
          <a:stretch/>
        </p:blipFill>
        <p:spPr>
          <a:xfrm>
            <a:off x="5003640" y="404640"/>
            <a:ext cx="3456000" cy="590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://af.attachmail.ru/cgi-bin/readmsg/DSC03516.JPG?rid=3586544042413564076927736487902981801017&amp;file=DSC03516.JPG&amp;id=13259512570000000776;0;3&amp;mode=attachment&amp;channel="/>
          <p:cNvPicPr/>
          <p:nvPr/>
        </p:nvPicPr>
        <p:blipFill>
          <a:blip r:embed="rId3"/>
          <a:stretch/>
        </p:blipFill>
        <p:spPr>
          <a:xfrm>
            <a:off x="468360" y="476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E:\разинкина\Глиняная игрушка\Фестиваль 2011 397.jpg"/>
          <p:cNvPicPr/>
          <p:nvPr/>
        </p:nvPicPr>
        <p:blipFill>
          <a:blip r:embed="rId2"/>
          <a:stretch/>
        </p:blipFill>
        <p:spPr>
          <a:xfrm>
            <a:off x="684360" y="155736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35:47Z</dcterms:created>
  <dc:creator>Grey Wolf</dc:creator>
  <dc:description/>
  <dc:language>en-US</dc:language>
  <cp:lastModifiedBy>попов</cp:lastModifiedBy>
  <dcterms:modified xsi:type="dcterms:W3CDTF">2012-02-27T18:36:42Z</dcterms:modified>
  <cp:revision>67</cp:revision>
  <dc:subject/>
  <dc:title>Слайд 1</dc:title>
</cp:coreProperties>
</file>