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4AF1-8104-4FE3-A27C-4D015A0EC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F838-CB24-45D1-AF88-93F0B187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DBC7-69F2-4B03-927B-E36E5FEAF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A6FF-670D-4E1A-831F-CDC379AC8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2EC3-D7FD-4CD9-BCC5-20226B241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C8F4-4E10-4974-A6CA-097134CE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F973-8E67-4676-A19A-1DD74EB7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5BB5-4AEF-4664-B1EE-28CDA7E5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D7C6-08AB-4E53-8D53-9FD92DD0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14AE-2FDE-4DC3-B4B8-FB67A537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F063-45AE-496B-A660-1058BFD0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A992-AFCF-448E-BF72-8780FD55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4CC1-5CA1-4DCE-AF4C-26929D82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471A-53F0-4C0C-965B-01DF6ECC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11E5-3C2E-44DA-A5E6-648972E4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75C1-E5F8-45B6-931A-B4308F47F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E186-FA4B-43E8-A78B-A2A002F65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C7DDC-0B45-43BE-ACC2-DD23A0EE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D4A14-5738-4991-8047-D495191F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1B01C-13D2-489F-93B0-36841178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81449-9B01-4286-91D1-B3694102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4574D-D563-4603-8372-068F6BE0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949A-658B-408B-978C-7615EF23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10171-858D-4098-A911-7EAE58E2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03B68-7934-4938-ADAB-0A87B619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609E0-D649-46FA-A446-574AE509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542CE-482D-444B-9912-A891B16E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06776-4489-4155-A044-498EFE27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C93F3-B32B-4140-B705-6F23DD58D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FF0FD-7AB9-482C-8747-89CDC4CE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A5045-F453-4652-A70B-BC734725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460B9-FC06-467A-98CD-0009B26A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E5C96-638A-4833-8F81-CDC1D642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4673-8058-41C9-9255-7A99BB08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0E025-B42B-43D2-99B9-336F4DF3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C4B5D-D9BB-48F0-B92C-1236E5A3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F95C6-0191-4FD7-BD44-CB9C9B24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D1E85-5644-45F2-A0EC-F3996FC5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36C7D-7137-40A5-82A0-49F6DCE1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33EB7-30D6-47F4-AF9D-0E5DAA23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B7899-285E-4D2C-BDFC-31BE2E8C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56691-9197-4396-9084-CF22B17E4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7D7E5-CD50-41FF-8E50-64D645583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FA64-877C-4286-8D52-666F0FDB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B515-529A-4519-8928-40434FD3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83D0-34E6-4BD0-9CC7-5C6D6D85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04A4-82B7-45E6-BCFE-E4188851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2F69-40ED-4ED1-BDFA-24B46A83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54443b">
                  <a:alpha val="45098"/>
                </a:srgbClr>
              </a:gs>
              <a:gs pos="100000">
                <a:srgbClr val="ab8b53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46e48">
                  <a:alpha val="45098"/>
                </a:srgbClr>
              </a:gs>
              <a:gs pos="100000">
                <a:srgbClr val="69524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303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c956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2605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c956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8da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d2d2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B9EB-4D05-46D7-A362-213C1BBF120B}" type="slidenum">
              <a:rPr b="0" lang="ru-RU" sz="1200" spc="-1" strike="noStrike">
                <a:solidFill>
                  <a:srgbClr val="2d2d2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54443b">
                  <a:alpha val="45098"/>
                </a:srgbClr>
              </a:gs>
              <a:gs pos="100000">
                <a:srgbClr val="ab8b53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46e48">
                  <a:alpha val="45098"/>
                </a:srgbClr>
              </a:gs>
              <a:gs pos="100000">
                <a:srgbClr val="69524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dee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c956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2605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c956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8da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9635-13D8-4504-97F3-BCF16205C1D0}" type="slidenum">
              <a:rPr b="0" lang="ru-RU" sz="1200" spc="-1" strike="noStrike">
                <a:solidFill>
                  <a:srgbClr val="d4d4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54443b">
                  <a:alpha val="45098"/>
                </a:srgbClr>
              </a:gs>
              <a:gs pos="100000">
                <a:srgbClr val="ab8b53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46e48">
                  <a:alpha val="45098"/>
                </a:srgbClr>
              </a:gs>
              <a:gs pos="100000">
                <a:srgbClr val="69524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dee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c956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2605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c956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8da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A06C-7B37-4DA3-94E0-8FB28B855876}" type="slidenum">
              <a:rPr b="0" lang="ru-RU" sz="1200" spc="-1" strike="noStrike">
                <a:solidFill>
                  <a:srgbClr val="d4d4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54443b">
                  <a:alpha val="45098"/>
                </a:srgbClr>
              </a:gs>
              <a:gs pos="100000">
                <a:srgbClr val="ab8b53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46e48">
                  <a:alpha val="45098"/>
                </a:srgbClr>
              </a:gs>
              <a:gs pos="100000">
                <a:srgbClr val="69524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303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c956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2605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c956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8da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d2d2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18AB-B07C-4DE1-A8A8-5AA1042C4390}" type="slidenum">
              <a:rPr b="0" lang="ru-RU" sz="1200" spc="-1" strike="noStrike">
                <a:solidFill>
                  <a:srgbClr val="2d2d2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7851960" cy="2322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303030"/>
                </a:solidFill>
                <a:latin typeface="Calibri"/>
              </a:rPr>
              <a:t>Признаки Двудольных</a:t>
            </a:r>
            <a:endParaRPr b="0" lang="en-US" sz="5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9640" y="1844640"/>
            <a:ext cx="81360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700"/>
              </a:spcBef>
              <a:buClr>
                <a:srgbClr val="ac956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Зародыш семени с двумя семядоля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700"/>
              </a:spcBef>
              <a:buClr>
                <a:srgbClr val="ac956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Листья обычно имеют перистое жилковани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700"/>
              </a:spcBef>
              <a:buClr>
                <a:srgbClr val="ac956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Зародышевый корешок семени обычно развивается в главный корень, образуя стержне – корневую систем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700"/>
              </a:spcBef>
              <a:buClr>
                <a:srgbClr val="ac956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Цветки пяти- и четырехчленные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8" name="Picture 5" descr="А1"/>
          <p:cNvPicPr/>
          <p:nvPr/>
        </p:nvPicPr>
        <p:blipFill>
          <a:blip r:embed="rId1"/>
          <a:stretch/>
        </p:blipFill>
        <p:spPr>
          <a:xfrm>
            <a:off x="611280" y="4556160"/>
            <a:ext cx="6840360" cy="230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Calibri"/>
              </a:rPr>
              <a:t>Семейства двудольных растений</a:t>
            </a:r>
            <a:r>
              <a:rPr b="0" lang="ru-RU" sz="4000" spc="-1" strike="noStrike">
                <a:solidFill>
                  <a:srgbClr val="30303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Двудольные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 самы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ногочисленные среди цветковых. Многие из них имеют большое хозяйственное значение. Рассмотрим несколько семейст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03030"/>
                </a:solidFill>
                <a:latin typeface="Calibri"/>
              </a:rPr>
              <a:t>Семейство Розоцветные</a:t>
            </a:r>
            <a:endParaRPr b="0" lang="en-US" sz="32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23640" y="2060640"/>
            <a:ext cx="38271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Розоцветные – это роза, яблоня, вишня, малина, лапчатка. Они имеют древесные, кустарниковые и травянистые формы. Листья простые и сложные. У цветка двойной околоцветник. Чашечка состоит из пяти свободных чашелистиков, венчик из пяти свободных лепестков, много тычинок и пестиков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7" descr="http://t3.gstatic.com/images?q=tbn:ANd9GcQDofoGUoT8XrleS_qDNXXrHG3Pm-Qn_z7VQeVoMzvCQ1To6kRBvA"/>
          <p:cNvPicPr/>
          <p:nvPr/>
        </p:nvPicPr>
        <p:blipFill>
          <a:blip r:embed="rId1"/>
          <a:stretch/>
        </p:blipFill>
        <p:spPr>
          <a:xfrm>
            <a:off x="6300720" y="400536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http://t1.gstatic.com/images?q=tbn:ANd9GcREv_zR9BJGYpYAleaE2XH3mjy-fofSGhqmWjscJ7zkkbly4rMH"/>
          <p:cNvPicPr/>
          <p:nvPr/>
        </p:nvPicPr>
        <p:blipFill>
          <a:blip r:embed="rId2"/>
          <a:stretch/>
        </p:blipFill>
        <p:spPr>
          <a:xfrm>
            <a:off x="2916360" y="5157720"/>
            <a:ext cx="2819160" cy="1619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1" descr="http://t2.gstatic.com/images?q=tbn:ANd9GcSPaWr3D6Lm2_KcAhlsq8G_dwESrI55UYlGTwgKrqdvdgKEYoc4"/>
          <p:cNvPicPr/>
          <p:nvPr/>
        </p:nvPicPr>
        <p:blipFill>
          <a:blip r:embed="rId3"/>
          <a:stretch/>
        </p:blipFill>
        <p:spPr>
          <a:xfrm>
            <a:off x="4572000" y="1866960"/>
            <a:ext cx="250524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03030"/>
                </a:solidFill>
                <a:latin typeface="Calibri"/>
              </a:rPr>
              <a:t>Семейство Мотыльковые</a:t>
            </a:r>
            <a:endParaRPr b="0" lang="en-US" sz="32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8000" y="1916280"/>
            <a:ext cx="504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Мотыльковые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 это горох, фасоль, соя, клевер и т.д. Среди них много древесных форм, кустарников, трав. Листья образуются сложные. Плод – боб, поэтому их часто называют Бобовы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8" descr="http://t3.gstatic.com/images?q=tbn:ANd9GcTnD1v_DiRMMGIA9jomhnIaYa1ymDR4FLfhPo-1gDkyEfwsQDng"/>
          <p:cNvPicPr/>
          <p:nvPr/>
        </p:nvPicPr>
        <p:blipFill>
          <a:blip r:embed="rId1"/>
          <a:stretch/>
        </p:blipFill>
        <p:spPr>
          <a:xfrm>
            <a:off x="6443640" y="4508640"/>
            <a:ext cx="2133720" cy="19047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http://t0.gstatic.com/images?q=tbn:ANd9GcRZL7-3HtVPwuH7MqW9D4rBtwa6VkFfaRQOUUvkCsF8--fFAffBCQ"/>
          <p:cNvPicPr/>
          <p:nvPr/>
        </p:nvPicPr>
        <p:blipFill>
          <a:blip r:embed="rId2"/>
          <a:stretch/>
        </p:blipFill>
        <p:spPr>
          <a:xfrm>
            <a:off x="3635280" y="4484520"/>
            <a:ext cx="2143080" cy="2143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http://t0.gstatic.com/images?q=tbn:ANd9GcS68f0R6CyuIrk_5YEJDju5GUXV0-dKLYUM1BzzTg3chECSj10oKg"/>
          <p:cNvPicPr/>
          <p:nvPr/>
        </p:nvPicPr>
        <p:blipFill>
          <a:blip r:embed="rId3"/>
          <a:stretch/>
        </p:blipFill>
        <p:spPr>
          <a:xfrm>
            <a:off x="5867280" y="20923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03030"/>
                </a:solidFill>
                <a:latin typeface="Calibri"/>
              </a:rPr>
              <a:t>Семейство Крестоцветные (Капустные).</a:t>
            </a:r>
            <a:endParaRPr b="0" lang="en-US" sz="32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05120"/>
            <a:ext cx="433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Крестоцветные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– это капуста, хрен, редька, свербига, горчица. Чашечки состоят из четырех чашелистиков, венчик из четырех свободных лепестков, тычинок шесть, пестик один. Цветки часто собраны в соцветие – кисть. Плод – стручок и стручочек. Листья простые и сложные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9" descr="http://t1.gstatic.com/images?q=tbn:ANd9GcTB8-hUOvMcG4PeNU-ORi2G-FKJHkEU4CwPNP1JSwCb4UuGivtg"/>
          <p:cNvPicPr/>
          <p:nvPr/>
        </p:nvPicPr>
        <p:blipFill>
          <a:blip r:embed="rId1"/>
          <a:stretch/>
        </p:blipFill>
        <p:spPr>
          <a:xfrm>
            <a:off x="4643280" y="4653000"/>
            <a:ext cx="2487600" cy="1944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1" descr="http://t1.gstatic.com/images?q=tbn:ANd9GcTLnIcjnn7G3mlLfXxMW3wVc2gXpamw8gIsV-e32axT44jt_lKImA"/>
          <p:cNvPicPr/>
          <p:nvPr/>
        </p:nvPicPr>
        <p:blipFill>
          <a:blip r:embed="rId2"/>
          <a:stretch/>
        </p:blipFill>
        <p:spPr>
          <a:xfrm>
            <a:off x="7242120" y="3860640"/>
            <a:ext cx="1733760" cy="23148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5" descr="http://t0.gstatic.com/images?q=tbn:ANd9GcR9iLtXuELv0GEas1vvtJT6K7zsthiafq1TAC9ajiOgfH4JRbcyag"/>
          <p:cNvPicPr/>
          <p:nvPr/>
        </p:nvPicPr>
        <p:blipFill>
          <a:blip r:embed="rId3"/>
          <a:stretch/>
        </p:blipFill>
        <p:spPr>
          <a:xfrm>
            <a:off x="4459320" y="2276640"/>
            <a:ext cx="2619360" cy="174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03030"/>
                </a:solidFill>
                <a:latin typeface="Calibri"/>
              </a:rPr>
              <a:t>Семейство Паслёновые.</a:t>
            </a:r>
            <a:endParaRPr b="0" lang="en-US" sz="32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1905120"/>
            <a:ext cx="368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Паслёновые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– это картофель, томат, баклажан, перец. Среди них много древесных и травянистых форм. Цветок состоит из пяти сросшихся чашелистиков. Пяти сросшихся лепестков, пяти тычинок и одного пестика. Плод – либо ягода, либо коробочк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7" descr="http://t0.gstatic.com/images?q=tbn:ANd9GcS_nMyQUHO2hZGq2LMYZRv6EAUWvqnsi__Ql5CwQRIfpq1qPQUpEg"/>
          <p:cNvPicPr/>
          <p:nvPr/>
        </p:nvPicPr>
        <p:blipFill>
          <a:blip r:embed="rId1"/>
          <a:stretch/>
        </p:blipFill>
        <p:spPr>
          <a:xfrm>
            <a:off x="6300720" y="4259160"/>
            <a:ext cx="2152800" cy="2124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http://t2.gstatic.com/images?q=tbn:ANd9GcRMSGMZGRDaIa_UQ55PN7cRQlDk9EQx_TLM0gPsvGInODTM4BVebQ"/>
          <p:cNvPicPr/>
          <p:nvPr/>
        </p:nvPicPr>
        <p:blipFill>
          <a:blip r:embed="rId2"/>
          <a:stretch/>
        </p:blipFill>
        <p:spPr>
          <a:xfrm>
            <a:off x="5986440" y="2060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http://t2.gstatic.com/images?q=tbn:ANd9GcTtDl4KV4MQWVU7KSUeLBRDbqYgtpG0GhZzTWVcalPvunqptdwB"/>
          <p:cNvPicPr/>
          <p:nvPr/>
        </p:nvPicPr>
        <p:blipFill>
          <a:blip r:embed="rId3"/>
          <a:stretch/>
        </p:blipFill>
        <p:spPr>
          <a:xfrm>
            <a:off x="4148280" y="36813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alibri"/>
              </a:rPr>
              <a:t>Семейство Сложноцветные (Астровые).</a:t>
            </a:r>
            <a:endParaRPr b="0" lang="en-US" sz="32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1916280"/>
            <a:ext cx="41403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Сложноцветные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– астры, хризантемы, одуванчик, георгины. Среди них распространены травы и кустарники. Многие астровые образуют подушковидные формы. Листья простые. Цветки сложноцветных мелкие, имеют двойной околоцветник. Чашечка представлена хохолком. Венчик образован из пяти сросшихся в трубку лепестков, пяти тычинок и одного пестика. Плод – семянк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8" descr="http://t2.gstatic.com/images?q=tbn:ANd9GcS6-90y7WV_WRmeULK1oYp11Wuyy2ocrJiMcWULIt7b92nfYexpcg"/>
          <p:cNvPicPr/>
          <p:nvPr/>
        </p:nvPicPr>
        <p:blipFill>
          <a:blip r:embed="rId1"/>
          <a:stretch/>
        </p:blipFill>
        <p:spPr>
          <a:xfrm>
            <a:off x="6084720" y="4508640"/>
            <a:ext cx="2391120" cy="1914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http://t2.gstatic.com/images?q=tbn:ANd9GcTHhRxkt-RgPTWkdQBh2Mk2AKfjgSnQGNgPvQcrofM9OpNM6KYezw"/>
          <p:cNvPicPr/>
          <p:nvPr/>
        </p:nvPicPr>
        <p:blipFill>
          <a:blip r:embed="rId2"/>
          <a:stretch/>
        </p:blipFill>
        <p:spPr>
          <a:xfrm>
            <a:off x="4643280" y="2276640"/>
            <a:ext cx="250524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r>
              <a:rPr b="0" lang="ru-RU" sz="5000" spc="-1" strike="noStrike">
                <a:solidFill>
                  <a:srgbClr val="303030"/>
                </a:solidFill>
                <a:latin typeface="Calibri"/>
              </a:rPr>
              <a:t>Презентацию выполнил </a:t>
            </a:r>
            <a:br>
              <a:rPr sz="5000"/>
            </a:br>
            <a:r>
              <a:rPr b="0" lang="ru-RU" sz="5000" spc="-1" strike="noStrike">
                <a:solidFill>
                  <a:srgbClr val="303030"/>
                </a:solidFill>
                <a:latin typeface="Calibri"/>
              </a:rPr>
              <a:t>ученик 6-А класса </a:t>
            </a:r>
            <a:br>
              <a:rPr sz="5000"/>
            </a:br>
            <a:r>
              <a:rPr b="0" lang="ru-RU" sz="5000" spc="-1" strike="noStrike">
                <a:solidFill>
                  <a:srgbClr val="303030"/>
                </a:solidFill>
                <a:latin typeface="Calibri"/>
              </a:rPr>
              <a:t>Брюхов Владимир.</a:t>
            </a:r>
            <a:endParaRPr b="0" lang="en-US" sz="5000" spc="-1" strike="noStrike">
              <a:solidFill>
                <a:srgbClr val="303030"/>
              </a:solidFill>
              <a:latin typeface="Calibri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1T10:56:26Z</dcterms:created>
  <dc:creator>qwer</dc:creator>
  <dc:description/>
  <dc:language>en-US</dc:language>
  <cp:lastModifiedBy>валька</cp:lastModifiedBy>
  <dcterms:modified xsi:type="dcterms:W3CDTF">2012-02-20T02:10:04Z</dcterms:modified>
  <cp:revision>18</cp:revision>
  <dc:subject/>
  <dc:title>Класс Двудольные</dc:title>
</cp:coreProperties>
</file>