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camera.wav" ContentType="audio/x-wav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DA34-5873-4E28-A4E9-0DFA04145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8C75-80A4-4F32-8AA7-0BA0D726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F6BF5D-C629-4FC5-92DE-CE79DF77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CF18DA-5899-4215-82DF-A576247D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145949-37B9-4960-B92C-82ACC1BC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11F277-E956-48C4-9105-5F6B3527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6180B9-37C7-4CDC-88C7-0D9EDBF2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74097D-84D0-4B23-9184-9DC82B4F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57923F-69A7-4439-8507-0E3B8901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9A3878-2EAF-4C2C-A703-98F8FD48A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90D57-9156-42F7-B56B-4074E6A11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3348-8226-45F5-BC80-CC5B1FFBE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F8D7-5043-44F5-BD21-1DCF3FEE8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703E-6EEF-4929-AF93-0DD9A7967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DF8F-3A91-4C31-B326-0C3E515D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2775C-3B72-4499-920A-E9E67188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3568-A4F9-499D-B3AF-F3A678A1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530F-6AF9-462C-86CF-47D8E0BE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CB3E-ACED-4259-90C0-D50A1FD6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8746-D6CC-4C20-B35B-42068BEE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C1A1-828C-4F19-95E1-87B0730F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B5884-16A3-42F9-8B10-8C997C5B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776B-6147-49AE-A1C4-905BF6D2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2D902-D5F3-425F-8431-F472F1F8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0F0D-6947-4BEE-A990-E89128B74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86E7-4FE2-4160-B9C6-E7793A61A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1FBC5-121B-4551-AADA-F64894974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5C844-7BBB-497F-BF1D-5738A224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15DA9-644E-449E-9F63-B54C8C54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3FB29-5BAB-4B16-A4E2-B9A1D3AD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83AEB-756C-4253-8963-E11A031F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4265-AAFF-4F3F-8C25-889DCB0B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C9092-0443-4F48-82DF-14808173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3BD71-6F7D-4C73-8474-BC206F87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E3FE3-6310-426A-8D8B-B820B385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8CDD0-91D6-4C4E-8C9D-18D9EB3D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17565-EC27-493A-8919-237C9F2E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BCA4D-D621-489E-9227-8757DB481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27382-5E84-4AD4-89DF-C1706CA8A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4CEF9-1489-43CF-8253-B5030D02D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CA46F-2EC2-4D08-8E81-6BDCA5EA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0C422-66D5-431C-84B2-7C83602F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EAF0-BA5A-4B9C-AF1A-3FB27377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D1D64-C2C6-4302-92E3-3871FE41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2E9E6-6BFD-4025-AE44-286C83AE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D4508-754F-410C-90D5-3A36B632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03D46-C491-49F3-B154-C4B06AB6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FDD16-39F0-4B59-8EDB-85041D5A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E24E6-174D-4556-BD1F-C34B3129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46FA7-4E23-4A3F-A457-B1832BCD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0BA38-7B57-451B-BF7E-0B92B72D7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6CB76-02CB-413D-BF89-7B4152027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6BD5C-10E7-40D4-9E07-1C48FA375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5EEC-4E8A-4E26-A205-054F98C4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33166-E649-4CD9-BA63-F69C3513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0C718-5A02-4764-A21E-F0FE4F9B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54E6D-09B5-4B10-BEED-2B4A2029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8FB90-1A8E-4854-9E60-83508B35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43401-DB4C-4BDC-9C43-92B1FEAF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3A0B3-ABFA-495E-AE0F-9D0A6E81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8F61F-2A60-41D4-A6E8-6E05875D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7A6F1-4FAE-4224-8369-6CE89655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DB5C1-AA8E-4135-98CA-37D7A38E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2D44F-FC38-45E8-ABC7-177946DAC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ADDF-C56A-430C-8E4E-2D20670E6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C8C9A-C757-4768-ACB2-05E37430A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5F75F-2FC0-4B05-A38D-58EDD3E47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3FA7D-8483-4177-918E-542CBE4D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8B760-F792-4DA6-B5FC-7481A39A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5BD4F-63B6-4FB5-BD8B-83B85E4A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208FB-EFAB-4461-8BA9-80C50350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FD506-3BE5-44D1-B2A0-4498D4F4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9B304-AA0A-43A9-8C58-B43306BD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84AFC-079C-48FA-A04A-825CAF1D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CC250-EA3E-4AE0-A024-BD14FF45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E826-B2BE-42D8-90B0-57B2D97E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E4C38-B5F8-426C-9F43-6C8C8902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13784-FE23-4A28-A92C-C0DBC6CF8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39F6C-0F05-4D59-A826-7F811BA44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4FF5A-7B88-41B5-8330-25B7C0DDC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875C8-BE14-4131-877B-D2AB9810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56928-51B4-4127-BFE7-DF04A846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8D515-A07C-45F3-B4F0-F3B2563D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8DC24-5ADB-4BB9-8600-7AD8FB2A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5C440-7EC1-447C-A1FA-4361D531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BCBCD-6D9A-422D-8265-DF69FA8D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0FEE-B861-4408-8A37-7B54C80C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AF660-D198-434A-9251-720A9DF3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32C00-8AF2-46F4-842D-CC9B4589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EAD99-56F4-4292-87AF-5CCDFF83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CC0FF-0014-45E4-9E25-EA443B268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CAF37-4A62-4723-9807-A5CFDA33F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88F67-0AF2-4DAE-B21E-C7071E6BB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79552-F232-4A60-82EF-9D16C7D6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AD629-FB10-468C-AECA-E8BCDDDC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A8F64-BD54-4F53-853E-CEC568DA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F7F93-8673-424A-A3EE-7387F086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E4E4-3EC8-4A4A-80B0-E3DBF0AB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66AAE-4FEF-40CE-92BA-F02909ED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6464E-1823-4487-BAF7-EE8A9227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2CAA6-3F06-4AE9-AE35-62D4019C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3ADB7-05E6-4104-8EEE-9D0EEE45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E68C1-86A6-4505-A42B-D149B19D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2A5B1-591B-4ACF-8BAE-407C65728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21BAE-6347-4DD6-9575-EB2972EF7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DFE498-0023-4C20-8A09-EF857E4F9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7C3082-1E38-4013-A26B-10C51478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BBA3DA-A01D-4D03-81EF-698EBBD4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7407-FF9E-411B-B3B7-5CB1CA4705C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9266-69D8-4B0A-A287-B09AD071FD5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8BE1-6DD1-4426-8194-FC7D4AA869E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7ECF-D85E-4D4F-BCD5-518565AD0BB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A772-1DE3-48F5-B705-69325743D4F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FF7B-0308-4F4F-8B4D-87A7131FA89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8CFD-AB78-4E66-BAE5-329FC060FC8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1F63-DF4E-446F-84D1-DA44F2C7273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B627-31A9-4E19-8F39-6ABE61789A3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3" descr=""/>
          <p:cNvPicPr/>
          <p:nvPr/>
        </p:nvPicPr>
        <p:blipFill>
          <a:blip r:embed="rId1"/>
          <a:stretch/>
        </p:blipFill>
        <p:spPr>
          <a:xfrm>
            <a:off x="378000" y="3048120"/>
            <a:ext cx="8467560" cy="11397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642960" y="1000080"/>
            <a:ext cx="7910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43329"/>
                </a:solidFill>
                <a:latin typeface="Monotype Corsiva"/>
              </a:rPr>
              <a:t>Краткая трудовая энциклопедия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1" name="Рисунок 5" descr="study77.gif"/>
          <p:cNvPicPr/>
          <p:nvPr/>
        </p:nvPicPr>
        <p:blipFill>
          <a:blip r:embed="rId2"/>
          <a:stretch/>
        </p:blipFill>
        <p:spPr>
          <a:xfrm>
            <a:off x="1785960" y="4214880"/>
            <a:ext cx="4500720" cy="2038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  <p:sndAc>
      <p:stSnd>
        <p:snd r:embed="rId3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Rectangle 1"/>
          <p:cNvGrpSpPr/>
          <p:nvPr/>
        </p:nvGrpSpPr>
        <p:grpSpPr>
          <a:xfrm>
            <a:off x="493560" y="993600"/>
            <a:ext cx="7944120" cy="3060720"/>
            <a:chOff x="493560" y="993600"/>
            <a:chExt cx="7944120" cy="3060720"/>
          </a:xfrm>
        </p:grpSpPr>
        <p:pic>
          <p:nvPicPr>
            <p:cNvPr id="417" name="Rectangle 1" descr=""/>
            <p:cNvPicPr/>
            <p:nvPr/>
          </p:nvPicPr>
          <p:blipFill>
            <a:blip r:embed="rId1"/>
            <a:stretch/>
          </p:blipFill>
          <p:spPr>
            <a:xfrm>
              <a:off x="493560" y="993600"/>
              <a:ext cx="7944120" cy="30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500040" y="1013760"/>
              <a:ext cx="792972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8080"/>
                  </a:solidFill>
                  <a:uFillTx/>
                  <a:latin typeface="Arial"/>
                  <a:ea typeface="Times New Roman"/>
                </a:rPr>
                <a:t>А Томас Карлейль сказал: “</a:t>
              </a:r>
              <a:r>
                <a:rPr b="0" i="1" lang="ru-RU" sz="4800" spc="-1" strike="noStrike" u="sng">
                  <a:solidFill>
                    <a:srgbClr val="008080"/>
                  </a:solidFill>
                  <a:uFillTx/>
                  <a:latin typeface="Times New Roman"/>
                  <a:ea typeface="Times New Roman"/>
                </a:rPr>
                <a:t>Самый несчастный из людей тот, для которого в мире не оказалось работы</a:t>
              </a:r>
              <a:r>
                <a:rPr b="0" lang="ru-RU" sz="4800" spc="-1" strike="noStrike" u="sng">
                  <a:solidFill>
                    <a:srgbClr val="008080"/>
                  </a:solidFill>
                  <a:uFillTx/>
                  <a:latin typeface="Arial"/>
                  <a:ea typeface="Times New Roman"/>
                </a:rPr>
                <a:t>”.</a:t>
              </a:r>
              <a:endParaRPr b="0" lang="en-US" sz="4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1499760" y="213840"/>
            <a:ext cx="7434360" cy="63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Определены самые прибыльные профессии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банкиры43% респондентов уверены, что люди именно этой профессии постоянно живут в материальном достатке. Примечательно, что на протяжении 9 лет мнение о богатстве банкиров практически не менялось: в 2007 году об этом сообщили 40% опрошенных, в 2007 – 49%.</a:t>
            </a:r>
            <a:br>
              <a:rPr sz="1800"/>
            </a:b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Monotype Corsiva"/>
              </a:rPr>
              <a:t> </a:t>
            </a:r>
            <a:r>
              <a:rPr b="0" i="1" lang="ru-RU" sz="3200" spc="-1" strike="noStrike">
                <a:solidFill>
                  <a:srgbClr val="4e3b30"/>
                </a:solidFill>
                <a:latin typeface="Monotype Corsiva"/>
              </a:rPr>
              <a:t>По доходност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"звезда" эстрады -24%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судья и прокурор – 23%;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министр – 22%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депутат – 26%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равительственный чиновник – 21%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мэры –16%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губернаторы- 18%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 середине списка "престижности" стоят врачи -10%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журналистов 3%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милиционеров -2%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Самыми невыгодными стали такие профессии, как профессиональный нищий, офицер армии, ученый, художник и скульптор, а также писатель. Им досталось лишь по 1% голосов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 исследовании приняло участие 1600 россиян. Статистическая погрешность опроса не превышает 3,4 %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1322280" y="195120"/>
            <a:ext cx="7620120" cy="31705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1142640" y="2857680"/>
            <a:ext cx="8001000" cy="40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4e3b30"/>
                </a:solidFill>
                <a:uFillTx/>
                <a:latin typeface="Monotype Corsiva"/>
              </a:rPr>
              <a:t>Задачи:</a:t>
            </a:r>
            <a:r>
              <a:rPr b="0" lang="ru-RU" sz="2800" spc="-1" strike="noStrike" u="sng">
                <a:solidFill>
                  <a:srgbClr val="4e3b30"/>
                </a:solidFill>
                <a:uFillTx/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Monotype Corsiva"/>
              </a:rPr>
              <a:t>	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4e3b30"/>
                </a:solidFill>
                <a:uFillTx/>
                <a:latin typeface="Monotype Corsiva"/>
              </a:rPr>
              <a:t>Выявить уровень сформированности личных профессиональных планов, степень профессиональной готовности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4e3b30"/>
                </a:solidFill>
                <a:uFillTx/>
                <a:latin typeface="Monotype Corsiva"/>
              </a:rPr>
              <a:t>Ознакомить с правилами выбора профессии с учетом личностных особенностей и требований рынка труда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4e3b30"/>
                </a:solidFill>
                <a:uFillTx/>
                <a:latin typeface="Monotype Corsiva"/>
              </a:rPr>
              <a:t>Предоставить информацию о возможностях профессионального образования в современных условиях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" dur="2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" dur="2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" dur="2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6" dur="2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856800" y="1447920"/>
            <a:ext cx="807732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4e3b30"/>
                </a:solidFill>
                <a:uFillTx/>
                <a:latin typeface="Franklin Gothic Book"/>
              </a:rPr>
              <a:t>. Аудиторы контролируют не бизнес, а счета, рентабельность, доходы и расходы компании, предприятия. Во всех странах мира компании должны вести баланс, делать денежные проводки через счета, отчислять налоги и т. д. Правильность ведения финансово-учетной и отчетной документации контролируется общественным аудитором. Дает оценку степени риска и эффективности предполагаемых операций предприятия. Эта профессия требует высокой квалификации, ответственности и является весьма престижной. У нас в стране эта профессия ещё очень молода, хотя во всем мире она известна очень давно.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" dur="20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" dur="20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99680" y="1447920"/>
            <a:ext cx="8434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4e3b30"/>
                </a:solidFill>
                <a:uFillTx/>
                <a:latin typeface="Franklin Gothic Book"/>
              </a:rPr>
              <a:t>Совершенствование медицинского обслуживания, улучшение условий жизни и возрастающее осознание необходимости вести здоровый образ жизни помогают жителям многих стран жить долго и полноценно. В настоящее время несколько иная ситуация сложилась в России, но она в скором времени должна улучшиться. Необходимо заметить, что старение общества происходит достаточно быстро. Увеличивается число престарелых людей, которые рассчитывать могут только на себя. Нуждаются в помощи и инвалиды. К сожалению, в государственных лечебницах мало выделяется мест для таких людей. Частные же лечебные и оздоровительные заведения пока немногочисленны и весьма дороги. Приглашение няни на какое-то время – это реальный выход во многих случаях. И потому профессия сестры-геронтолога получает все большее признание в обществе.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4e3b30"/>
                </a:solidFill>
                <a:uFillTx/>
                <a:latin typeface="Franklin Gothic Book"/>
              </a:rPr>
              <a:t>Получить эту профессию можно в любом медицинском колледже или ВУЗе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" dur="2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1434960" y="928440"/>
            <a:ext cx="749952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4e3b30"/>
                </a:solidFill>
                <a:uFillTx/>
                <a:latin typeface="Franklin Gothic Book"/>
              </a:rPr>
              <a:t>РАДИОЛОГ: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4e3b30"/>
                </a:solidFill>
                <a:uFillTx/>
                <a:latin typeface="Franklin Gothic Book"/>
              </a:rPr>
              <a:t>Эта профессия тоже связана с медициной. Радиолог выявляет внутренние симптомы болезни путем специализированного обследования различных частей человеческого тела. Такое обследование проводится с помощью высокотехнологичного оборудования: рентгена, ультразвука, компьютера, томографа и др. Эти средства становятся все более совершенными, позволяющими получать и моментально обрабатывать огромный объем информации о состоянии основных внутренних органов человека. Как правило, пациентов к радиологу направляют врачи, нуждающиеся в какой-то дополнительной информации о состоянии больного. На основании заключения радиолога устанавливается более точный диагноз и проводится более эффективное лечение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4e3b30"/>
                </a:solidFill>
                <a:uFillTx/>
                <a:latin typeface="Franklin Gothic Book"/>
              </a:rPr>
              <a:t>Получить эту профессию можно в любом медицинском колледже или ВУЗе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2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20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20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356760" y="571320"/>
            <a:ext cx="8479080" cy="19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ddd2b1"/>
                </a:solidFill>
                <a:uFillTx/>
                <a:latin typeface="Franklin Gothic Book"/>
              </a:rPr>
              <a:t>АГЕНТ СТРАХОВОЙ </a:t>
            </a:r>
            <a:endParaRPr b="0" lang="en-US" sz="2000" spc="-1" strike="noStrike">
              <a:solidFill>
                <a:srgbClr val="fbeec9"/>
              </a:solidFill>
              <a:latin typeface="Franklin Gothic Book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ddd2b1"/>
                </a:solidFill>
                <a:uFillTx/>
                <a:latin typeface="Franklin Gothic Book"/>
              </a:rPr>
              <a:t>Представитель страховой компании. Привлекает новых клиентов, составляет договоры, контролирует их выполнение, осуществляет необходимые действия в случае возникновения страхового случая</a:t>
            </a:r>
            <a:endParaRPr b="0" lang="en-US" sz="20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10" name="Заголовок 3"/>
          <p:cNvSpPr/>
          <p:nvPr/>
        </p:nvSpPr>
        <p:spPr>
          <a:xfrm>
            <a:off x="714240" y="3214800"/>
            <a:ext cx="740736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2c1"/>
                </a:solidFill>
                <a:uFillTx/>
                <a:latin typeface="Franklin Gothic Medium"/>
              </a:rPr>
              <a:t>СЕКРЕТАРЬ НА ТЕЛЕФОНЕ</a:t>
            </a:r>
            <a:br>
              <a:rPr sz="1400"/>
            </a:br>
            <a:r>
              <a:rPr b="1" lang="ru-RU" sz="1400" spc="-1" strike="noStrike" u="sng">
                <a:solidFill>
                  <a:srgbClr val="fff2c1"/>
                </a:solidFill>
                <a:uFillTx/>
                <a:latin typeface="Franklin Gothic Medium"/>
              </a:rPr>
              <a:t>ОСУЩЕСТВЛЯЕТ ПРИЕМ ЗВОНКОВ И КЛИЕНТОВ, ОРГАНИЗУЕТ ДЕЛОПРОИЗВОДСТВО, ПЕРЕВОДИТ ТЕЛЕФОННЫЕ ПЕРЕГОВОРЫ, ОРГАНИЗУЕТ ВСТРЕЧИ, ПРОИЗВОДИТ ПРИЕМ И ОТПРАВКУ КОРРЕСПОНДЕНЦИИ ПО ТЕЛЕФОНУ, ФАКСУ, ЭЛЕКТРОННОЙ ПОЧТЕ</a:t>
            </a:r>
            <a:r>
              <a:rPr b="1" lang="ru-RU" sz="400" spc="-1" strike="noStrike" u="sng">
                <a:solidFill>
                  <a:srgbClr val="fff2c1"/>
                </a:solidFill>
                <a:uFillTx/>
                <a:latin typeface="Franklin Gothic Medium"/>
              </a:rPr>
              <a:t>.</a:t>
            </a:r>
            <a:endParaRPr b="0" lang="en-US" sz="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" dur="2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" dur="2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2071800" y="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ddd2b1"/>
                </a:solidFill>
                <a:uFillTx/>
                <a:latin typeface="Franklin Gothic Book"/>
              </a:rPr>
              <a:t>РИЭЛТЕР</a:t>
            </a:r>
            <a:endParaRPr b="0" lang="en-US" sz="2000" spc="-1" strike="noStrike">
              <a:solidFill>
                <a:srgbClr val="fbeec9"/>
              </a:solidFill>
              <a:latin typeface="Franklin Gothic Book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ddd2b1"/>
                </a:solidFill>
                <a:uFillTx/>
                <a:latin typeface="Franklin Gothic Book"/>
              </a:rPr>
              <a:t>Специалист по аренде, покупке, продаже недвижимости.</a:t>
            </a:r>
            <a:endParaRPr b="0" lang="en-US" sz="2000" spc="-1" strike="noStrike">
              <a:solidFill>
                <a:srgbClr val="fbeec9"/>
              </a:solidFill>
              <a:latin typeface="Franklin Gothic Book"/>
            </a:endParaRPr>
          </a:p>
        </p:txBody>
      </p:sp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1494000" y="2419200"/>
            <a:ext cx="780228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1434960" y="500040"/>
            <a:ext cx="3657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4e3b30"/>
                </a:solidFill>
                <a:uFillTx/>
                <a:latin typeface="Franklin Gothic Book"/>
              </a:rPr>
              <a:t>АГЕНТ ПО РЕКЛАМЕ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4e3b30"/>
                </a:solidFill>
                <a:uFillTx/>
                <a:latin typeface="Franklin Gothic Book"/>
              </a:rPr>
              <a:t>Проводит работу с клиентами-рекламодателями: поиск клиентов, выезжает к ним для заключения договоров, получения исходных материалов, согласования проектов и эскизов. Контролирует выполнение договорных обязательств.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276880" y="571320"/>
            <a:ext cx="3657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4e3b30"/>
                </a:solidFill>
                <a:uFillTx/>
                <a:latin typeface="Franklin Gothic Book"/>
              </a:rPr>
              <a:t>ИМПРЕССАРИО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4e3b30"/>
                </a:solidFill>
                <a:uFillTx/>
                <a:latin typeface="Franklin Gothic Book"/>
              </a:rPr>
              <a:t>Организатор зрелищных предприятий. Агент какого-либо артиста, действующий от его имени и в его интересах.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2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20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1"/>
          <p:cNvSpPr/>
          <p:nvPr/>
        </p:nvSpPr>
        <p:spPr>
          <a:xfrm>
            <a:off x="0" y="15069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8080"/>
                </a:solidFill>
                <a:uFillTx/>
                <a:latin typeface="Arial"/>
                <a:ea typeface="Times New Roman"/>
              </a:rPr>
              <a:t>Русская пословица гласит: “</a:t>
            </a:r>
            <a:r>
              <a:rPr b="0" i="1" lang="ru-RU" sz="4800" spc="-1" strike="noStrike" u="sng">
                <a:solidFill>
                  <a:srgbClr val="008080"/>
                </a:solidFill>
                <a:uFillTx/>
                <a:latin typeface="Times New Roman"/>
                <a:ea typeface="Times New Roman"/>
              </a:rPr>
              <a:t>Всяк кузнец своего счастья</a:t>
            </a:r>
            <a:r>
              <a:rPr b="0" lang="ru-RU" sz="4800" spc="-1" strike="noStrike" u="sng">
                <a:solidFill>
                  <a:srgbClr val="008080"/>
                </a:solidFill>
                <a:uFillTx/>
                <a:latin typeface="Arial"/>
                <a:ea typeface="Times New Roman"/>
              </a:rPr>
              <a:t>”.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8:32:32Z</dcterms:created>
  <dc:creator>User</dc:creator>
  <dc:description/>
  <dc:language>en-US</dc:language>
  <cp:lastModifiedBy>User</cp:lastModifiedBy>
  <dcterms:modified xsi:type="dcterms:W3CDTF">2009-08-31T20:07:57Z</dcterms:modified>
  <cp:revision>10</cp:revision>
  <dc:subject/>
  <dc:title>Классный час</dc:title>
</cp:coreProperties>
</file>