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A45-A60A-47A5-8E22-B8F7E2EC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064-C095-435B-A585-0640085B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071-BE90-4A43-8B4C-D449AAF1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E94-2E74-4558-A2DF-628BC755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1D9-1DFB-40A6-9D18-EB08B177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1C5-3910-4BBD-9C90-3246C848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F1B-DF1A-4D64-9098-A6E47274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BAF-9C8A-42E1-B4E2-0C1EB8CD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899-16E6-4E54-923D-87804AA9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08F-D007-4393-85FC-5F2C83F7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6E3-0E21-433C-84DC-8845201A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BCD-00A9-42CF-8789-5AF7D587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78A7-F97F-4102-AFA9-0FC6924B2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onotype Corsiva"/>
              </a:rPr>
              <a:t>«Формирование культуры межнациональных отношений и безопасности жизнедеятельности учащихся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Я готов общаться с детьми разных национальнос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1916280"/>
          <a:ext cx="795312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16280"/>
                    <a:ext cx="795312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Monotype Corsiva"/>
              </a:rPr>
              <a:t>Я могу представить своим другом чернокожего ребен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11280" y="1979640"/>
          <a:ext cx="7850160" cy="48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79640"/>
                    <a:ext cx="785016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Я готов Сидеть за партой с мальчиком или девочкой другой национа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26920" y="2158920"/>
          <a:ext cx="756144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58920"/>
                    <a:ext cx="756144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«Новеньким» другой национальности не стоит помогать, у нас своих проблем хватае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42920" y="2293920"/>
          <a:ext cx="7345440" cy="45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93920"/>
                    <a:ext cx="734544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Я хотел бы стать более терпимым ко всем детя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4360" y="2027160"/>
          <a:ext cx="777528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27160"/>
                    <a:ext cx="777528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Любые конфликты можно разрешить путём переговоров и путем взаимоуступ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042920" y="2300400"/>
          <a:ext cx="7336080" cy="45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00400"/>
                    <a:ext cx="733608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915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ffff66"/>
                </a:solidFill>
                <a:latin typeface="Monotype Corsiva"/>
              </a:rPr>
              <a:t>Уровни отношения детей к межнациональным особенностям детей других национальнос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Monotype Corsiva"/>
              </a:rPr>
              <a:t>Твой знакомый питается не так как ты по причине своей религи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95280" y="1413000"/>
          <a:ext cx="8424720" cy="54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42472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Monotype Corsiva"/>
              </a:rPr>
              <a:t>Цвет его кожи отличается от твоего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11280" y="2349360"/>
          <a:ext cx="799308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49360"/>
                    <a:ext cx="799308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На мальчика или девочку другой национальности нападаю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95280" y="1773360"/>
          <a:ext cx="8064360" cy="50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06436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Monotype Corsiva"/>
              </a:rPr>
              <a:t>Объект исследования</a:t>
            </a:r>
            <a:r>
              <a:rPr b="0" lang="en-US" sz="4800" spc="-1" strike="noStrike">
                <a:solidFill>
                  <a:srgbClr val="ffff00"/>
                </a:solidFill>
                <a:latin typeface="Monotype Corsiva"/>
              </a:rPr>
              <a:t> – процесс формирования культуры межнациональных отношений (толерантности) и безопасности жизнедеятельности учащихся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Monotype Corsiva"/>
              </a:rPr>
              <a:t>Предмет исследования</a:t>
            </a:r>
            <a:r>
              <a:rPr b="0" lang="en-US" sz="4800" spc="-1" strike="noStrike">
                <a:solidFill>
                  <a:srgbClr val="ccffff"/>
                </a:solidFill>
                <a:latin typeface="Monotype Corsiva"/>
              </a:rPr>
              <a:t> – педагогические условия формирования культуры межнациональных отношений и безопасности жизнедеятельности учащих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2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Monotype Corsiva"/>
              </a:rPr>
              <a:t>Цель исследования:</a:t>
            </a:r>
            <a:r>
              <a:rPr b="0" lang="en-US" sz="4800" spc="-1" strike="noStrike">
                <a:solidFill>
                  <a:srgbClr val="65fdf9"/>
                </a:solidFill>
                <a:latin typeface="Monotype Corsiva"/>
              </a:rPr>
              <a:t> изучить и систематизировать педагогические условия культуры межнациональных отношений и безопасности жизнедеятельности учащих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Задачи исследован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66"/>
                </a:solidFill>
                <a:latin typeface="Monotype Corsiva"/>
              </a:rPr>
              <a:t>определить сущность понятия «культура межнациональных отношений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66"/>
                </a:solidFill>
                <a:latin typeface="Monotype Corsiva"/>
              </a:rPr>
              <a:t>выявить педагогические условия формирования культуры межнациональных отношений и безопасности жизнедеятельности учащих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66"/>
                </a:solidFill>
                <a:latin typeface="Monotype Corsiva"/>
              </a:rPr>
              <a:t>провести диагностику уровня сформированности культуры межнациональных отношений и учащихс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66"/>
                </a:solidFill>
                <a:latin typeface="Monotype Corsiva"/>
              </a:rPr>
              <a:t>разработать внеклассные занятия по формированию культуры межнациональных отношений и безопасности жизнедеятельности учащих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33"/>
                </a:solidFill>
                <a:latin typeface="Monotype Corsiva"/>
              </a:rPr>
              <a:t>Методы исследования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84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теоретиче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эмпирическ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Monotype Corsiva"/>
              </a:rPr>
              <a:t>Выводы по </a:t>
            </a:r>
            <a:r>
              <a:rPr b="0" lang="en-US" sz="4800" spc="-1" strike="noStrike">
                <a:solidFill>
                  <a:srgbClr val="990000"/>
                </a:solidFill>
                <a:latin typeface="Monotype Corsiva"/>
              </a:rPr>
              <a:t>I </a:t>
            </a:r>
            <a:r>
              <a:rPr b="0" lang="ru-RU" sz="4800" spc="-1" strike="noStrike">
                <a:solidFill>
                  <a:srgbClr val="990000"/>
                </a:solidFill>
                <a:latin typeface="Monotype Corsiva"/>
              </a:rPr>
              <a:t>глав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ffff"/>
                </a:solidFill>
                <a:latin typeface="Monotype Corsiva"/>
              </a:rPr>
              <a:t>культура межнациональных отношений и безопасности жизнедеятельности – это целостно организованная совокупность ценностей и норм, которая находит отражение в стереотипах  восприятия и шаблонах поведения и призвана регулировать отношения и взаимодействия между нациями и этническими группами (в том числе , межнациональное общение между их конкретными представителями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Monotype Corsiva"/>
              </a:rPr>
              <a:t>Цель исследования опытно практической работ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66"/>
                </a:solidFill>
                <a:latin typeface="Monotype Corsiva"/>
              </a:rPr>
              <a:t>выявление уровня формирования культуры межнациональных отношений и безопасности жизнедеятельности учащих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onotype Corsiva"/>
              </a:rPr>
              <a:t>Уровни отношения детей к детям других национальност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8:40:19Z</dcterms:created>
  <dc:creator>vasya</dc:creator>
  <dc:description/>
  <dc:language>en-US</dc:language>
  <cp:lastModifiedBy>vasya</cp:lastModifiedBy>
  <dcterms:modified xsi:type="dcterms:W3CDTF">2008-02-17T21:56:43Z</dcterms:modified>
  <cp:revision>6</cp:revision>
  <dc:subject/>
  <dc:title>«Формирование культуры межнациональных отношений и безопасности жизнедеятельности учащихся».</dc:title>
</cp:coreProperties>
</file>