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F68F6-B654-4FE9-B541-A48FB37DA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72D79-BC39-43BA-A7E2-382A3AD45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19E74-CFB1-4EFC-919C-FC6CDF595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67BA6-8A6A-42C6-906E-DCC372968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9AD1C-9F55-4C0A-B262-3E8BF03B3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9C580-196F-4C37-9072-681943F74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5F4EA-03E8-4DF7-8325-3F2D64C13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C7A01-3541-4514-9EF0-CAC7D1BF6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E3061-A519-4A02-86CC-C724EEE5B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B9DD6-3D7F-45F0-9A92-B36340006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2B7B1-244F-41DF-B7B0-5D9EDFBD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F27EB-3A5A-4447-9C1E-F2D5796A9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E3C7D-5EFE-429C-8F73-97113BBC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59C9A-7578-4207-A717-4FC0C591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9776B-903F-454E-9DA7-F47C4B7D3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956BB-9EEA-4E7B-B834-4C1C43DFA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882DF-BD0B-49FC-B1B6-0837EE5AC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3F08C-71DD-4EE5-B3C5-DDEF70277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04184-BF23-4916-9D68-E633D506B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12BAA-FA0F-4A5F-B5B6-9A078E21C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BEFA4-3646-4AE4-9D4A-E9FE98340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94FD3-A0F5-41F8-B4EB-2A04A7C0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CADEC-E7D2-4ADD-98AF-7675A85F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6B165-9322-4E48-B74E-06BF653E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63102-3619-4D7F-8EBD-F11F38DA773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593F1-7675-4647-BB52-F45A483AA43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forum.norma4.net.ua/attachments/ostrohobbiya/50553d1209720402-ego-velichestvo-kosmos-kosm2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g15.nnm.ru/imagez/gallery/3/5/4/1/7/354170f10eff3103719e5b99a92bc35c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rlocman.ru/i/Image/2009/02/02/Ris_1_2_2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izvestia.ru/227980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common.regnum.ru/pictures/news/2006-04/20060412-2.jpg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tommerce.gorod.tomsk.ru/uploads/37592/1258545719/10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attach/c/0/40/749/40749622_12185375031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shalap-shkola.ucoz.ru/_files_down/Gagarin_UA1.jp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newscientist.com/blog/space/uploaded_images/buzz-765437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loegiesen.nl/toponiemen/Armstrong.jpg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34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es découvertes dans l’espa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31640" y="5229360"/>
            <a:ext cx="6840360" cy="16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ndre</a:t>
            </a:r>
            <a:r>
              <a:rPr b="1" lang="fr-FR" sz="2800" spc="-1" strike="noStrike">
                <a:solidFill>
                  <a:srgbClr val="ffffff"/>
                </a:solidFill>
                <a:latin typeface="Garamond"/>
              </a:rPr>
              <a:t>é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va Catherin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é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le 282, 6a classe, Saint-Pétersbourg, professeur de français-Krasnova L.M.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2010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201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7" descr="Картинка 4 из 96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1197000"/>
            <a:ext cx="6337440" cy="38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548928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515772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s grandes d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é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vertes scientifiques 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echniques ont permis à l’homme de partir dans l’espa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5" name="Picture 5" descr="Картинка 68 из 96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404640"/>
            <a:ext cx="7075440" cy="48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549720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592272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 octobre 1957 notre pays a envoy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é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utour de la Terre le premier satellite artificiel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,</a:t>
            </a:r>
            <a:r>
              <a:rPr b="0" lang="fr-FR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«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poutnik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»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5" descr="Картинка 2 из 993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549360"/>
            <a:ext cx="723888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41400" y="-5497200"/>
            <a:ext cx="828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716000" y="981000"/>
            <a:ext cx="397044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 12 avril 1961 Youri Gagarine devient le premier homme à partir dans l’espace. Pendant 108 minutes il effectue le tour de la Terre et revient se poser sur notre plan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è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Picture 5" descr="Картинка 5 из 2334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89000"/>
            <a:ext cx="3168720" cy="2943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Картинка 4 из 2334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4360" y="3500280"/>
            <a:ext cx="324000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6868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Voilà quelques mots sur Youri Gagarine</a:t>
            </a: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: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43280" y="1600200"/>
            <a:ext cx="404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l est n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é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n 1934 dans un petit village Klouchino aux environs de Smolensk. Son p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è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é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ait charpentier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sa m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è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é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ait trayeuse. Il a fait ses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é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udes dans un club d’aviation de Saratov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uis dans une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é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le de pilotage d’ Orenbourg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Picture 5" descr="Картинка 2 из 35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1628640"/>
            <a:ext cx="30528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69840" y="-548928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0" y="620280"/>
            <a:ext cx="41148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Quand il a fait son vol historique il avait seulement  27 ans. C’était une grande  percée dans l’histoire de l’humanit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é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our son exploit Youri Gagarine a recu l’ordre de Lénin et le titre du H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é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os de l’Union Sovi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é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ique. Il est mort en 1968 à cause de l’accident de l’avion qu’il pilotai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5" descr="Картинка 6 из 2334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115920"/>
            <a:ext cx="2221200" cy="2881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Картинка 4 из 119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835280" y="3213000"/>
            <a:ext cx="23414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549720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5516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e 16 juillet 1969  3 hommes  Edwin Aldrin, Neil Armstrong et Michael Collins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ont atteri sur la Lun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5" descr="Картинка 13 из 88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765000"/>
            <a:ext cx="2641680" cy="3521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Картинка 14 из 137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166920" y="1523880"/>
            <a:ext cx="2810160" cy="38102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Картинка 1 из 9198"/>
          <p:cNvPicPr/>
          <p:nvPr/>
        </p:nvPicPr>
        <p:blipFill>
          <a:blip r:embed="rId5"/>
          <a:stretch/>
        </p:blipFill>
        <p:spPr>
          <a:xfrm>
            <a:off x="5940360" y="333360"/>
            <a:ext cx="286380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-522072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000" y="5300280"/>
            <a:ext cx="835164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e 20 f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é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vrier 1986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notre pays a lanc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é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la station Mir. Le monde entier suivait le vol cosmique de Mir. L’homme travaillait ,d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é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ormais, dans l’espace. Il r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é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lisait  des expériences dans tous les domaines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0" lang="fr-FR" sz="2000" spc="-1" strike="noStrike">
                <a:solidFill>
                  <a:srgbClr val="ffffff"/>
                </a:solidFill>
                <a:latin typeface="Garamond"/>
              </a:rPr>
              <a:t> la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hotographie et  l’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é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ude de la Terre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l’astronomie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fr-FR" sz="2000" spc="-1" strike="noStrike">
                <a:solidFill>
                  <a:srgbClr val="ffffff"/>
                </a:solidFill>
                <a:latin typeface="Garamond"/>
              </a:rPr>
              <a:t> la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abrication des mat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é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iaux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la r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é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stance du corps humain dans l’espace…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Picture 7" descr="Картинка 9 из 54920"/>
          <p:cNvPicPr/>
          <p:nvPr/>
        </p:nvPicPr>
        <p:blipFill>
          <a:blip r:embed="rId1"/>
          <a:stretch/>
        </p:blipFill>
        <p:spPr>
          <a:xfrm>
            <a:off x="1258920" y="274680"/>
            <a:ext cx="6265800" cy="47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e5e5ff"/>
                </a:solidFill>
                <a:latin typeface="Garamond"/>
              </a:rPr>
              <a:t>La bibiographi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http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: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//www.newscientist.com-blog/space/uploaded_images/buzz-765437.jp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http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: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//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ww.loegiesen.nl/toponiemen/Amstrong.jp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ttp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//blogs.suntmes.com/shinyobjects/assets_c/2009/07/SPACE-MOON-ANNIVERSARY-COLL-thumb-520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х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624-9890.jp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1T15:48:04Z</dcterms:created>
  <dc:creator>XTreme</dc:creator>
  <dc:description/>
  <dc:language>en-US</dc:language>
  <cp:lastModifiedBy>User</cp:lastModifiedBy>
  <dcterms:modified xsi:type="dcterms:W3CDTF">2012-02-27T18:32:02Z</dcterms:modified>
  <cp:revision>18</cp:revision>
  <dc:subject/>
  <dc:title>L’espace</dc:title>
</cp:coreProperties>
</file>