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495-E3BB-426F-89DA-167A8ACE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8ED-EEB6-4B71-945D-10234ED3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34D-D3D2-4ABD-9602-B19315AB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8C1-0D02-4422-B0FF-1F63AEA8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6DD-7C6E-4F5E-A320-C9DCF781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DBD-BF71-4B56-BD84-05EBD45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419-8C01-471A-89E3-2A6946B4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E2BE-DECF-4A89-8997-ED845DAD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C2C-B0EE-47E5-9AED-BC49F53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724A-46A2-472A-BB79-3516944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7A10-F8D7-4CF6-9159-BD93EF5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589-1B07-471A-BCE8-06C9B9B0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67A-0EDC-44F5-AA74-A6B5389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DA5-9867-4417-8F3F-5EDC33B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56B-ECF2-4CA3-83E8-26C6A6E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DCB6-1A5B-455D-93A9-AA331585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DFF-47D0-4E82-B511-111ADF91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695C-A818-4DCB-9982-BFDCD928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32B9-EB27-47AC-93DF-7F09A3B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DF0E-F772-4983-91A0-A647016D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11CA-88AB-4F24-BA7B-B9DA07F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4638-FAF9-4037-97BA-74587965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83D-777B-4B9A-80F9-6DE2199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9B9D-41AD-4CBD-B7CC-98F3B11C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8970-FF40-4906-9B52-C9266BA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5D3C-6C91-4017-904F-896349D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E271-6172-44AA-9228-F983A6C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258C-DD7E-4833-A8B0-C0290452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AB60-2894-482C-AC4B-E08B4933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B0F2-C4FB-4147-8B2C-5E4FBDC3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ED80-B040-4799-B489-7A2E2AA8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F411-BB7C-49C5-AA83-528A2BB9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C103-DF35-49EC-9292-E9104BA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5B2-27AA-4D10-A994-81B9EF17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57E2-63CD-4876-8730-E5AAF15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9413-4441-4013-83D0-6688F37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8671-6DF7-4909-8774-63C9AB1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3F4A-7CC2-4B39-8D5C-4794FF1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972E-2E40-46B1-949B-AF0A438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D079-4B2E-4FD9-9B58-4FB7FDA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BDCA-8E16-42E9-B634-B79EB19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162B-923B-4B83-9674-F26E423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69B8-8A93-4DD5-AC3D-5E56E1B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DBB19-B54E-47AF-8DFF-6164C8A5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8AD-E97E-4F33-9BEF-AC6A0B0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2BF2-7D1D-4257-BC75-EF79783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15F0-55ED-40B2-967D-9C0D3CE8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51A2-45D6-44DA-9264-D9FA317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190C-0B3E-4762-B539-61EFA3DA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E17E-A249-4DB6-93A2-A11C8712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AAB8-A570-4D2B-A164-5D377D46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C8C7-7964-4731-A063-12F596D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2C8C9-CF05-4B2A-922E-1CD61AF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6AE3-EFD3-4EED-A143-FA47C788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983B-E250-4916-AA5E-EAC49EF2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956-254C-42CF-A36E-EC716222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8FF9-406C-4064-9FAE-924C4E40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35E6-2800-4188-AE53-1C708491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662A-4432-4F05-8D44-13843E8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DC80-C487-4BC2-BB82-95C0262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DDC2-FE5F-4283-B5F5-7A1CFE7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351E-4D42-4300-8B07-F0E500E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254E-D0AA-47AF-97C7-9BF6F08A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ED06-D925-42B7-B5EB-78E098A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AE4EF-C532-41F0-B45E-27C7C71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41645-3D7D-40C1-A13A-4DC6E8F3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A8D-3152-434D-BEC0-3D939E4F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8587-FF9E-4720-9B24-14165C0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6B2A-F7BE-40A2-A538-9ADB9407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CE77-5F5E-4741-B9CA-23408C11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A3925-D901-4B72-A0B4-9F064C09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49983-CD57-4424-89C1-F44AD6BA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154E-F2F2-41C4-8C84-3322AA6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24CDF-6C16-45C1-A694-3BC06B5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4DCED-03C7-4E34-8770-5B0033B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0703-C437-4077-97CE-9E1E5D1E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C319-C21E-4046-AD31-A499FA6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332-8624-466B-9C18-AD3FEB53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69C8-E888-4026-B4B3-018DC0F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6D54-917E-4542-A9C2-7ECB517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43A93-A2A4-46C4-BBF3-D7BB043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25B0-3ABB-4102-9492-02C3A16D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D278-F957-40D0-8145-4DB1844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F1E-918B-4372-9DD8-C1A0519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D24-280F-4425-9203-14457F5DF1F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0CD-661C-4721-9297-B1FBA6E9942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A76-B34F-4D24-B76F-B73B3A373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4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621-BC68-48BF-8680-9D8E77D4BCA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2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2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3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3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4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5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9930-4E96-4E06-86E2-83B0277CE3B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C996-9710-425E-A3A5-3028D2C411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5AB-D7E3-4D53-A505-8779A50EB8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etilab.ru/" TargetMode="External"/><Relationship Id="rId2" Type="http://schemas.openxmlformats.org/officeDocument/2006/relationships/hyperlink" Target="http://www.openlesson.ru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 «Детский сад №5 «Сказк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Ртищево Саратовской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3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учение сочетается с двигательной активностью и сменой мизансце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4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темпа и рит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5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нтеграция всех видов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6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риентация на принцип полифонии: «За 133 зайцами погонишься, глядишь и наловишь с десяток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зультаты исследования социо-игровой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слушать и слышать друг друга, выражать свое мнение, договариваться, приходить к соглас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 детей развивается речевое взаимодейств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рмируется позитивное отношение к окружающему миру, другим людям, самому себе, сверстника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отстаивать свою позицию, разумно и доброжелательно возражать взросл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сутствует чувство страха за ошиб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Букатов В. М. «Шишел-мышел, взял да вышел» С-Пб, 2008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setilab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.openlesson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ограмма «Детский сад 2100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ФГТ к структуре основной образовательной программы дошкольного образ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3880" cy="35146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4818240" cy="2733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3924360" y="335772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hvar"/>
          <p:cNvPicPr/>
          <p:nvPr/>
        </p:nvPicPr>
        <p:blipFill>
          <a:blip r:embed="rId1"/>
          <a:stretch/>
        </p:blipFill>
        <p:spPr>
          <a:xfrm>
            <a:off x="108000" y="181080"/>
            <a:ext cx="88567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68360" y="357120"/>
            <a:ext cx="83516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7138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стер – класс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Реализация образовательной области «Художественное творчество» в старшем дошкольном возрасте, с использованием социо-игровой технолог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00000" y="4508640"/>
            <a:ext cx="78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амленко Е. 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спитатель втор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лификационной категор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ДОУ «Детский сад №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Сказк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20894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53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681800" cy="3511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23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4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3"/>
          <p:cNvGrpSpPr/>
          <p:nvPr/>
        </p:nvGrpSpPr>
        <p:grpSpPr>
          <a:xfrm>
            <a:off x="304920" y="1676520"/>
            <a:ext cx="9144000" cy="5580000"/>
            <a:chOff x="304920" y="1676520"/>
            <a:chExt cx="9144000" cy="5580000"/>
          </a:xfrm>
        </p:grpSpPr>
        <p:sp>
          <p:nvSpPr>
            <p:cNvPr id="492" name="Rectangle 5"/>
            <p:cNvSpPr/>
            <p:nvPr/>
          </p:nvSpPr>
          <p:spPr>
            <a:xfrm>
              <a:off x="304920" y="1676520"/>
              <a:ext cx="9144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74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осоч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304920" y="320040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6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апель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04920" y="4299120"/>
              <a:ext cx="91440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5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завит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Rectangle 11"/>
            <p:cNvSpPr/>
            <p:nvPr/>
          </p:nvSpPr>
          <p:spPr>
            <a:xfrm>
              <a:off x="304920" y="5381640"/>
              <a:ext cx="914400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97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усти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496" name="Picture 6" descr="7-4-1"/>
          <p:cNvPicPr/>
          <p:nvPr/>
        </p:nvPicPr>
        <p:blipFill>
          <a:blip r:embed="rId1"/>
          <a:stretch/>
        </p:blipFill>
        <p:spPr>
          <a:xfrm>
            <a:off x="201600" y="1523880"/>
            <a:ext cx="7201080" cy="1189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7-4-2"/>
          <p:cNvPicPr/>
          <p:nvPr/>
        </p:nvPicPr>
        <p:blipFill>
          <a:blip r:embed="rId2"/>
          <a:stretch/>
        </p:blipFill>
        <p:spPr>
          <a:xfrm>
            <a:off x="201600" y="3048120"/>
            <a:ext cx="7201080" cy="742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" descr="7-4-3"/>
          <p:cNvPicPr/>
          <p:nvPr/>
        </p:nvPicPr>
        <p:blipFill>
          <a:blip r:embed="rId3"/>
          <a:stretch/>
        </p:blipFill>
        <p:spPr>
          <a:xfrm>
            <a:off x="201600" y="4146480"/>
            <a:ext cx="7178760" cy="720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7-4-4"/>
          <p:cNvPicPr/>
          <p:nvPr/>
        </p:nvPicPr>
        <p:blipFill>
          <a:blip r:embed="rId4"/>
          <a:stretch/>
        </p:blipFill>
        <p:spPr>
          <a:xfrm>
            <a:off x="179280" y="5157720"/>
            <a:ext cx="6923160" cy="15429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Узор «трав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2"/>
          <p:cNvGrpSpPr/>
          <p:nvPr/>
        </p:nvGrpSpPr>
        <p:grpSpPr>
          <a:xfrm>
            <a:off x="731880" y="423720"/>
            <a:ext cx="7680600" cy="5977080"/>
            <a:chOff x="731880" y="423720"/>
            <a:chExt cx="7680600" cy="5977080"/>
          </a:xfrm>
        </p:grpSpPr>
        <p:sp>
          <p:nvSpPr>
            <p:cNvPr id="502" name="Rectangle 2"/>
            <p:cNvSpPr/>
            <p:nvPr/>
          </p:nvSpPr>
          <p:spPr>
            <a:xfrm>
              <a:off x="731880" y="423720"/>
              <a:ext cx="221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УЗОР "ЯГОД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3" name="Group 11"/>
            <p:cNvGrpSpPr/>
            <p:nvPr/>
          </p:nvGrpSpPr>
          <p:grpSpPr>
            <a:xfrm>
              <a:off x="731880" y="1185840"/>
              <a:ext cx="7680600" cy="5214960"/>
              <a:chOff x="731880" y="1185840"/>
              <a:chExt cx="7680600" cy="5214960"/>
            </a:xfrm>
          </p:grpSpPr>
          <p:sp>
            <p:nvSpPr>
              <p:cNvPr id="504" name="Rectangle 3"/>
              <p:cNvSpPr/>
              <p:nvPr/>
            </p:nvSpPr>
            <p:spPr>
              <a:xfrm>
                <a:off x="731880" y="1185840"/>
                <a:ext cx="768024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Rectangle 5"/>
              <p:cNvSpPr/>
              <p:nvPr/>
            </p:nvSpPr>
            <p:spPr>
              <a:xfrm>
                <a:off x="8412120" y="1185840"/>
                <a:ext cx="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731880" y="292392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Rectangle 8"/>
              <p:cNvSpPr/>
              <p:nvPr/>
            </p:nvSpPr>
            <p:spPr>
              <a:xfrm>
                <a:off x="8412120" y="2923920"/>
                <a:ext cx="3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Rectangle 9"/>
              <p:cNvSpPr/>
              <p:nvPr/>
            </p:nvSpPr>
            <p:spPr>
              <a:xfrm>
                <a:off x="731880" y="466236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509" name="Picture 4" descr="7-6-1"/>
          <p:cNvPicPr/>
          <p:nvPr/>
        </p:nvPicPr>
        <p:blipFill>
          <a:blip r:embed="rId1"/>
          <a:stretch/>
        </p:blipFill>
        <p:spPr>
          <a:xfrm>
            <a:off x="1143000" y="9144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7-6-2"/>
          <p:cNvPicPr/>
          <p:nvPr/>
        </p:nvPicPr>
        <p:blipFill>
          <a:blip r:embed="rId2"/>
          <a:stretch/>
        </p:blipFill>
        <p:spPr>
          <a:xfrm>
            <a:off x="1143000" y="28195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7-6-3"/>
          <p:cNvPicPr/>
          <p:nvPr/>
        </p:nvPicPr>
        <p:blipFill>
          <a:blip r:embed="rId3"/>
          <a:stretch/>
        </p:blipFill>
        <p:spPr>
          <a:xfrm>
            <a:off x="12193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2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732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8058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мастер – класс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бучение использованию социо-игровой технологии для реализации образовательной области «Художественное творчество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47640" y="6285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Comic Sans MS"/>
              </a:rPr>
              <a:t>Успехов в работе!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мастер-клас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озможностях применения социо-игровой технологии при организации образовательного процесса в соответствии с ФГ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учить приемам социо-игровой технолог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звать у участников мастер-класса интерес к социо-игровой технологии и желание развивать свой творческий потенци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вивать творческую активность педагогического коллект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Творчество – это не удел только гениев, создавших великие художественные произведения. Творчество существует везде, где человек воображает, комбинирует, создает что-либо ново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. С. Выгот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сновные задачи образовательной области «Художественное творчество»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продуктивной деятельности детей (рисование, лепка, аппликация, художественный труд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детского творчест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общение к изобразительному искусст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гляд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ние ТС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грово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ловес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1 правило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ботами малыми группами или, как их еще называют, «группы ровесников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2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лидер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7:54:48Z</dcterms:created>
  <dc:creator>ATTO</dc:creator>
  <dc:description/>
  <dc:language>en-US</dc:language>
  <cp:lastModifiedBy>ATTO</cp:lastModifiedBy>
  <dcterms:modified xsi:type="dcterms:W3CDTF">2012-01-26T07:50:02Z</dcterms:modified>
  <cp:revision>5</cp:revision>
  <dc:subject/>
  <dc:title>Мастер – класс  «Реализация образовательной области «Художественное творчество» в старшем дошкольном возрасте, с использованием социо-игровой технологии»</dc:title>
</cp:coreProperties>
</file>