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1B6-6E2A-4F98-8FFF-D0AE4D80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218-10E6-4BDD-85B1-A38EBA25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CBD-4483-484D-8BAD-A51B79C1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A18-40FA-4A16-AEC3-5AA28531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1B3-D135-4DB5-837F-EFB13F82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A1D-5A4C-498E-98A2-91AB03AA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43E-3C30-4E08-89BC-C49D19F2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DA7-5672-4D01-AEAF-D6C55589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25A-1404-4FB8-8E10-70D3B91E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CEB-C493-469C-8099-D3C18D2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0CD-D139-4AB0-A196-A26C5873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A92-B366-459D-8ADD-CAC9DE3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D77E-5559-45DE-B9C5-E5258E2C8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5041800" cy="34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24000" y="333360"/>
            <a:ext cx="5473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я  семья  вместе,</a:t>
            </a:r>
            <a:endParaRPr b="1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душа  на  месте.</a:t>
            </a:r>
            <a:endParaRPr b="1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95040" y="5084640"/>
            <a:ext cx="383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Семенчук Н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МКОУ Бетлицкая СОШ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Калуж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7120" y="23684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5584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707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Ситу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852720" cy="475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9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568000" cy="607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0" y="498600"/>
          <a:ext cx="182520" cy="4946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800" y="5444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560" y="549360"/>
            <a:ext cx="28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Ситу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12720" cy="117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308720" y="4221000"/>
            <a:ext cx="1614600" cy="2433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одители наказывают детей чаще, чем поощря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Взрослые часто не понимают, что лишь очень редко дети совершают проступки осознанно и злона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 наказанию нередко приводит недостаточно  критичное отношение взрослых к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Ни в коем случае нельзя допускать физические наказания, это крайне униз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казание всегда должно быть справедливым, дети болезненно реагируют на несправедл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Наказание должно быть соразмерно в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75"/>
                            </p:stCondLst>
                            <p:childTnLst>
                              <p:par>
                                <p:cTn id="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100"/>
                            </p:stCondLst>
                            <p:childTnLst>
                              <p:par>
                                <p:cTn id="4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300"/>
                            </p:stCondLst>
                            <p:childTnLst>
                              <p:par>
                                <p:cTn id="4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975"/>
                            </p:stCondLst>
                            <p:childTnLst>
                              <p:par>
                                <p:cTn id="4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78520" y="399960"/>
            <a:ext cx="26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Терп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0920" y="149868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Объясн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7640" y="1425600"/>
            <a:ext cx="34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Отвлеч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6160" y="5180040"/>
            <a:ext cx="47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Нетороплив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7800" y="51800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Награ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47640" y="3141720"/>
            <a:ext cx="64090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Чем можно заменить наказание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716360" y="1052640"/>
            <a:ext cx="0" cy="19447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050560" y="2133360"/>
            <a:ext cx="1081080" cy="8636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300720" y="2133360"/>
            <a:ext cx="792360" cy="8636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00000" y="4292640"/>
            <a:ext cx="934920" cy="100800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4365720"/>
            <a:ext cx="1008000" cy="8636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800"/>
                            </p:stCondLst>
                            <p:childTnLst>
                              <p:par>
                                <p:cTn id="4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80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8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8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800"/>
                            </p:stCondLst>
                            <p:childTnLst>
                              <p:par>
                                <p:cTn id="4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1800"/>
                            </p:stCondLst>
                            <p:childTnLst>
                              <p:par>
                                <p:cTn id="4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4200"/>
                            </p:stCondLst>
                            <p:childTnLst>
                              <p:par>
                                <p:cTn id="4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6200"/>
                            </p:stCondLst>
                            <p:childTnLst>
                              <p:par>
                                <p:cTn id="4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148428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Кто умнее всех на св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Наши дети, наши 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Кто милей нам всех на св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Наши дети, наши 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22920" y="4086360"/>
            <a:ext cx="432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Кто нам сердце любовью леч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Наши дети, наши 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-Кто так ждет с нами                вст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-Наши дети, наши 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948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111840" cy="403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3238560"/>
            <a:ext cx="4537080" cy="3314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-396720" y="333360"/>
            <a:ext cx="55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"Страничка</a:t>
            </a:r>
            <a:endParaRPr b="0" i="1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             </a:t>
            </a:r>
            <a:r>
              <a:rPr b="0" i="1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радости"</a:t>
            </a:r>
            <a:endParaRPr b="0" i="1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2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2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20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2208240"/>
            <a:ext cx="6588000" cy="4649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84360" y="692280"/>
            <a:ext cx="7632720" cy="43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58008d"/>
                  </a:outerShdw>
                </a:effectLst>
                <a:latin typeface="Arial"/>
              </a:rPr>
              <a:t>Счастья  вашей  семь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58008d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3274920" cy="277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339280" y="42696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0120" y="1413000"/>
            <a:ext cx="86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yjulia.ru/data/cache/2010/07/29/475923_6217nothumb500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27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7120" y="306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 к родительским собрани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 И. Саляхова. – М.:Глобус, 2010. – 315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260280"/>
            <a:ext cx="448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00"/>
                  </a:outerShdw>
                </a:effectLst>
                <a:latin typeface="Impact"/>
              </a:rPr>
              <a:t>Семейное воспит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898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00"/>
                  </a:outerShdw>
                </a:effectLst>
                <a:latin typeface="Impact"/>
              </a:rPr>
              <a:t>- это актуально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3851280" y="1579680"/>
            <a:ext cx="5000760" cy="333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2133720"/>
            <a:ext cx="3600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"/>
              </a:rPr>
              <a:t>Посиди со мной ря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"/>
              </a:rPr>
              <a:t>Полчаса иль минут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"/>
              </a:rPr>
              <a:t>Я тебя целый д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"/>
              </a:rPr>
              <a:t>С нетерпением ж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0066"/>
                </a:solidFill>
                <a:latin typeface="Arial"/>
              </a:rPr>
              <a:t>Подари мне свой взгля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"/>
              </a:rPr>
              <a:t>Слово, добрую шут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0920" y="5661000"/>
            <a:ext cx="36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0066"/>
                </a:solidFill>
                <a:latin typeface="Arial"/>
              </a:rPr>
              <a:t>Ах, прости, виноват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"/>
              </a:rPr>
              <a:t>Я опять опоз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15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2776320" cy="240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1341360"/>
            <a:ext cx="22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4149720"/>
            <a:ext cx="32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2200" y="63972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каз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997360"/>
            <a:ext cx="268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доб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20640"/>
            <a:ext cx="282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бе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285264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оз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оспитыв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566100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имер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1268280"/>
            <a:ext cx="1368720" cy="79236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2492280"/>
            <a:ext cx="1297080" cy="43200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96000" y="1700280"/>
            <a:ext cx="1008000" cy="43344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76360" y="2781360"/>
            <a:ext cx="1441440" cy="28728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356000" y="4797000"/>
            <a:ext cx="0" cy="1009800"/>
          </a:xfrm>
          <a:prstGeom prst="line">
            <a:avLst/>
          </a:prstGeom>
          <a:ln w="381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4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9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1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9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059280" y="333360"/>
            <a:ext cx="5864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Ты бойся слов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рупкий мир разрушить.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332160" cy="501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90720" y="1812960"/>
            <a:ext cx="557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Друзья мо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Внушайте людям вер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И чаще гово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«Добрый ден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И следуйте хорошему приме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Продляйте добрым сло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Жизнь люд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(В. Бо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200240" cy="1578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32000" y="198900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Сло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04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99"/>
                </a:solidFill>
                <a:uFillTx/>
                <a:latin typeface="Arial"/>
              </a:rPr>
              <a:t>Осуждающ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26828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99"/>
                </a:solidFill>
                <a:latin typeface="Arial"/>
              </a:rPr>
              <a:t>Суро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92920" y="1289160"/>
            <a:ext cx="29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99"/>
                </a:solidFill>
                <a:latin typeface="Arial"/>
              </a:rPr>
              <a:t>Холод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356000" y="1052640"/>
            <a:ext cx="0" cy="10080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547640" y="836640"/>
            <a:ext cx="1152720" cy="57636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765000"/>
            <a:ext cx="1152360" cy="6480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781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Поощр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93372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Ласков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157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Подбадриваю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2560" y="280044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Ирон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11840" y="4005360"/>
            <a:ext cx="31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Насмешли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84920" y="5248440"/>
            <a:ext cx="34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Сарка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843280" y="4221000"/>
            <a:ext cx="93672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763640" y="3357360"/>
            <a:ext cx="194472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907640" y="4581360"/>
            <a:ext cx="1800360" cy="6480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4221000"/>
            <a:ext cx="647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19640" y="3357360"/>
            <a:ext cx="1728720" cy="5029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4653000"/>
            <a:ext cx="1727280" cy="647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94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44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76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26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62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119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68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18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54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4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64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14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62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12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10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38360" y="2259000"/>
            <a:ext cx="1760760" cy="181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48000" y="148428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На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4005360"/>
            <a:ext cx="24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557360"/>
            <a:ext cx="23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У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84560" y="42372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Моно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а не 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1484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Окр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раздраженный 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789360"/>
            <a:ext cx="20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Вымо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обещ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3573360"/>
            <a:ext cx="22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Назидания в присутств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товари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5516640"/>
            <a:ext cx="369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Безапелляцио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(делай так -  и точк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211640" y="1196640"/>
            <a:ext cx="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692000" y="2349360"/>
            <a:ext cx="158436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92000" y="3357720"/>
            <a:ext cx="1584360" cy="35856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92720" y="2276640"/>
            <a:ext cx="1727280" cy="5760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3284640"/>
            <a:ext cx="1800360" cy="288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4724280"/>
            <a:ext cx="0" cy="8654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43280" y="189000"/>
            <a:ext cx="44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83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Запрещ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836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Жел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844640"/>
            <a:ext cx="3836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Я тысячу раз тебе говори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Сколько раз надо повторя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Неужели тебе трудно запомнить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Ты стал таким( грубым, ленивым. неаккуратным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се люди как люди, а т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Что ты ко мне пристаеш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30760" y="1916280"/>
            <a:ext cx="4413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Ты у меня самый умн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Ты у меня самый красив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С тобой мне так хорош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Я тебе так доверя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У меня нет никого ближе теб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Посоветуй м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Я бы никогда не сумела сделать это без теб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692360" y="549360"/>
            <a:ext cx="10792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620640"/>
            <a:ext cx="10796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549360"/>
            <a:ext cx="0" cy="35856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620640"/>
            <a:ext cx="0" cy="287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8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6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96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56000" y="260280"/>
            <a:ext cx="4608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Arial"/>
              </a:rPr>
              <a:t>"Тебя как в зеркал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Arial"/>
              </a:rPr>
              <a:t>я вижу...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44944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2748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0" y="3284640"/>
            <a:ext cx="4286160" cy="333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60" y="4076640"/>
            <a:ext cx="462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Ребенок учится т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Что видит у себя в д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Родители пример 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189000"/>
            <a:ext cx="33116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"Мечь наказанья 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не спеши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на голову дитяти 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ты обрушить!"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92720" y="4230720"/>
            <a:ext cx="3573360" cy="2401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2421000"/>
            <a:ext cx="4392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Меня сегодня наказ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За то, что я кота прине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65300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Меня корили и руг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А кот в подъезде тихо мерз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2017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9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900"/>
                            </p:stCondLst>
                            <p:childTnLst>
                              <p:par>
                                <p:cTn id="3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8:07:56Z</dcterms:created>
  <dc:creator>COMP</dc:creator>
  <dc:description/>
  <dc:language>en-US</dc:language>
  <cp:lastModifiedBy>Comp</cp:lastModifiedBy>
  <dcterms:modified xsi:type="dcterms:W3CDTF">2012-02-26T20:43:39Z</dcterms:modified>
  <cp:revision>14</cp:revision>
  <dc:subject/>
  <dc:title>Слайд 1</dc:title>
</cp:coreProperties>
</file>