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FF9-7C6D-4E65-BD24-AA79AF5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B2B-07EB-4F76-B872-79BC4A0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EAE-DC2E-4837-B7BE-E35C4524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43F-60C4-4542-86DE-A51A7979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B634-5883-4B24-BF86-1D550AF9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7BA1-6604-444C-A8E2-7F5DB274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08D5-3ABB-44C4-B5CE-6AF498C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B24C-9DD3-403C-9A41-B2B6D80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97A7-C4C4-4AAD-8386-209C131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3EB-567D-4B50-B39A-DD6FC186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F2C-3E23-48CF-8BB3-913B8041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767-31BD-49F4-933F-6E0EB9D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FBA-5136-4BB5-8DC5-77AFBA5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2D81-0D1C-49F0-8245-71BDF3F7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3D5-E974-404D-9FA3-C10776EE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101-2EA6-48A7-97BD-5AA9BEF2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FDB4-B561-4B85-946E-9FD200B4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C7C8-31ED-45EB-BFB5-01812E2E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05FA-F15B-43F1-8F6A-A61DF33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1B93-E12A-4CB6-B520-66B646D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B4DA-7F4C-447E-B7DC-600862D4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C1E8-1E7F-484D-98CB-2DE63C5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472-56AB-4650-AD76-AACEC90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028A-E478-4BCB-BAA3-C0A17F6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78AD-13D1-4DAB-A58E-A80131C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4871-8724-4F25-A634-775AA25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98BF-123A-44BD-8A6D-D94DA3C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F90A-DDE8-4953-8A3D-940ADDF7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D93E-206F-43A8-B2F5-C75E0634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0807-EA7C-483F-BDA9-B573195E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E5CB-3940-40DA-8F56-CB2125CB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C1C9-7D8E-4BE8-AB99-86AF521C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7F4E-B2DE-4379-9F61-04E79B5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E2D-A0C4-4E94-8DDA-41BB5D83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8120-6B51-4D85-A6E2-4F9E583F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A41D-CEF1-468D-BDBB-515EA10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12AA-081B-4A58-9D9E-1BF0587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61F6-544C-4926-9231-332A1FD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5C45-F06A-498B-88E3-8E21EE7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BBCF-5D6A-4E1F-A2C3-9C73D2B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2A6A-0980-46B6-9412-4F2D22D9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EA53-E950-4A28-972C-6E57C541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BDF0-C414-46DC-ADC3-6B448F1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FA91-6AE4-4465-B014-C9F65A0F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53D-7EEA-4492-8981-BAEF8267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39D0-209B-42F8-8068-6E2E52FC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1944-6DD4-4D19-B5B1-99C22FD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905E-73E7-47C1-815E-50A391DE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4DED-DCE9-492C-9C86-BCB6685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7CDC-C13F-4DC2-AED7-B3EA5F6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8F53-5E64-43FC-A06B-55BBB1E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6509-FD9E-40C5-8894-87774A0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26E3-0E93-4F64-BE94-3E8118A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00E5-9984-4F53-8493-F8F7F7D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9A11-DF31-49EB-A577-711A630C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159-8E1A-4C12-AF84-D1D8B7F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EC0E-CFC8-4248-8FCA-4B82ABC0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156-6F21-4B12-938A-B8C15CC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0FA-14F5-4034-A0BE-E2007F9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97B-6EB3-4F82-B809-E7A44E4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EB8-EA5A-4E52-A5EA-0E9FE01CDAE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268-A5A5-4606-B8A0-D75476E2F90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88F-14F0-428B-8A21-67D0642C03A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280-B3EC-4397-ACCA-56A62EADD9A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0DF-E35B-41B0-9BEF-2BABAD7EC46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ети умнее на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Л.Н.Толсто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ротив всего можно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стоять , но не против доброт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усс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Персиковую косточку бросают в землю. Она стоит перед выбором: быть альтруистом и не отбирать соки, соли или быть эгоистом. Буду эгоистом. Вырос персиковый росток  и у него следующий выбор : расти или не расти. Он делает свой  выбор. Наконец, вырастает огромное дерево с  тысячами плодов. Люди питаются ими, косточки падают на землю, поднимается персиковая роща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едагогика ненасилия утверждает, что дети старше взрослых эволюционно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3342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вь и дружб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творчество смыс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еллектуальное общ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моциональное общ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веденческое  общение (имитационное зараж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сокосодержательный  диалог на фоне взаимопоним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нить, что нахождение истины требует взаимопомощ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ближает ребёнка с собственными возможностям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ить в творческую самостоятельность дет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важать спонтанность мотивированного интереса поиска смыс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каз от нормативного подхода к оценк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иск истины в самом себ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армония атмосферы на урок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икакой соревнователь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рытое переключение вним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аузы, задержки (нет смысла в жёстком ритме урок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рушение (педагогом) психологического времени уро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ость группового творче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тупительное слово об изучаемой тем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исание смыслового пространства темы как це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ъяснение для «марсианина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инестетическое модел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Целевое вопрош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едение итог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ъявление темы следующего уро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аться смирять гордыню, присущую учител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рок ни в коем случае нельзя превращать в моноло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суждение должно быть свободным, спонтанным, живым, креативны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ажна любая точка зр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авдывать доверие детей: «врачебная тайна исповеди» на урок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-847800" y="884160"/>
            <a:ext cx="4780080" cy="9320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4" descr=""/>
          <p:cNvPicPr/>
          <p:nvPr/>
        </p:nvPicPr>
        <p:blipFill>
          <a:blip r:embed="rId2"/>
          <a:stretch/>
        </p:blipFill>
        <p:spPr>
          <a:xfrm>
            <a:off x="853920" y="841320"/>
            <a:ext cx="680256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9:40:41Z</dcterms:created>
  <dc:creator>Ученик</dc:creator>
  <dc:description/>
  <dc:language>en-US</dc:language>
  <cp:lastModifiedBy>Ученик</cp:lastModifiedBy>
  <dcterms:modified xsi:type="dcterms:W3CDTF">2011-02-16T10:46:02Z</dcterms:modified>
  <cp:revision>8</cp:revision>
  <dc:subject/>
  <dc:title>Нерпрессивная педагогика</dc:title>
</cp:coreProperties>
</file>