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5944-03E8-4AE0-906D-BD369B7D4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C30B-D72D-4781-90D0-576C4CC91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3AEC-69CC-4B68-9D1F-4FE7570E4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464D-AE48-4A8E-8B23-F78D7161F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B2B1F2-920E-4A3B-BAA7-66B26C18C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26E1BB-A38B-4B45-ADAD-592FF9973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5121FB-05BF-4293-8384-59F52C3CF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040AA8-61EC-4F05-9EEB-6416EF74E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FAE624-F36F-4BCF-B3C4-317112279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202193-3AA4-46AF-9E7A-F23868C86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5D8524-F4FF-49BA-BC6B-927B963F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07E7-B8B3-4166-883C-71BC36D62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A8F6B4-F839-4639-ABB4-67A9B951A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B76CC1-A348-4DB8-9F92-DE5176FF9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1FE03A-9341-4B6B-8B15-5BEC0BFFE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BE24CB-9D6E-47ED-9E06-23F6F2444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26DE96-1EAC-457B-8426-DFC5EF4D4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1A4F8-FBE2-41D2-B639-50F477D2B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39A35-1DA7-4F17-9DA4-13B8585CC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60B2C-2122-42BD-AA8F-374B101FE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A19CC-DA30-4BE0-83BC-ACD21D699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57B98-4726-4A49-9425-8428BF5C6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5454-5B47-41CD-A896-6B9D0394B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D8B1F-65D0-4F27-9B5F-D2A8A2749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B906C-D16E-41EB-99F2-E5D52CBB2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C1CD9-B9A3-4460-A421-986DE421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2361D-509E-4D87-B5BC-F34FCA19C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EA852-F431-45AB-AAE9-AF36B0627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B491E-9AF1-47B9-B8B6-842F783AB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7CCC0-0E65-4668-94A8-DB3B3924E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C9757-B195-4598-B364-D88A2D1D6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F6DDA-D297-486F-BB46-4466BC194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3EA25-E361-4DD5-B1EA-3C6F74B49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7350-721A-4346-82EC-8DD29B9C0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9DCBA-0D18-485F-B794-EFEEF9369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B8647-B72F-42F8-8CF9-7E53FB396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B8466-2DB2-41B3-8909-520AB89DF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2AA12-C413-4CD3-9F55-29DA5FC3F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C5695-AE10-4FEE-8AF9-A2BBAF04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EE1EF-C0CE-4FD9-8C36-AA21377B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F28F0-9FFE-4F2D-AC48-82E3F0C67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D67B7-703C-44AD-842D-18895F557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682F0-2E7F-43FC-BCC0-A119BE2E2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0B69-B106-4CC2-8CAE-F9A2EB9C8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BFC8-484A-4A16-BEDA-DEDBD8371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F1DE-E668-4162-9887-C2B59C096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C606-EAEC-48FB-BFD6-4ADDA4B6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17B7-87B7-4626-ABF0-F2BACF4A3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82AD3-6CC3-4281-88F4-77A65197C9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D247F-3F72-43EC-8B15-6ED02F0479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83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85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90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5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96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9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00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04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08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8A167-B6F1-4441-8DDC-9208747F7FAF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167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168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82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86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90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94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98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8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EEFE4-0F40-4B87-A66E-03FDEBBB85DC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42800" y="-958320"/>
            <a:ext cx="824400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2124000" y="404640"/>
            <a:ext cx="5040360" cy="61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Поставьте слова на свое место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5122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У Антона толстый кот                 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В болоте сидит                          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Куклу мне подарила подруга                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Мой брат спит, ну и                           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Светит яркое лучистое                    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Я отдыхал в лагере «                        .»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6011640" y="1600200"/>
            <a:ext cx="2881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Бегемо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Солнышко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Соня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соня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солнышко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бегемо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Спасибо!</a:t>
            </a: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1692000" y="260280"/>
            <a:ext cx="41036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Жили – были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Дед да баб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С маленькою внучкой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Кошку рыжую свою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Называли Жучкой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А Хохлаткою они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Звали жеребенк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А еще была у них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Курица Буренк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А еще у них был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Собачонка Мурк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А еще – два козла –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Сивка да Бурка!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040" y="475920"/>
            <a:ext cx="76899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Тема: </a:t>
            </a:r>
            <a:r>
              <a:rPr b="1" i="1" lang="en-US" sz="4000" spc="-1" strike="noStrike">
                <a:solidFill>
                  <a:srgbClr val="006666"/>
                </a:solidFill>
                <a:latin typeface="Verdana"/>
              </a:rPr>
              <a:t>Правописание одного и того же слова в одном случае – с маленькой буквы, а в другом с большой.</a:t>
            </a:r>
            <a:endParaRPr b="1" lang="en-US" sz="40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Вставьте пропущенные слова и запишите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У  подружки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………..   на сарафане…............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У подружки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……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       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на платье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……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(Розочки, розочки, Маргаритки, маргаритки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Прочитай обрати внимание на выделенные слова. Объясни почему они написаны с большой и с маленькой буквы.</a:t>
            </a:r>
            <a:br>
              <a:rPr sz="2400"/>
            </a:b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Возвращаясь под вечер с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поля,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Потеряла сережку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Поля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Ту сережку нашел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Сережка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,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Прибежал постучал в окошко: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-Отыскалась твоя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сережка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«Прогулка в зимнем лесу»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ы пришли в зимний лес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колько здесь вокруг чудес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права березка в шубке стоит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лева елка на нас глядит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нежинки в небе кружатся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 землю ложатс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1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Verdana"/>
              </a:rPr>
              <a:t>Запишите предложения раскрывая скобки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Вот село  (В,в)ысокое.    Место здесь (В,в)ысокое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Вот моя подружка (Р,р)оза. А в руках подружки (Р,р)оз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Это речка (Т,т)ьма. В речке рыбы (Т,т)ьм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Это кот (П,п)ушок. Он и вправду как (П,п)ушок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Запиши слова в два столбика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(М,м)урка,  (Р,р)омашка, (С,с)обака, (З,з)аяц,  (Б,б)обик,  (П,п)етух, (К,к)ошка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Verdana"/>
              </a:rPr>
              <a:t>Выбор задания по степени сложности.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6840" y="836280"/>
            <a:ext cx="274644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1 группа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Определите 1-е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буквы в словах-парах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На небе   _вёздочка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Коза _вёздочка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Щенок _арик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Воздушный _арик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648320" y="765000"/>
            <a:ext cx="403848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2 группа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Определите пары слов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Корова__________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Алая___________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Ароматная__________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Девочка_____________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132000" y="4005000"/>
            <a:ext cx="4824720" cy="26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3 группа</a:t>
            </a:r>
            <a:r>
              <a:rPr b="1" lang="en-US" sz="16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Запишите две пары слов с одинаковым звучанием, но с разным написанием маленькой и большой буквы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?____?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?____?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5T10:43:50Z</dcterms:created>
  <dc:creator>Сергей</dc:creator>
  <dc:description/>
  <dc:language>en-US</dc:language>
  <cp:lastModifiedBy>Сергей</cp:lastModifiedBy>
  <dcterms:modified xsi:type="dcterms:W3CDTF">2008-01-15T17:05:05Z</dcterms:modified>
  <cp:revision>6</cp:revision>
  <dc:subject/>
  <dc:title>Тема: Правописание одного и того же слова в одном случае – с маленькой буквы, а в другом с большой</dc:title>
</cp:coreProperties>
</file>