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10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20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80AB-CEC4-46B2-B23B-80843C5A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9612-B7C9-4F30-A0CE-D059B89E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2D8F-1697-476A-8609-2D5BF176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C9D8-D0E7-4A04-8604-C851CC36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71E6-B13B-4865-B553-3F05D379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0C0-4B62-4868-A67D-2BA705AE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D97D-95AE-4262-A0E2-B93D0A7D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7B0-3483-46A7-9E31-554824DD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4A67-6B0F-4186-9B3A-7CCAAB23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F5DD-E184-4296-B91E-2E3BAD73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681-654D-4EE7-93EC-1727D667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F4D0-CE7E-49D1-A90A-8AEAF46E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67ED-2071-4D7C-83F7-B0DFB61B34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obgonznak1"/>
          <p:cNvPicPr/>
          <p:nvPr/>
        </p:nvPicPr>
        <p:blipFill>
          <a:blip r:embed="rId1"/>
          <a:stretch/>
        </p:blipFill>
        <p:spPr>
          <a:xfrm>
            <a:off x="152280" y="19051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512px-1"/>
          <p:cNvPicPr/>
          <p:nvPr/>
        </p:nvPicPr>
        <p:blipFill>
          <a:blip r:embed="rId2"/>
          <a:stretch/>
        </p:blipFill>
        <p:spPr>
          <a:xfrm>
            <a:off x="6629400" y="1828800"/>
            <a:ext cx="2224080" cy="19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4"/>
          <p:cNvPicPr/>
          <p:nvPr/>
        </p:nvPicPr>
        <p:blipFill>
          <a:blip r:embed="rId3"/>
          <a:stretch/>
        </p:blipFill>
        <p:spPr>
          <a:xfrm>
            <a:off x="1828800" y="4116240"/>
            <a:ext cx="1981080" cy="1979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imgitem66811134896286_input"/>
          <p:cNvPicPr/>
          <p:nvPr/>
        </p:nvPicPr>
        <p:blipFill>
          <a:blip r:embed="rId4"/>
          <a:stretch/>
        </p:blipFill>
        <p:spPr>
          <a:xfrm>
            <a:off x="5676840" y="4116240"/>
            <a:ext cx="1981440" cy="1979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5"/>
          <p:cNvPicPr/>
          <p:nvPr/>
        </p:nvPicPr>
        <p:blipFill>
          <a:blip r:embed="rId5"/>
          <a:stretch/>
        </p:blipFill>
        <p:spPr>
          <a:xfrm>
            <a:off x="3505320" y="1447920"/>
            <a:ext cx="1828800" cy="20905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4"/>
          <p:cNvSpPr/>
          <p:nvPr/>
        </p:nvSpPr>
        <p:spPr>
          <a:xfrm>
            <a:off x="914400" y="309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уализация  знаний  и  постановка  целей  уро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тог урока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акова была тема урока?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Что нового вы узнали?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ачем надо знать дорожные знаки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95120" y="7696080"/>
            <a:ext cx="4953240" cy="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8080" bIns="28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ма: Дорожные  знаки. Группы  дорожных  знаков.</a:t>
            </a:r>
            <a:br>
              <a:rPr sz="44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акие  задачи  поставите  перед  собой?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едупреждающие  знаки – это  знаки  треугольной  формы  с  красной  каймой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5" descr="Картинка 3 из 769"/>
          <p:cNvPicPr/>
          <p:nvPr/>
        </p:nvPicPr>
        <p:blipFill>
          <a:blip r:embed="rId1"/>
          <a:stretch/>
        </p:blipFill>
        <p:spPr>
          <a:xfrm>
            <a:off x="990720" y="2438280"/>
            <a:ext cx="2857320" cy="253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Картинка 1 из 1305"/>
          <p:cNvPicPr/>
          <p:nvPr/>
        </p:nvPicPr>
        <p:blipFill>
          <a:blip r:embed="rId2"/>
          <a:stretch/>
        </p:blipFill>
        <p:spPr>
          <a:xfrm>
            <a:off x="4952880" y="2049480"/>
            <a:ext cx="32767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апрещающие  знаки – знаки  круглой  формы  красного  цвета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Picture 5" descr="Картинка 3 из 2738"/>
          <p:cNvPicPr/>
          <p:nvPr/>
        </p:nvPicPr>
        <p:blipFill>
          <a:blip r:embed="rId1"/>
          <a:stretch/>
        </p:blipFill>
        <p:spPr>
          <a:xfrm>
            <a:off x="838080" y="2133720"/>
            <a:ext cx="3353040" cy="330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Картинка 9 из 8469"/>
          <p:cNvPicPr/>
          <p:nvPr/>
        </p:nvPicPr>
        <p:blipFill>
          <a:blip r:embed="rId2"/>
          <a:stretch/>
        </p:blipFill>
        <p:spPr>
          <a:xfrm>
            <a:off x="4495680" y="213372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едписывающие  знаки – знаки  круглой  формы  синего  цвета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5" descr="Картинка 2 из 27067"/>
          <p:cNvPicPr/>
          <p:nvPr/>
        </p:nvPicPr>
        <p:blipFill>
          <a:blip r:embed="rId1"/>
          <a:stretch/>
        </p:blipFill>
        <p:spPr>
          <a:xfrm>
            <a:off x="914400" y="205740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Картинка 2 из 17431"/>
          <p:cNvPicPr/>
          <p:nvPr/>
        </p:nvPicPr>
        <p:blipFill>
          <a:blip r:embed="rId2"/>
          <a:stretch/>
        </p:blipFill>
        <p:spPr>
          <a:xfrm>
            <a:off x="4876920" y="2057400"/>
            <a:ext cx="38098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нформационно – указательные  знаки – знаки  в  форме  синих  квадратов  и  прямоугольников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5" descr="Картинка 56 из 4608"/>
          <p:cNvPicPr/>
          <p:nvPr/>
        </p:nvPicPr>
        <p:blipFill>
          <a:blip r:embed="rId1"/>
          <a:stretch/>
        </p:blipFill>
        <p:spPr>
          <a:xfrm>
            <a:off x="533520" y="2895480"/>
            <a:ext cx="4038480" cy="305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Картинка 1 из 1305"/>
          <p:cNvPicPr/>
          <p:nvPr/>
        </p:nvPicPr>
        <p:blipFill>
          <a:blip r:embed="rId2"/>
          <a:stretch/>
        </p:blipFill>
        <p:spPr>
          <a:xfrm>
            <a:off x="5410080" y="2666880"/>
            <a:ext cx="2759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наки  сервиса.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Что  такое  сервис? (Сервис – это  обслуживание.) 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акие  виды  услуг  знаете?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5" descr="Картинка 3 из 45275"/>
          <p:cNvPicPr/>
          <p:nvPr/>
        </p:nvPicPr>
        <p:blipFill>
          <a:blip r:embed="rId1"/>
          <a:stretch/>
        </p:blipFill>
        <p:spPr>
          <a:xfrm>
            <a:off x="1066680" y="2590920"/>
            <a:ext cx="2695680" cy="376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Картинка 14 из 18278"/>
          <p:cNvPicPr/>
          <p:nvPr/>
        </p:nvPicPr>
        <p:blipFill>
          <a:blip r:embed="rId2"/>
          <a:stretch/>
        </p:blipFill>
        <p:spPr>
          <a:xfrm>
            <a:off x="5334120" y="2590920"/>
            <a:ext cx="260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7631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рка  усвоения  материал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мостоятельная 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ационо-      предупреждающий      запрещающ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казатель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14" descr="156"/>
          <p:cNvPicPr/>
          <p:nvPr/>
        </p:nvPicPr>
        <p:blipFill>
          <a:blip r:embed="rId1"/>
          <a:stretch/>
        </p:blipFill>
        <p:spPr>
          <a:xfrm>
            <a:off x="1806480" y="3052800"/>
            <a:ext cx="1827360" cy="1822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information_items_107"/>
          <p:cNvPicPr/>
          <p:nvPr/>
        </p:nvPicPr>
        <p:blipFill>
          <a:blip r:embed="rId2"/>
          <a:stretch/>
        </p:blipFill>
        <p:spPr>
          <a:xfrm>
            <a:off x="5334120" y="3160800"/>
            <a:ext cx="1828800" cy="1827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9f4b32c2ffbd55f58a1e0e5e162dfbfe"/>
          <p:cNvPicPr/>
          <p:nvPr/>
        </p:nvPicPr>
        <p:blipFill>
          <a:blip r:embed="rId3"/>
          <a:stretch/>
        </p:blipFill>
        <p:spPr>
          <a:xfrm>
            <a:off x="3657600" y="2743200"/>
            <a:ext cx="1522440" cy="2133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6_029"/>
          <p:cNvPicPr/>
          <p:nvPr/>
        </p:nvPicPr>
        <p:blipFill>
          <a:blip r:embed="rId4"/>
          <a:stretch/>
        </p:blipFill>
        <p:spPr>
          <a:xfrm>
            <a:off x="7238880" y="3124080"/>
            <a:ext cx="1652760" cy="1827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1"/>
          <p:cNvSpPr/>
          <p:nvPr/>
        </p:nvSpPr>
        <p:spPr>
          <a:xfrm>
            <a:off x="1066680" y="579024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к сервиса             предписывающ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22" descr=""/>
          <p:cNvPicPr/>
          <p:nvPr/>
        </p:nvPicPr>
        <p:blipFill>
          <a:blip r:embed="rId5"/>
          <a:stretch/>
        </p:blipFill>
        <p:spPr>
          <a:xfrm>
            <a:off x="0" y="2971800"/>
            <a:ext cx="1827360" cy="1905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380880" y="7467480"/>
            <a:ext cx="1371600" cy="1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д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обы  лучше  запомнить  цвет,  форму  и  назначение  групп  дорожных  знаков  я  предлагаю  вам  придумать  знаки  для  нашей  классной  жи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исуйте  знак, соблюдая  форму, цв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кажите,  какое  правило  классной  жизни  он  обозначает  и  где  его  место  в  класс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 работать  в  групп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ой группе нарисовать запрещающие зна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торой группе – информационные зна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тьей группе- предупреждающие зна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58:37Z</dcterms:created>
  <dc:creator>User</dc:creator>
  <dc:description/>
  <dc:language>en-US</dc:language>
  <cp:lastModifiedBy>Мади</cp:lastModifiedBy>
  <dcterms:modified xsi:type="dcterms:W3CDTF">2012-02-27T18:35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