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07DF-A562-4742-9465-B4EA9EE85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E9EB-B41F-40D0-9CE6-EB080299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E54A-60D7-44E5-BE11-E8EB8C842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4F0C-CCA9-4D7C-B425-E6D5085F2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48BB9-9677-4E98-B983-A7AD58FE0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DB276-D521-4154-A707-1F227F2B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01689-7814-4D7C-BA4F-7EC8DE7C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0DEE1-B72C-459B-8E28-E274B972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0282C-A43F-47A0-BDB7-FF8EB58D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7EB09-67C0-451E-9F49-F9A79345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6F077-7440-4E3C-BAF2-F6114C09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6E05-424D-4900-9CC2-8B6A3B08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66D2E-E54E-45C5-B2EF-6177ED52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79E3A-6174-4D50-BE63-DF6397C8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E9D62-9950-4376-ABE4-AAC41058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F5965-ADDB-4AFB-9999-35A34D659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55ABA-E53E-4F25-BC63-DAF758F4A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02EC-1839-4F39-B21E-9E3958F3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6033-0DDA-4D05-972B-016CEFD3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08D2-F751-4FC6-982A-17A2B890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8FB4-E8A4-442E-B3E6-BE36B26F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F5F5-98C4-40E0-B562-E9C08EA3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6C37-FB59-43F9-9DEB-9B445A8C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9BD2-152E-4AAF-BC31-9B5704FD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05A7-38CF-499D-9B31-05B1B54D7B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AC02-8701-49AD-A758-B72DA30105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46200" y="2924280"/>
            <a:ext cx="3405240" cy="3671640"/>
          </a:xfrm>
          <a:prstGeom prst="rect">
            <a:avLst/>
          </a:prstGeom>
          <a:ln w="76320">
            <a:solidFill>
              <a:srgbClr val="010199"/>
            </a:solidFill>
            <a:miter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284720" y="4723920"/>
            <a:ext cx="48592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Tahoma"/>
              </a:rPr>
              <a:t>Выполнила: Федотова И.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Tahoma"/>
              </a:rPr>
              <a:t>ученица 8 клас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Tahoma"/>
              </a:rPr>
              <a:t>Учитель географии: Л.А.Дашко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116000" y="907920"/>
            <a:ext cx="73580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езентация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Жемчужина Сибири –      Байкал»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/>
          <p:nvPr/>
        </p:nvSpPr>
        <p:spPr>
          <a:xfrm>
            <a:off x="1670400" y="259560"/>
            <a:ext cx="57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ccff"/>
                </a:solidFill>
                <a:latin typeface="Tahoma"/>
              </a:rPr>
              <a:t>МОУ «Удаченская ООШ МО «Ахтубинский район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99ff"/>
                </a:solidFill>
                <a:latin typeface="Tahoma"/>
              </a:rPr>
              <a:t>2) Загрязнение Байкала воздушными выбросам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Загрязнение воздушного бассейна над акваторией озера Байкал в основном происходит из населенных пунктов, расположенных непосредственно вокруг озера, особенно вдоль южной его част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озеро попадают практически все выбросы из Байкальска (полностью от БЦБК) и Слюдянк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кружающие горы защищают Байкал от отдаленных источников загрязнения, но в то же время препятствуют рассеиванию воздушных выбросов из местных источников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олина реки Ангара образует проход к озеру для преобладающих на Байкале северо-западных ветров, которые переносят воздушные выбросы Иркутско-Черемховского промузла по долине Ангары к Байкалу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здействие воздушных выбросов зависит от времени год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декабре сила ветра невелика и выбросы, возможно, не достигают озера, в апреле-мае скорость ветра усиливается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зависимости от направления ветра, озера достигают также воздушные выбросы из долины реки Селенги, в т.ч. из Улан-Удэ, Селенгинска и Гусиноозерск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ивысший уровень воздушных загрязнений обнаружен в южной части Байкал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иболее часто встречаются такие загрязнители, как твердые частицы, двуокись серы, одноокись углерода, двуокись азота и углеводород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99ff"/>
                </a:solidFill>
                <a:latin typeface="Tahoma"/>
              </a:rPr>
              <a:t>3) Загрязнение Байкала хозяйственно-бытовыми стоками населенных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6699ff"/>
                </a:solidFill>
                <a:latin typeface="Tahoma"/>
              </a:rPr>
              <a:t>пунктов прибрежной з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посредственно в селах и небольших городах по берегам Байкала живут около 80 000 челове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рубый подсчет показывает, что все эти поселения сбрасывают около 15 млн. м3 стоков в год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50920" y="3429000"/>
            <a:ext cx="4537080" cy="3094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20908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чистка бытовых, и промышленных сточных вод в населенных пунктах вокруг Байкала, либо отсутствует вообще, либо имеет очень низкое качеств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собой проблемой являются сбросы балластных вод с судов и загрязнение вод озера нефтепродуктам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сего на Байкале более 300 судов (не включая маломерный флот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вигация длится около 6 месяцев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2000 году договор на сдачу подсланевых вод заключили всего 29 судов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Ежегодно в Байкал попадает около 160 тонн нефтепродуктов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 существующим правилам, любое судно, которое имеет право ходить по Байкалу, должно заключить договор на сдачу подсланевых вод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брос их в озеро запрещен, их нужно сдавать на специальные очистные сооружен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932360" y="3429000"/>
            <a:ext cx="4000680" cy="3095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slow">
    <p:wheel spokes="8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Уникальность озера Байка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айкал находится на юге Восточной Сибир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о самое глубокое в мире озеро, обладающее уникальными особенностями, и самое крупное водохранилище пресной воды на планет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му нет равных в мире по возрасту, глубине, запасам и свойствам пресной воды, многообразию и эндемизму органической жизн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 древних времен его называют священным морем, славным, седым и грозны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реди множества эпитетов можно выделить такие как: "мировой источник питьевой воды", "голубое око Сибири", "оазис девственной природы Земли", "сакральный центр Северной Азии", "богоделанное творение", "священный дар природы", "памятник природы с неповторимыми ландшафтами", "бесценная сокровищница генетического богатства Земли", "чудо лимнологии, средоточие уникальных природных ценностей"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лагодаря своим уникальным особенностям Байкал в 1996 г. внесен в список "Всемирного наследия" ЮНЕСК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4681440" cy="3511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3">
            <a:lum contrast="2000"/>
          </a:blip>
          <a:srcRect l="2444" t="0" r="1629" b="0"/>
          <a:stretch/>
        </p:blipFill>
        <p:spPr>
          <a:xfrm>
            <a:off x="971640" y="3141720"/>
            <a:ext cx="4308480" cy="3368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284720" y="1268280"/>
            <a:ext cx="4248000" cy="31305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slow">
    <p:wheel spokes="8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Tahoma"/>
              </a:rPr>
              <a:t>Байкал - одно из древнейших озер планеты, его возраст ученые определяют в 25 - 30 млн. лет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Tahoma"/>
              </a:rPr>
              <a:t>Большинство озер, особенно ледникового и старичного происхождения, живут 10-15 тыс. лет, а затем заполняются осадками и исчезают с лица Земл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Tahoma"/>
              </a:rPr>
              <a:t>На Байкале нет никаких признаков старения, как у многих озер мир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Tahoma"/>
              </a:rPr>
              <a:t>Наоборот, исследования последних лет позволили геофизикам высказать гипотезу о том, что Байкал является зарождающимся океано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Tahoma"/>
              </a:rPr>
              <a:t>Это подтверждается тем, что его берега расходятся со скоростью до 2 см в год, подобно тому, как расходятся континенты Африки и Южной Амери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476360" y="620640"/>
            <a:ext cx="532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зраст Байкал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8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99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cc"/>
                </a:solidFill>
                <a:latin typeface="Tahoma"/>
              </a:rPr>
              <a:t>Среди озер земного шара озеро Байкал занимает первое место по глубине (1637 м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99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cc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33cccc"/>
                </a:solidFill>
                <a:latin typeface="Tahoma"/>
              </a:rPr>
              <a:t>На Земле только 6 озер имеют глубину более 500 м. Впадина озера Байкал в морфологическом отношении представляет три самостоятельных котловины - Южную с наибольшей отметкой глубины 1430 м, Среднюю (1637 м) и Северную (920 м)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99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cc"/>
                </a:solidFill>
                <a:latin typeface="Tahoma"/>
              </a:rPr>
              <a:t>Впадина Байкала асимметричн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99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cc"/>
                </a:solidFill>
                <a:latin typeface="Tahoma"/>
              </a:rPr>
              <a:t>Западная ее сторона отличается крутым подводным склоном (40-50</a:t>
            </a:r>
            <a:r>
              <a:rPr b="0" lang="en-US" sz="1400" spc="-1" strike="noStrike">
                <a:solidFill>
                  <a:srgbClr val="33cccc"/>
                </a:solidFill>
                <a:latin typeface="Tahoma"/>
              </a:rPr>
              <a:t>° </a:t>
            </a:r>
            <a:r>
              <a:rPr b="0" lang="ru-RU" sz="1400" spc="-1" strike="noStrike">
                <a:solidFill>
                  <a:srgbClr val="33cccc"/>
                </a:solidFill>
                <a:latin typeface="Tahoma"/>
              </a:rPr>
              <a:t>крутизны), восточная - более полога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99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cc"/>
                </a:solidFill>
                <a:latin typeface="Tahoma"/>
              </a:rPr>
              <a:t>Довольно часто в литературе о Байкале до сих пор встречается отметка глубины озера 1620 м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99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cc"/>
                </a:solidFill>
                <a:latin typeface="Tahoma"/>
              </a:rPr>
              <a:t>Эта глубина была зафиксирована в 1959 г. в результате замеров тросовым лотом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99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cc"/>
                </a:solidFill>
                <a:latin typeface="Tahoma"/>
              </a:rPr>
              <a:t>Эхолотные промеры 1974 г. зафиксировали глубину озера 1637 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99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cc"/>
                </a:solidFill>
                <a:latin typeface="Tahoma"/>
              </a:rPr>
              <a:t>Глубина байкальской впадин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99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cc"/>
                </a:solidFill>
                <a:latin typeface="Tahoma"/>
              </a:rPr>
              <a:t>В настоящее время впадина Байкала рассматривается как центральное звено Байкальской рифтовой зоны, возникшей и развивающейся одновременно с мировой рифтовой системой (Флоренсов, 1978). Геофизиками высказана гипотеза о расхождении берегов Байкала со скоростью 2 см в год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99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cc"/>
                </a:solidFill>
                <a:latin typeface="Tahoma"/>
              </a:rPr>
              <a:t>Байкальская впадина чуть шире современного озера, но гораздо глубже его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99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cc"/>
                </a:solidFill>
                <a:latin typeface="Tahoma"/>
              </a:rPr>
              <a:t>Глубина впадины определяется высотой гор над ней, глубиной озера и толщиной выстилающих его дно донных осадков. Самая глубокая точка залегания донных осадков озера находится на глубине примерно 6 - 8 тыс. м ниже уровня мирового океана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99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cc"/>
                </a:solidFill>
                <a:latin typeface="Tahoma"/>
              </a:rPr>
              <a:t>"Корни" впадины рассекают всю земную кору и уходят в верхнюю мантию на глубину 50-60 км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050920" y="260280"/>
            <a:ext cx="52563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лубина озер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wheel spokes="8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cc"/>
                </a:solidFill>
                <a:latin typeface="Tahoma"/>
              </a:rPr>
              <a:t>Байкальский регион имеет высокую сейсмичность - это одна из наиболее сейсмически активных внутриконтинентальных областей планет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cc"/>
                </a:solidFill>
                <a:latin typeface="Tahoma"/>
              </a:rPr>
              <a:t>Сильные землетрясения происходят с периодичностью 7 баллов - 1-2 года, 8 баллов - 5 лет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cc"/>
                </a:solidFill>
                <a:latin typeface="Tahoma"/>
              </a:rPr>
              <a:t>В 1862 г. при десятибалльном землетрясении в северной части дельты Селенги ушел под воду участок суши площадью 200 кв. км с 6 улусами, в которых проживало 1300 человек, и образовался новый залив Прова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cc"/>
                </a:solidFill>
                <a:latin typeface="Tahoma"/>
              </a:rPr>
              <a:t>Слабые землетрясения регистрируются практически ежедневно. Ежегодно их количество достигает 2 тыс. и боле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cc"/>
                </a:solidFill>
                <a:latin typeface="Tahoma"/>
              </a:rPr>
              <a:t>Ученые называют Байкал "древним темечком Азии"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908000" y="404640"/>
            <a:ext cx="5472360" cy="13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ейсмичность Байка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wheel spokes="8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Tahoma"/>
              </a:rPr>
              <a:t>Весной, после освобождения озера ото льда, прозрачность воды достигает 40 м, это в десятки раз больше, чем в других озера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Tahoma"/>
              </a:rPr>
              <a:t>Например, в Каспии прозрачность воды составляет 25 м, на Иссык-Куле - 20 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Tahoma"/>
              </a:rPr>
              <a:t>На Байкале, брошенную в воду серебряную монетку можно проследить до глубины 30-40 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11280" y="620640"/>
            <a:ext cx="7777080" cy="11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войство байкальской вод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wheel spokes="8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920" y="1905120"/>
            <a:ext cx="3457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Tahoma"/>
              </a:rPr>
              <a:t>Одной из удивительных особенностей озера является его поистине уникальный животный мир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Tahoma"/>
              </a:rPr>
              <a:t>Он насчитывает более 1500 видов, причем 75% из них живут только на Байкале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Tahoma"/>
              </a:rPr>
              <a:t>Одних лишь рыб здесь больше чем в некоторых морях - 49 видов, и почти все коренные "байкальцы", например, знаменитый омуль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Tahoma"/>
              </a:rPr>
              <a:t>«Нет Байкала без омуля" - такова местная поговорка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Tahoma"/>
              </a:rPr>
              <a:t>Очень интересной является живородящая рыба голомянка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Tahoma"/>
              </a:rPr>
              <a:t>Она такая жирная, что выброшенная на берег штормом, почти полностью тает под солнечными лучами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Tahoma"/>
              </a:rPr>
              <a:t>В ее жире имеется много лечебных органических соединений и витаминов, поэтому ее называют еще "медицинской рыбой"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620640"/>
            <a:ext cx="8064360" cy="11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рганический мир Байкал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7020000" y="3068640"/>
            <a:ext cx="1523880" cy="13287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3708360" y="4797360"/>
            <a:ext cx="5238720" cy="18860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3780000" y="2060640"/>
            <a:ext cx="2819160" cy="18255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 spd="slow">
    <p:wheel spokes="8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 сожалению, в связи с развитием промышленности в Сибири, в том числе в районах, прилегающих к Байкалу, сооружением ряда крупных предприятий деревообрабатывающей, лесохимической и других отраслей, а также цветной металлургии зачастую с грубыми нарушениями экологической обстановки, над уникальным озером нависла смертельная угроз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пасти озеро Байкал от загрязнения - неотложная задача нашего времен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99ff"/>
                </a:solidFill>
                <a:latin typeface="Tahoma"/>
              </a:rPr>
              <a:t>1) Загрязнение Байкала, поступающее с водами реки Селенг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ека Селенга является крупнейшим притоком оз. Байкал, объем ее стока составляет более 50 % общего речного стока в Байкал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ельта р. Селенга является уникальным природным объектом - ключевой точкой Восточной Сибири на пути миграции перелетных птиц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олее 5 тыс. га дельты реки находится под защитой РАМСАРской конвенции (Конвенция о защите водно-болотных угодий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 мелководье дельты находятся основные нерестилища байкальского омул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спользуемые в сельскохозяйственной деятельности химические вещества смываются дождями в р. Селенга и затем попадают в оз. Байка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бщая площадь сельскохозяйственных угодий республики Бурятия занимает 11,2% всей территории Республики Бурят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ходы животноводства и эрозия почвы также отрицательно влияют на качество воды в оз. Байка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ысокий уровень загрязнения дельты р. Селенга считаются главной причиной гибели икры омуля 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95280" y="476280"/>
            <a:ext cx="828036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кологические проблемы Байкал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heel spokes="8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7:08:28Z</dcterms:created>
  <dc:creator>Customer</dc:creator>
  <dc:description/>
  <dc:language>en-US</dc:language>
  <cp:lastModifiedBy>Customer</cp:lastModifiedBy>
  <dcterms:modified xsi:type="dcterms:W3CDTF">2011-04-14T13:32:01Z</dcterms:modified>
  <cp:revision>3</cp:revision>
  <dc:subject/>
  <dc:title>Презентация на тему: «Жемчужина Сибири – Байкал»</dc:title>
</cp:coreProperties>
</file>