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6.gif" ContentType="image/gif"/>
  <Override PartName="/ppt/media/image19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2.wmf" ContentType="image/x-wmf"/>
  <Override PartName="/ppt/media/image3.png" ContentType="image/png"/>
  <Override PartName="/ppt/media/image4.gif" ContentType="image/gif"/>
  <Override PartName="/ppt/media/image1.gif" ContentType="image/gif"/>
  <Override PartName="/ppt/media/image12.wmf" ContentType="image/x-wmf"/>
  <Override PartName="/ppt/media/image13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ABC-8E0D-4E0E-B383-B77743D2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5B5-FC52-45F5-A004-42BF2F9F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151-829D-4D8B-BB7C-001F4450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DA2-F70C-4A7A-B781-98C0D5B9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7C2B8-DFDF-41C9-A3F1-466EFC13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17EDC-73DA-4C9F-B737-4A1F011F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F3E98-B12A-47B5-826B-9F4E54A9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429BF-6D22-477C-B242-DBE542CF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9703E-51C0-482D-8C51-CC12644E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639F8-4412-4C17-B2F7-826CFBC5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BBB7E-64F8-4925-9881-0C2CF6D5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B22-BFF2-42F1-BA25-00EDB493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11B8C-944D-43AF-9E95-875E8590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7A183-5BF4-4E7C-81C3-6DB3A27C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EC28B-20F6-4DFE-8DA7-B658D2A8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210B0-AD57-4B7D-906C-D2DF262C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E1389-0092-4D1C-983C-3F0D5C77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A77-5E15-4411-AE6B-DBD37994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C68-2BD7-4371-9807-E78F55F3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388-C264-47F4-AECB-FBA9B394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C90-479D-422A-B36C-A5ACE291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DB4-ACB6-4275-B740-5C751C08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282-5AF2-4EFE-8928-1DD0442D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30B-A8D8-4C23-94FF-D6ACBF1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574E-822D-4842-8823-7937484984C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645E-300A-4553-8CE4-B8A8013B1C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E365-BD66-408E-BAC9-1F363EEDBB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32DA-EA6A-4E74-9876-AD5DADDE030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82560" y="2349000"/>
            <a:ext cx="756144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иемы релаксации на урока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7" descr="chel36"/>
          <p:cNvPicPr/>
          <p:nvPr/>
        </p:nvPicPr>
        <p:blipFill>
          <a:blip r:embed="rId1"/>
          <a:stretch/>
        </p:blipFill>
        <p:spPr>
          <a:xfrm>
            <a:off x="3492360" y="3933720"/>
            <a:ext cx="273528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Program Files\Common Files\Microsoft Shared\Clipart\cagcat50\PE03254_.wmf"/>
          <p:cNvPicPr/>
          <p:nvPr/>
        </p:nvPicPr>
        <p:blipFill>
          <a:blip r:embed="rId2"/>
          <a:stretch/>
        </p:blipFill>
        <p:spPr>
          <a:xfrm>
            <a:off x="714240" y="297000"/>
            <a:ext cx="2143440" cy="2190600"/>
          </a:xfrm>
          <a:prstGeom prst="rect">
            <a:avLst/>
          </a:prstGeom>
          <a:ln w="0">
            <a:noFill/>
          </a:ln>
        </p:spPr>
      </p:pic>
      <p:sp>
        <p:nvSpPr>
          <p:cNvPr id="98" name="Дата 4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7F04-E1AA-4DB6-8A2F-47F66207920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85560" y="-360"/>
            <a:ext cx="7699320" cy="607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одрость за одну минуту!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Предлагаемый комплекс, рассчитанный всего на 1 минуту, поможет освободиться от постепенно накапливающейся устал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1. Быстро потрите друг о друга пальцы рук - 5 се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2. Быстро потрите разогретыми теплыми пальцами щеки вверх-вниз - 5се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3. Часто постучите барабанной дробью по макушке головы - 5 се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4. Сожмите руку в расслабленный кулак. Энергично поглаживайте внутреннюю и внешнюю сторону предплечья - 3 раз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5. Осторожно надавите на щитовидную железу (ниже кадыка) большим и указательным пальцами - 3 раз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6. На шее найдите сонную артерию, осторожно нажмите пальцами с одной стороны, сосчитав до 5. Освободите ее; дышите глубоко, то же самое проделайте на другой сторо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7. Большим пальцем нащупайте впадину в основание черепа (у места соединения головы с позвоночником). Нажмите, сосчитав до 3, отпустите. Повторите 3 раз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8. Массаж рефлекторных зон ног: ступни  плотно прижмите к полу, пальцы ног стремитесь поднять как можно выше, напрягите икроножные мышц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9. Раскрытой ладонью похлопайте ноги спереди и сбоку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Если, заканчивая самомассаж, вы чувствуете, что по телу разлилась приятная теплота, цель достигну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sun"/>
          <p:cNvPicPr/>
          <p:nvPr/>
        </p:nvPicPr>
        <p:blipFill>
          <a:blip r:embed="rId1"/>
          <a:stretch/>
        </p:blipFill>
        <p:spPr>
          <a:xfrm>
            <a:off x="214200" y="285840"/>
            <a:ext cx="106704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7" descr="girlball"/>
          <p:cNvPicPr/>
          <p:nvPr/>
        </p:nvPicPr>
        <p:blipFill>
          <a:blip r:embed="rId2"/>
          <a:stretch/>
        </p:blipFill>
        <p:spPr>
          <a:xfrm>
            <a:off x="7929720" y="5643720"/>
            <a:ext cx="1009440" cy="961920"/>
          </a:xfrm>
          <a:prstGeom prst="rect">
            <a:avLst/>
          </a:prstGeom>
          <a:ln w="0">
            <a:noFill/>
          </a:ln>
        </p:spPr>
      </p:pic>
      <p:sp>
        <p:nvSpPr>
          <p:cNvPr id="153" name="Дата 4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4F7A-2EF2-4CE9-837A-626D3FB8B0E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Нижний колонтитул 5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sun"/>
          <p:cNvPicPr/>
          <p:nvPr/>
        </p:nvPicPr>
        <p:blipFill>
          <a:blip r:embed="rId1"/>
          <a:stretch/>
        </p:blipFill>
        <p:spPr>
          <a:xfrm>
            <a:off x="214200" y="285840"/>
            <a:ext cx="1067040" cy="965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1500120" y="25560"/>
            <a:ext cx="600084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инезиологическая гимнасти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ая форма двигательной активности прошла научную апробацию во Всероссийском НИИ физической куль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 доступная форма гимнастических упражнений без использования спортивного инвентаря обладает высоким физиологическим КПД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оляет развивать мышечную силу на уровне атлетизма, хорошую суставную подвижность (гибкость) и координацию движени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енирует сердце и дыхательную систему, обладает профилактическим и лечебным действи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крет этого феномена заключается в том, что все ее упражнения выполняются на уровне предельного мышечного напряжения.  Время выполнения каждого упражнения 30 секун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Главное условие упражнений — самосопротивл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1EA1-0975-4DA2-97C1-E12730C3515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ижний колонтитул 4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кругленный прямоугольник 7"/>
          <p:cNvSpPr/>
          <p:nvPr/>
        </p:nvSpPr>
        <p:spPr>
          <a:xfrm>
            <a:off x="3429000" y="500040"/>
            <a:ext cx="4500720" cy="1071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sun"/>
          <p:cNvPicPr/>
          <p:nvPr/>
        </p:nvPicPr>
        <p:blipFill>
          <a:blip r:embed="rId1"/>
          <a:stretch/>
        </p:blipFill>
        <p:spPr>
          <a:xfrm>
            <a:off x="214200" y="285840"/>
            <a:ext cx="1067040" cy="9651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3" descr=""/>
          <p:cNvPicPr/>
          <p:nvPr/>
        </p:nvPicPr>
        <p:blipFill>
          <a:blip r:embed="rId2"/>
          <a:stretch/>
        </p:blipFill>
        <p:spPr>
          <a:xfrm>
            <a:off x="1785960" y="571680"/>
            <a:ext cx="1260360" cy="1107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"/>
          <p:cNvPicPr/>
          <p:nvPr/>
        </p:nvPicPr>
        <p:blipFill>
          <a:blip r:embed="rId3"/>
          <a:stretch/>
        </p:blipFill>
        <p:spPr>
          <a:xfrm>
            <a:off x="1785960" y="2214720"/>
            <a:ext cx="1309680" cy="1076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4"/>
          <a:stretch/>
        </p:blipFill>
        <p:spPr>
          <a:xfrm>
            <a:off x="1857240" y="3929040"/>
            <a:ext cx="1239840" cy="10764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6"/>
          <p:cNvSpPr/>
          <p:nvPr/>
        </p:nvSpPr>
        <p:spPr>
          <a:xfrm>
            <a:off x="3429000" y="500040"/>
            <a:ext cx="43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Указательным пальцем правой руки                            тяните на себя большой палец левой руки, который должен сопротивляться изо всех сил. Выполните то же для другой ру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8"/>
          <p:cNvSpPr/>
          <p:nvPr/>
        </p:nvSpPr>
        <p:spPr>
          <a:xfrm>
            <a:off x="3571920" y="2286000"/>
            <a:ext cx="4286160" cy="100008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Пальцами правой руки с усилием нажимайте на ладонь левой руки, которая должна сопротивляться. Выполните тоже для другой ру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Скругленный прямоугольник 13"/>
          <p:cNvSpPr/>
          <p:nvPr/>
        </p:nvSpPr>
        <p:spPr>
          <a:xfrm>
            <a:off x="3714840" y="3786120"/>
            <a:ext cx="4214880" cy="1214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Указательным пальцем правой руки с усилием нажимайте на большой палец левой руки со стороны ладони. Большим пальцем необходимо сопротивляться. Повторите тоже для другой рук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Дата 1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2A0A-4528-49A1-98FA-D70F3746C7E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sun"/>
          <p:cNvPicPr/>
          <p:nvPr/>
        </p:nvPicPr>
        <p:blipFill>
          <a:blip r:embed="rId1"/>
          <a:stretch/>
        </p:blipFill>
        <p:spPr>
          <a:xfrm>
            <a:off x="214200" y="285840"/>
            <a:ext cx="1067040" cy="965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"/>
          <p:cNvPicPr/>
          <p:nvPr/>
        </p:nvPicPr>
        <p:blipFill>
          <a:blip r:embed="rId2"/>
          <a:stretch/>
        </p:blipFill>
        <p:spPr>
          <a:xfrm>
            <a:off x="1714680" y="1000080"/>
            <a:ext cx="1239480" cy="10764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"/>
          <p:cNvPicPr/>
          <p:nvPr/>
        </p:nvPicPr>
        <p:blipFill>
          <a:blip r:embed="rId3"/>
          <a:stretch/>
        </p:blipFill>
        <p:spPr>
          <a:xfrm>
            <a:off x="1571760" y="2571840"/>
            <a:ext cx="1584360" cy="10764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4"/>
          <a:stretch/>
        </p:blipFill>
        <p:spPr>
          <a:xfrm>
            <a:off x="1714680" y="4214880"/>
            <a:ext cx="1411200" cy="1076400"/>
          </a:xfrm>
          <a:prstGeom prst="rect">
            <a:avLst/>
          </a:prstGeom>
          <a:ln w="0">
            <a:noFill/>
          </a:ln>
        </p:spPr>
      </p:pic>
      <p:sp>
        <p:nvSpPr>
          <p:cNvPr id="175" name="Скругленный прямоугольник 6"/>
          <p:cNvSpPr/>
          <p:nvPr/>
        </p:nvSpPr>
        <p:spPr>
          <a:xfrm>
            <a:off x="3357720" y="1000080"/>
            <a:ext cx="4143240" cy="100008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Согнутыми пальцами правой руки изо всех сил пытайтесь оттолкнуть левую кисть, которой давите на пальцы. Повторите для другой ру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Скругленный прямоугольник 7"/>
          <p:cNvSpPr/>
          <p:nvPr/>
        </p:nvSpPr>
        <p:spPr>
          <a:xfrm>
            <a:off x="3500280" y="2643120"/>
            <a:ext cx="3929400" cy="100008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С усилием зажмите правой ладонью кулак левой руки с тыльной стороны. Кулак пытайтесь разжать. Выполните упражнение для другой ру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Скругленный прямоугольник 8"/>
          <p:cNvSpPr/>
          <p:nvPr/>
        </p:nvSpPr>
        <p:spPr>
          <a:xfrm>
            <a:off x="3500280" y="4286160"/>
            <a:ext cx="3929400" cy="10717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С усилием зажмите правой ладонью кулак левой кисти с тыльной стороны. Кулак пытайтесь развернуть. Выполните тоже для другой ру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2520" y="4572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Дата 9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54C3-D19C-4C04-AD8D-F30F7961FBF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Нижний колонтитул 10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sun"/>
          <p:cNvPicPr/>
          <p:nvPr/>
        </p:nvPicPr>
        <p:blipFill>
          <a:blip r:embed="rId1"/>
          <a:stretch/>
        </p:blipFill>
        <p:spPr>
          <a:xfrm>
            <a:off x="214200" y="285840"/>
            <a:ext cx="1067040" cy="9651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927080"/>
            <a:ext cx="552132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-организатор ОБ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 Зареченская СОШ №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лов Вадим Виталье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. Тоцкое Втор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Содержимое 6" descr="Изображение 004.jpg"/>
          <p:cNvPicPr/>
          <p:nvPr/>
        </p:nvPicPr>
        <p:blipFill>
          <a:blip r:embed="rId2"/>
          <a:stretch/>
        </p:blipFill>
        <p:spPr>
          <a:xfrm>
            <a:off x="5715000" y="1714680"/>
            <a:ext cx="3114720" cy="4151160"/>
          </a:xfrm>
          <a:prstGeom prst="rect">
            <a:avLst/>
          </a:prstGeom>
          <a:ln w="0">
            <a:noFill/>
          </a:ln>
        </p:spPr>
      </p:pic>
      <p:sp>
        <p:nvSpPr>
          <p:cNvPr id="185" name="Дата 5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5F45-8101-40AF-BF45-C9A09134406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Нижний колонтитул 6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14320" y="-360"/>
            <a:ext cx="4786200" cy="600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бы достигнуть высокой эффективности урока, следует учитывать физиологические и психологические особенности детей, предусматривать такие виды работы, которые снимали бы усталость</a:t>
            </a:r>
            <a:r>
              <a:rPr b="0" lang="ru-RU" sz="37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sun"/>
          <p:cNvPicPr/>
          <p:nvPr/>
        </p:nvPicPr>
        <p:blipFill>
          <a:blip r:embed="rId1"/>
          <a:stretch/>
        </p:blipFill>
        <p:spPr>
          <a:xfrm>
            <a:off x="228600" y="609480"/>
            <a:ext cx="1066680" cy="96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Program Files\Microsoft Office\Clipart\homeanim\AG00326_.GIF"/>
          <p:cNvPicPr/>
          <p:nvPr/>
        </p:nvPicPr>
        <p:blipFill>
          <a:blip r:embed="rId2"/>
          <a:stretch/>
        </p:blipFill>
        <p:spPr>
          <a:xfrm>
            <a:off x="6715080" y="4357800"/>
            <a:ext cx="2428920" cy="1622160"/>
          </a:xfrm>
          <a:prstGeom prst="rect">
            <a:avLst/>
          </a:prstGeom>
          <a:ln w="0">
            <a:noFill/>
          </a:ln>
        </p:spPr>
      </p:pic>
      <p:sp>
        <p:nvSpPr>
          <p:cNvPr id="103" name="Дата 4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CCEA-038A-48ED-B4F8-6F846A24C0E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5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Что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же такое релаксац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72374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елаксац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это расслабление или снижение тонуса после напряженной умственной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ель проведения релаксации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снять напряжение, дать детям небольшой отдых, вызвать положительные эмоции, хорошее настроение, что ведет к улучшению усвоения материал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sun"/>
          <p:cNvPicPr/>
          <p:nvPr/>
        </p:nvPicPr>
        <p:blipFill>
          <a:blip r:embed="rId1"/>
          <a:stretch/>
        </p:blipFill>
        <p:spPr>
          <a:xfrm>
            <a:off x="228600" y="609480"/>
            <a:ext cx="1066680" cy="965160"/>
          </a:xfrm>
          <a:prstGeom prst="rect">
            <a:avLst/>
          </a:prstGeom>
          <a:ln w="0">
            <a:noFill/>
          </a:ln>
        </p:spPr>
      </p:pic>
      <p:sp>
        <p:nvSpPr>
          <p:cNvPr id="108" name="Дата 4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02D9-DD55-4FD7-A740-89EB4043737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20480" y="1341000"/>
            <a:ext cx="69231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дами релаксации могут быть различного рода движения, игры, пение, заинтересованность чем-нибудь новым, необычным. Следует помнить о том, что при проведении релаксации не нужно ставить цель перед учениками запомнить языковой материал. Релаксация должна освобождать ученика от умственного напряж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sun"/>
          <p:cNvPicPr/>
          <p:nvPr/>
        </p:nvPicPr>
        <p:blipFill>
          <a:blip r:embed="rId1"/>
          <a:stretch/>
        </p:blipFill>
        <p:spPr>
          <a:xfrm>
            <a:off x="228600" y="609480"/>
            <a:ext cx="1066680" cy="96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golovastik"/>
          <p:cNvPicPr/>
          <p:nvPr/>
        </p:nvPicPr>
        <p:blipFill>
          <a:blip r:embed="rId2"/>
          <a:stretch/>
        </p:blipFill>
        <p:spPr>
          <a:xfrm>
            <a:off x="7572240" y="5572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13" name="Дата 4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D850-4349-4B12-A309-E397C434502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17880" y="188640"/>
            <a:ext cx="686736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Разрядка с использованием различного вида движен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915920"/>
            <a:ext cx="748980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щиеся по команде учителя встают и выполняют простые движения (поднимают руки вверх, вниз, прыгают, топают, имитируют движения). Действия, совершаемые учащимися, могут при выполнении команд сопровождаться проговариван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sun"/>
          <p:cNvPicPr/>
          <p:nvPr/>
        </p:nvPicPr>
        <p:blipFill>
          <a:blip r:embed="rId1"/>
          <a:stretch/>
        </p:blipFill>
        <p:spPr>
          <a:xfrm>
            <a:off x="228600" y="609480"/>
            <a:ext cx="1066680" cy="965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23m6"/>
          <p:cNvPicPr/>
          <p:nvPr/>
        </p:nvPicPr>
        <p:blipFill>
          <a:blip r:embed="rId2"/>
          <a:stretch/>
        </p:blipFill>
        <p:spPr>
          <a:xfrm>
            <a:off x="7667640" y="260280"/>
            <a:ext cx="1295280" cy="1724040"/>
          </a:xfrm>
          <a:prstGeom prst="rect">
            <a:avLst/>
          </a:prstGeom>
          <a:ln w="0">
            <a:noFill/>
          </a:ln>
        </p:spPr>
      </p:pic>
      <p:sp>
        <p:nvSpPr>
          <p:cNvPr id="119" name="Дата 5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3931-1C2C-4A98-BB63-9015348A693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6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2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559728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Физкультмину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00040" y="1341000"/>
            <a:ext cx="2571840" cy="18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- Раз, два, три, четыре, пять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Все умеем мы считать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Отдыхать умеем тоже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Руки за спину положи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Голову поднимем выш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И легко-легко подышим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2999880"/>
            <a:ext cx="2857320" cy="30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Дятел долбит старый сук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(Наклоны вперед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Тук-тук-тук, тук-тук-тук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(Приседания, постукивания руками об пол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Гонит эхо дятла стук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(И. п.: руки к плечам, вытянуть руки вперед, «отмахнуться»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Туки-туки, туки-тук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(Приседания, постукивание руками о пол.)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sun"/>
          <p:cNvPicPr/>
          <p:nvPr/>
        </p:nvPicPr>
        <p:blipFill>
          <a:blip r:embed="rId1"/>
          <a:stretch/>
        </p:blipFill>
        <p:spPr>
          <a:xfrm>
            <a:off x="214200" y="285840"/>
            <a:ext cx="1067040" cy="965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673600" y="1125000"/>
            <a:ext cx="34704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Жил на свете попугай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Крылья шире расправляй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(Руки в стороны, влево, вправо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Он любил летать всех выш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Выше пальм, жирафов выш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(Потянуться на носках, руки вверх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В гости к деткам прилетал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Вместе с ними отдыхал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(Делать приседания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Прыгал, кланялся, шалил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</a:rPr>
              <a:t>(Наклоны головы или туловища вперед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С малышами говорил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7" descr="girlball"/>
          <p:cNvPicPr/>
          <p:nvPr/>
        </p:nvPicPr>
        <p:blipFill>
          <a:blip r:embed="rId2"/>
          <a:stretch/>
        </p:blipFill>
        <p:spPr>
          <a:xfrm>
            <a:off x="7715160" y="4857840"/>
            <a:ext cx="1009800" cy="96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20052008075"/>
          <p:cNvPicPr/>
          <p:nvPr/>
        </p:nvPicPr>
        <p:blipFill>
          <a:blip r:embed="rId3"/>
          <a:stretch/>
        </p:blipFill>
        <p:spPr>
          <a:xfrm>
            <a:off x="3286080" y="2143080"/>
            <a:ext cx="2214720" cy="166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20052008078"/>
          <p:cNvPicPr/>
          <p:nvPr/>
        </p:nvPicPr>
        <p:blipFill>
          <a:blip r:embed="rId4"/>
          <a:stretch/>
        </p:blipFill>
        <p:spPr>
          <a:xfrm>
            <a:off x="3214800" y="3929040"/>
            <a:ext cx="2357280" cy="1539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20052008079"/>
          <p:cNvPicPr/>
          <p:nvPr/>
        </p:nvPicPr>
        <p:blipFill>
          <a:blip r:embed="rId5"/>
          <a:stretch/>
        </p:blipFill>
        <p:spPr>
          <a:xfrm>
            <a:off x="5715000" y="5000760"/>
            <a:ext cx="2008080" cy="1571400"/>
          </a:xfrm>
          <a:prstGeom prst="rect">
            <a:avLst/>
          </a:prstGeom>
          <a:ln w="0">
            <a:noFill/>
          </a:ln>
        </p:spPr>
      </p:pic>
      <p:sp>
        <p:nvSpPr>
          <p:cNvPr id="130" name="Дата 10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6513-99B6-4ACB-BFF2-7EC4ED2117C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Нижний колонтитул 1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869840" y="333360"/>
            <a:ext cx="7273800" cy="612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минутки не только служат профилактикой нарушения зрения, но и благоприятны при неврозах, гипертонии, повышенном внутричерепном давлен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Times New Roman"/>
              </a:rPr>
              <a:t>Рекомендуемые упражнения: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ccecff"/>
                </a:solidFill>
                <a:latin typeface="Times New Roman"/>
              </a:rPr>
              <a:t>1. Вертикальные движения глаз вверх-вниз; </a:t>
            </a:r>
            <a:br>
              <a:rPr sz="2400"/>
            </a:br>
            <a:r>
              <a:rPr b="0" i="1" lang="ru-RU" sz="2400" spc="-1" strike="noStrike">
                <a:solidFill>
                  <a:srgbClr val="ccecff"/>
                </a:solidFill>
                <a:latin typeface="Times New Roman"/>
              </a:rPr>
              <a:t>2. Горизонтальные вправо-влево; </a:t>
            </a:r>
            <a:br>
              <a:rPr sz="2400"/>
            </a:br>
            <a:r>
              <a:rPr b="0" i="1" lang="ru-RU" sz="2400" spc="-1" strike="noStrike">
                <a:solidFill>
                  <a:srgbClr val="ccecff"/>
                </a:solidFill>
                <a:latin typeface="Times New Roman"/>
              </a:rPr>
              <a:t>3. Вращение глазами по часовой стрелке и против; </a:t>
            </a:r>
            <a:br>
              <a:rPr sz="2400"/>
            </a:br>
            <a:r>
              <a:rPr b="0" i="1" lang="ru-RU" sz="2400" spc="-1" strike="noStrike">
                <a:solidFill>
                  <a:srgbClr val="ccecff"/>
                </a:solidFill>
                <a:latin typeface="Times New Roman"/>
              </a:rPr>
              <a:t>4. Закрыть глаза и представить по очереди цвета радуги как можно отчетливее; </a:t>
            </a:r>
            <a:br>
              <a:rPr sz="2400"/>
            </a:br>
            <a:r>
              <a:rPr b="0" i="1" lang="ru-RU" sz="2400" spc="-1" strike="noStrike">
                <a:solidFill>
                  <a:srgbClr val="ccecff"/>
                </a:solidFill>
                <a:latin typeface="Times New Roman"/>
              </a:rPr>
              <a:t>5. На доске до начала урока начертить какую-либо кривую (спираль, окружность, ломанную). Предлагается глазами « нарисовать» эти фигуры несколько раз в одном, а затем в другом направлен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sun"/>
          <p:cNvPicPr/>
          <p:nvPr/>
        </p:nvPicPr>
        <p:blipFill>
          <a:blip r:embed="rId1"/>
          <a:stretch/>
        </p:blipFill>
        <p:spPr>
          <a:xfrm>
            <a:off x="228600" y="609480"/>
            <a:ext cx="1066680" cy="965160"/>
          </a:xfrm>
          <a:prstGeom prst="rect">
            <a:avLst/>
          </a:prstGeom>
          <a:ln w="0">
            <a:noFill/>
          </a:ln>
        </p:spPr>
      </p:pic>
      <p:sp>
        <p:nvSpPr>
          <p:cNvPr id="134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8082-6486-4467-AE5C-F3D7D7B1E70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хема зрительно-двигательных траекто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IMAGE1"/>
          <p:cNvPicPr/>
          <p:nvPr/>
        </p:nvPicPr>
        <p:blipFill>
          <a:blip r:embed="rId1"/>
          <a:stretch/>
        </p:blipFill>
        <p:spPr>
          <a:xfrm>
            <a:off x="1403280" y="1700280"/>
            <a:ext cx="6624720" cy="369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sun"/>
          <p:cNvPicPr/>
          <p:nvPr/>
        </p:nvPicPr>
        <p:blipFill>
          <a:blip r:embed="rId2"/>
          <a:stretch/>
        </p:blipFill>
        <p:spPr>
          <a:xfrm>
            <a:off x="228600" y="609480"/>
            <a:ext cx="1066680" cy="96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066680" y="580536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ыполнить каждое упражнение 10-15 раз по порядку номе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7" descr="girlball"/>
          <p:cNvPicPr/>
          <p:nvPr/>
        </p:nvPicPr>
        <p:blipFill>
          <a:blip r:embed="rId3"/>
          <a:stretch/>
        </p:blipFill>
        <p:spPr>
          <a:xfrm>
            <a:off x="7858080" y="5500800"/>
            <a:ext cx="1009800" cy="961920"/>
          </a:xfrm>
          <a:prstGeom prst="rect">
            <a:avLst/>
          </a:prstGeom>
          <a:ln w="0">
            <a:noFill/>
          </a:ln>
        </p:spPr>
      </p:pic>
      <p:sp>
        <p:nvSpPr>
          <p:cNvPr id="141" name="Дата 6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82FD-8268-41E9-904C-EA12C66171F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7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1"/>
          <p:cNvGraphicFramePr/>
          <p:nvPr/>
        </p:nvGraphicFramePr>
        <p:xfrm>
          <a:off x="1714680" y="785880"/>
          <a:ext cx="6286320" cy="471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785880"/>
                    <a:ext cx="628632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238D-4652-4355-BDB4-F18EF9E4846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Нижний колонтитул 4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sun"/>
          <p:cNvPicPr/>
          <p:nvPr/>
        </p:nvPicPr>
        <p:blipFill>
          <a:blip r:embed="rId3"/>
          <a:stretch/>
        </p:blipFill>
        <p:spPr>
          <a:xfrm>
            <a:off x="228600" y="609480"/>
            <a:ext cx="1066680" cy="965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girlball"/>
          <p:cNvPicPr/>
          <p:nvPr/>
        </p:nvPicPr>
        <p:blipFill>
          <a:blip r:embed="rId4"/>
          <a:stretch/>
        </p:blipFill>
        <p:spPr>
          <a:xfrm>
            <a:off x="7858080" y="5500800"/>
            <a:ext cx="1009800" cy="96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2:02:09Z</dcterms:created>
  <dc:creator>user</dc:creator>
  <dc:description/>
  <dc:language>en-US</dc:language>
  <cp:lastModifiedBy>Admin</cp:lastModifiedBy>
  <dcterms:modified xsi:type="dcterms:W3CDTF">2012-02-27T12:11:15Z</dcterms:modified>
  <cp:revision>45</cp:revision>
  <dc:subject/>
  <dc:title>Приемы релаксации на уроках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