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8.gif" ContentType="image/gif"/>
  <Override PartName="/ppt/media/image18.jpeg" ContentType="image/jpeg"/>
  <Override PartName="/ppt/media/image19.wmf" ContentType="image/x-wmf"/>
  <Override PartName="/ppt/media/image20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855-2406-4F1D-8B3E-5A06AC5E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364-34D5-4A57-A4B5-C326BC3D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789-34FF-4E08-9B67-C14C9D41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7B4-B68C-4E2A-9C29-777F49E5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184A-F405-4631-B611-B883A9A1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D6CC-A180-448D-BD90-1E72A830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43FF-F585-4445-8C0B-38ECAD1C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DF0E-45DA-4760-93C9-857E87E6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DF6B-CDA2-4756-BFC8-D568C769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8015-4DF5-4248-A944-80966E66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9871-EC35-46E9-B1FD-27B64BF0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1BB-BBB1-46CF-9E9B-91AD1415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D850-4F05-4980-8F28-61CA01B7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DEEC-49AE-49FF-8E38-2521A71C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43F8-F97A-4C43-A8B0-7AD49DF0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E573-8F57-459A-8A2D-9C5E6426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D707-AC93-4410-892D-36DEDB7D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2BE-A17F-47DB-97F3-1B77E30D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2B4-A91D-45AB-89B0-99D73F58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825-F24B-4B2F-AEBD-DE14A1B7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5CE-6927-4EB6-B3DD-F8812FA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0C9-4A84-4979-8B47-565BDEFE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012-873B-4F69-B732-EA4EF792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875-4B73-46B3-9F32-331EB905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6752-D2EF-4485-9C6D-30B8211371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22DF-0756-4FBD-9FB0-85AAABE9C3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img0.liveinternet.ru%2Fimages%2Fattach%2Fc%2F0%2F47%2F141%2F47141001_Gerodot.jpg&amp;pageurl=http%3A%2F%2Fwww.li.ru%2Finterface%2Fpda%2F%3Fjid%3D31792%26friends%3D1&amp;id=39805359&amp;iid=7&amp;imgwidth=300&amp;imgheight=408&amp;imgsize=17629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7/594/47594781_1250460591_000_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476360" y="476280"/>
            <a:ext cx="597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ительское собр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1640" y="1773360"/>
            <a:ext cx="7416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: "Здоровье наших детей"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32446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имательно относитесь к формированию образно-словесных ассоциаций у детей, особенно касающихся отношений к здоров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йте у ребенка положительное отношение к физическому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мните, что ваше отношение к здоровью влияет на отношение ребенка к здоровью «Учи показом, а не рассказо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мните, что для закрепления привычки хвала взрослого имеет гораздо большее значение, чем пориц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8400" y="260280"/>
            <a:ext cx="774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Как сформировать у детей правильное отношение к своему здоровь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885080" y="4941720"/>
            <a:ext cx="1432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Рационально организованный режим школьника—эт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еба в школе, точно регламентированное время и продолжительность подготовки домашних заданий, а также творческой деятельности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язательный отдых на свежем воздух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аточный по продолжительности сон со строго установленным временем подъема и отхода ко с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улярное и полноценное пит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3737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ad3737"/>
                </a:solidFill>
                <a:latin typeface="Arial"/>
              </a:rPr>
              <a:t>Режимные моменты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Рисунок1"/>
          <p:cNvPicPr/>
          <p:nvPr/>
        </p:nvPicPr>
        <p:blipFill>
          <a:blip r:embed="rId1"/>
          <a:stretch/>
        </p:blipFill>
        <p:spPr>
          <a:xfrm>
            <a:off x="0" y="476280"/>
            <a:ext cx="2152800" cy="1463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Рисунок3"/>
          <p:cNvPicPr/>
          <p:nvPr/>
        </p:nvPicPr>
        <p:blipFill>
          <a:blip r:embed="rId2"/>
          <a:stretch/>
        </p:blipFill>
        <p:spPr>
          <a:xfrm>
            <a:off x="0" y="1844640"/>
            <a:ext cx="2124000" cy="172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Рисунок2"/>
          <p:cNvPicPr/>
          <p:nvPr/>
        </p:nvPicPr>
        <p:blipFill>
          <a:blip r:embed="rId3">
            <a:lum contrast="-18000"/>
          </a:blip>
          <a:stretch/>
        </p:blipFill>
        <p:spPr>
          <a:xfrm>
            <a:off x="0" y="350028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Рисунок4"/>
          <p:cNvPicPr/>
          <p:nvPr/>
        </p:nvPicPr>
        <p:blipFill>
          <a:blip r:embed="rId4"/>
          <a:stretch/>
        </p:blipFill>
        <p:spPr>
          <a:xfrm>
            <a:off x="0" y="5084640"/>
            <a:ext cx="2124000" cy="1773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86000" y="1052640"/>
            <a:ext cx="457200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бу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тренняя гигиеническая гимнастика(заряд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гиенические процед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тра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86d1e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Режимные моменты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итание дет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питание"/>
          <p:cNvPicPr/>
          <p:nvPr/>
        </p:nvPicPr>
        <p:blipFill>
          <a:blip r:embed="rId1"/>
          <a:stretch/>
        </p:blipFill>
        <p:spPr>
          <a:xfrm>
            <a:off x="0" y="189000"/>
            <a:ext cx="1870200" cy="666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286000" y="1557360"/>
            <a:ext cx="552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ый завтра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торой завтрак (на большой перемене в школ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д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ж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416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Результаты опроса детей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«Что желаете на обед?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2033640"/>
          <a:ext cx="914400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33640"/>
                    <a:ext cx="91440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58256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7740720" y="67320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7093080" y="1413000"/>
            <a:ext cx="1009440" cy="1009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7093080" y="51292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игры на воздухе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1268280"/>
            <a:ext cx="2124000" cy="1716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рисование"/>
          <p:cNvPicPr/>
          <p:nvPr/>
        </p:nvPicPr>
        <p:blipFill>
          <a:blip r:embed="rId2"/>
          <a:stretch/>
        </p:blipFill>
        <p:spPr>
          <a:xfrm>
            <a:off x="0" y="3141720"/>
            <a:ext cx="2136600" cy="1733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Рисунок8"/>
          <p:cNvPicPr/>
          <p:nvPr/>
        </p:nvPicPr>
        <p:blipFill>
          <a:blip r:embed="rId3"/>
          <a:stretch/>
        </p:blipFill>
        <p:spPr>
          <a:xfrm>
            <a:off x="0" y="5057640"/>
            <a:ext cx="2124000" cy="1800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201480" y="87480"/>
            <a:ext cx="520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Режимные моменты.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Отдых и учебные заня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1341360"/>
            <a:ext cx="4572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леобеденный отдых(сон для первоклассников и ослабленных детей—1ч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бывание на воздухе(1—1,5 ч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готовление уроков(35—40 мин занятий, перерыв на 5—10 ми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бывание на воздухе, активные игры(1—1,5ч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ободные занятия после ужина(занятия по интересам, чтение, просмотр телевизор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н(10,5—11 ч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Режим д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765000"/>
          <a:ext cx="9143640" cy="6332760"/>
        </p:xfrm>
        <a:graphic>
          <a:graphicData uri="http://schemas.openxmlformats.org/drawingml/2006/table">
            <a:tbl>
              <a:tblPr/>
              <a:tblGrid>
                <a:gridCol w="4549320"/>
                <a:gridCol w="459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уждение, гимнасти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трак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рога в школ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ые занятия в школе, второй завтрак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рога из школы (прогулка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е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обеденный отды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бывание на воздух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готовление уро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0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+ полдни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бывание на воздух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жин и свободные занят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>
                        <a:alpha val="81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b46d0">
                        <a:alpha val="81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4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711920" y="5013360"/>
            <a:ext cx="1432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Организация рабочего места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комнате ребенка нужно организовать учебное место. Над рабочим столом повесить режим дня, расписание уроков и правила поведения в коллектив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дь внимательным везде, где нужно проявить вним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а раза ни у кого ничего не прос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ябедничай, не наговаривай ни на 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отнимай чужого, но и свое не отдава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тиводействовать можешь, бить в ответ – н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овут играть – иди, не зовут – спроси разрешения играть вместе, это не сты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чаще говори: давай дружить, давай игра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ай вместе пойдем 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арайся быть аккурат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ни! Ты не лучше всех и не хуже всех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ы – неповторим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020000" y="4508640"/>
            <a:ext cx="2124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Рекомендации родителям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жим дня школьника должен быть построен с учетом его возраста и функциональных возможнос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жим нужно соблюдать точно и неукосни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льшая умственная нагрузка должна совпадать по времени с подъемом умственной активности ребенка (с 16ч. по 17ч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ем пищи всегда в одни и те же часы обеспечивает хороший аппетит и нормальное пищевар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оянство в соблюдении времени отхода ко сну способствует быстрому засыпанию, более продолжительному и глубокому ночному отдыху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жим дня ребенка с ослабленным здоровьем должен быть щадящим, с обязательным дневным сном и отдыхом на свежем воздух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забывайте чаще хвалить ребенка за малейший успех и поддерживать в нем уверенность в своих сил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08720" y="5805360"/>
            <a:ext cx="569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одот - древнегреческий исто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около 484 - около 430-420 гг. до н.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2060640"/>
            <a:ext cx="2571840" cy="3529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5280" y="435960"/>
            <a:ext cx="846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«Когда нет здоров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олчит мудрость, не может расцвести искусств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 играют си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бесполезно богатство и бессилен разум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91800" y="2347920"/>
            <a:ext cx="91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ая¸нормальная деятельность организм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полное физическое и психическое благополуч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00" y="407556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То или иное состояние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7280" y="587628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з Толкового словаря  С. И. Ожег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716280"/>
            <a:ext cx="2509920" cy="189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916360" y="476280"/>
            <a:ext cx="345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ь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По определению Всемирной организации</a:t>
            </a:r>
            <a:br>
              <a:rPr sz="3200"/>
            </a:b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здравоохранения</a:t>
            </a: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1116000" y="2924280"/>
            <a:ext cx="66960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лесного, душевного и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971640" y="3933720"/>
            <a:ext cx="68403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циального благополучия, а не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2"/>
          <p:cNvSpPr txBox="1"/>
          <p:nvPr/>
        </p:nvSpPr>
        <p:spPr>
          <a:xfrm>
            <a:off x="395280" y="5084640"/>
            <a:ext cx="856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лько отсутствие болезней или повреждений». </a:t>
            </a:r>
            <a:endParaRPr b="0" lang="en-US" sz="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3933720"/>
            <a:ext cx="2819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мат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1280" y="306864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сих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141720"/>
            <a:ext cx="24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0320" y="386064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равств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8360" y="1628640"/>
            <a:ext cx="2448000" cy="23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26920" y="1628640"/>
            <a:ext cx="1079640" cy="172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19640" y="1628640"/>
            <a:ext cx="865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00720" y="1484280"/>
            <a:ext cx="223200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917720" cy="1943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484360" y="404640"/>
            <a:ext cx="439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ь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14400" cy="1814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48080" cy="2232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2195640" y="0"/>
            <a:ext cx="480060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агаемые здоровь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3357720"/>
            <a:ext cx="40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следственн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5280" y="2781360"/>
            <a:ext cx="28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 жизн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859280" y="2708280"/>
            <a:ext cx="9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0%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859280" y="3357720"/>
            <a:ext cx="104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0 %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24000" y="4005360"/>
            <a:ext cx="4209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кружающая сре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4581360"/>
            <a:ext cx="3848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равоохран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932360" y="4005360"/>
            <a:ext cx="104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0 %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59280" y="4653000"/>
            <a:ext cx="104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0 %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обходимо создать благоприятный психологический климат в отношении ребенка со стороны всех членов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громную роль в адаптации к школе играет самооценка ребенка (чем ниже самооценка, тем больше трудностей у ребенка в школ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язательным является проявление родителями живого интереса к каждому прожитому школьному дню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пустимо применение физических мер наказания, запугивания, критики в адрес ребенка, особенно в присутствии посторонни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чень важно предоставить ребенку самостоятельность в учебной работе, но организовать обоснованный контроль учеб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обходимо развивать самоконтроль и самооценку ребенка. Поощрять ребенка не только за учебные успех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15920"/>
            <a:ext cx="842472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сихологические условия адаптации ребенка к школе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189000"/>
            <a:ext cx="856908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мпоненты здорового образа жизн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19640" y="2998800"/>
            <a:ext cx="2376360" cy="1873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0" y="2060640"/>
            <a:ext cx="264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алив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443640" y="1916280"/>
            <a:ext cx="22384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жим д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716280"/>
            <a:ext cx="1676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т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732720" y="3789360"/>
            <a:ext cx="181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гул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00360" y="1125360"/>
            <a:ext cx="327672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ические занят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71640" y="5157720"/>
            <a:ext cx="7067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приятная обстановка в семь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643280" y="2204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80000" y="2781000"/>
            <a:ext cx="79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4076640"/>
            <a:ext cx="11527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4581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340000" y="4149720"/>
            <a:ext cx="1440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771280" y="2924280"/>
            <a:ext cx="1008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7600" y="332640"/>
            <a:ext cx="676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Чтобы жить по правила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дорового образа жизни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81760" y="1988280"/>
            <a:ext cx="630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необходим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уметь управлять соб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917720" cy="1943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flipH="1">
            <a:off x="250560" y="4292640"/>
            <a:ext cx="24080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8:40:19Z</dcterms:created>
  <dc:creator>Olga</dc:creator>
  <dc:description/>
  <dc:language>en-US</dc:language>
  <cp:lastModifiedBy>Olga</cp:lastModifiedBy>
  <dcterms:modified xsi:type="dcterms:W3CDTF">2012-02-19T12:32:42Z</dcterms:modified>
  <cp:revision>4</cp:revision>
  <dc:subject/>
  <dc:title>Слайд 1</dc:title>
</cp:coreProperties>
</file>