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1AD-7AD5-4B03-A23D-B7725A0D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1D3-4B06-4C8B-BEBC-7C3E3CAF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83A-44FE-4F0F-A57A-F068AAB7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D19-B401-45F6-8142-4C518970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2515-E22F-48FF-B45B-DAE577AE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55F9-ABD2-4F0C-9653-EEDC069B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7650-16A8-4539-BC99-56F2DEED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6BD1-22E6-4CE8-B76F-80D4FD78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9035-7D60-41A4-AAEA-E777B4B4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71D9-7B47-47BA-AD12-E20256D5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25C4-0329-486E-B372-A605242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2A8-A45A-4C3A-8F7B-247B4110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0377-CDAB-4AB3-B2B7-4DCAE7B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519F-C08F-469F-BEBE-B160CF1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2CA5-2DB6-4A16-A053-1733ED06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490C-E847-45CE-AC43-04A00C9B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A82F-88E7-43FE-B922-61511379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407-1BCC-4361-828D-FE76BFA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4D7-F9B6-4C2A-9B8D-B095954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8CA-C35E-4045-8297-462794CF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95B-34B2-4A41-B2BA-B88FCA41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86F-A358-435F-A57F-2055232F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106-562B-4777-998C-CD0686B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010-2BB5-4545-A0A2-1ADA162D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23FC-03FE-4740-81C4-8329704C44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B176-A522-41DD-85C3-281793AA10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6697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СОДЕРЖАНИЕ ЗДОРОВЬЕСБЕРЕГАЮЩЕГО СОПРОВОЖДЕНИЯ В ОБРАЗОВАТЕЛЬНОМ ПРОЦЕСС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68000" y="4797000"/>
            <a:ext cx="6767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резентация учителя начальных классов МОУ СОШ №7 г.Конак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копинцевой Светланы Николае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237636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918720"/>
            <a:ext cx="754380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Monotype Corsiva"/>
              </a:rPr>
              <a:t>Общество и государство предъявляют системе образования социальный заказ на здоровую личность. Любой тип ОУ должен стать образовательно-оздоровительным. Главный критерий деятельности любого типа ОУ: «Образование не должно даваться ценой здоровья».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632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Одной из важнейших задач современной школы является содействие максимально полноценной реализации личностного потенциала ребенка, а одним из принципиальных условий для этого является уровень здоровья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95280" y="2781000"/>
            <a:ext cx="6481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месте с тем накапливается много данных о том, что сама образовательная среда выступает одним из существенных факторов риска здоровья детей. В связи с эти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создание здоровьесберегающей среды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в образовательном учреждении является необходимым условием для сохранения и укрепления здоровья учащихся. Осуществление этой деятельности и является непрерывным здор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овьесб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р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гающим с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ровождением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образовательного процесса, осуществляемого по нескольким направл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1893960" cy="2521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3719160"/>
            <a:ext cx="74898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роцесс формирования здоровьесберегающей среды следует понимать как систему условий, мероприятий и педагогических технологий, направленных на сохранение и оптимизацию ресурсных возможностей организма учащихся, поддержание высокой работоспособности и способствующих развитию физических, психических возможностей и социально здоровой личност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1614600" cy="18716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Условия для организации и проведения</a:t>
            </a: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ЗДОРОВЬЕСБЕРЕГАЮЩЕГО СОПРОВОЖДЕНИЯ В ОБРАЗОВАТЕЛЬНОМ ПРОЦЕССЕ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Первым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и одним из необходимых условий для организации и провед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доровьесберегающего сопровождения яв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наличие, в штате ОУ специалистов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: врача-педиатра, психолога, социолога, физиолога, педагога по культур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доровья, инструктора ЛФК, если позволяют возможности, логопеда и обязательно одного из завучей, выполняющего функции организатора и координатора оздоровительной работы в образовательных учрежд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24720" y="765000"/>
            <a:ext cx="140652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68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68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998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7543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Условия для организации и проведения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ЗДОРОВЬЕСБЕРЕГАЮЩЕГО СОПРОВОЖДЕНИЯ В ОБРАЗОВАТЕЛЬНОМ ПРОЦЕССЕ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35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Второ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направление деятельности 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научно-методическое обеспечени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здоровьесберегающего сопровождения. Все специалисты должны в своей работе опираться на нормативные документы, должностные обязанности, рекомендованные или рецензированные диагностические, коррекционные, развивающие, образовательные педагогические программы и технологии. Плановость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и системность всей оздоровительной деятельности возможны только при наличии общей программы «Здоровье» и перечисленных выше подпро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035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Третье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и одно из ведущих направлений - эт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поддержание в образовательном учреждении здоровьесберегающих условий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, включающи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- санитарно-гигиенические условия обучения, соответствующие нормам СанПиНа (воздушно-тепловой режим, световой режим, требования к школьной мебели и оборудованию, режиму обучения и расписанию); -соблюдение норм рационального питания в образовательном учрежде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оддержание оптимальной двигательной нагрузки во время обу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в шк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оответствие учебных нагрузок и учебных программ возрастно-половы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и индивидуальным психо-физиологическим особенностям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оздание здорового психологического климата в шко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5089680"/>
            <a:ext cx="2016360" cy="1768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447840"/>
            <a:ext cx="75438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Условия для организации и проведения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ЗДОРОВЬЕСБЕРЕГАЮЩЕГО СОПРОВОЖДЕНИЯ В ОБРАЗОВАТЕЛЬНОМ ПРОЦЕССЕ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0352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вертое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направление - это создание необходимой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материально-технической базы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, позволяющей осуществлять здоровьесберегающую деятельность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Оно включа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наличие необходимых помещений для проведения оздоровительной деятельности (медицинские кабинеты, кабинеты психолога, социолога, диагности­ческий кабинет, кабинет для занятий ЛФК, бассейн и др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оответствующее оборудование этих помещений, позволяющее применять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различные здоровьесберегающие техн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рограммно-техническое оснащение диагностической, развивающи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и коррекционно-реабилитацион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7640" y="2204640"/>
            <a:ext cx="40352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5.</a:t>
            </a: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1500" spc="-1" strike="noStrike">
                <a:solidFill>
                  <a:srgbClr val="ff0000"/>
                </a:solidFill>
                <a:latin typeface="Monotype Corsiva"/>
              </a:rPr>
              <a:t>Пятое </a:t>
            </a: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направление -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Monotype Corsiva"/>
              </a:rPr>
              <a:t>оздоровительно-профилактическое</a:t>
            </a: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. Оно содержит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различные мероприятия по повышению работоспособности, адаптивных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возможностей, общей резистентности организма детей посредство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закаливани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витаминизаци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фитооздоровлени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повышения двигательной активност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ионизации воздуха с помощью люстры Чижевского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А также систематическое проведение профилактики таких заболеваний, как: г миопи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плоскостопи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нарушений осанк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грипп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вредных привычек (злоупотребление алкоголем, ПАВ, курение и пр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518760"/>
            <a:ext cx="7543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Условия для организации и проведения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ЗДОРОВЬЕСБЕРЕГАЮЩЕГО СОПРОВОЖДЕНИЯ В ОБРАЗОВАТЕЛЬНОМ ПРОЦЕССЕ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40352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otype Corsiva"/>
              </a:rPr>
              <a:t>Шестое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направление заключается в осуществлени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психосоматического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г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otype Corsiva"/>
              </a:rPr>
              <a:t>рмоничного развития ребенка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в соответствии с возрастными и сенситивным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периодами индивидуального развития, под контролем и с участием всех специ­алистов, через различные развивающие программы (например, развитие физи­ческих качеств, развитие волевых качеств личности, развитие творческих способностей, развитие речи, ценностно-мотивационное развитие и др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3280" y="1988640"/>
            <a:ext cx="4035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Седьмо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направление 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организация и проведение мониторинга состояния здоровья и особенностей развития учащихся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. Мониторинг включает изучение и оценку показателей медико-физиолого-психолого-педагогическогостатуса школьника или воспитанника. Мониторинг может проводиться еже­годно с целью оценки индивидуального здоровья, особенностей развития или 2-3 раза в год с целью изучения адаптации к условиям обучения, и в целях оценки эффективности обучения и «физиологической цены»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Результаты мониторинга должны заноситься в базу данных, в паспорт здо­ровья или паспорт развития в бумажной или электрон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о результатам мониторинга происходит формирование индивидуальных заключений с рекомендациями при наличии нарушений здоровья и формиру­ются «группы риск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4699080"/>
            <a:ext cx="2159280" cy="2158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518760"/>
            <a:ext cx="7543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Условия для организации и проведения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ЗДОРОВЬЕСБЕРЕГАЮЩЕГО СОПРОВОЖДЕНИЯ В ОБРАЗОВАТЕЛЬНОМ ПРОЦЕССЕ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40352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Восьмо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направление деятельности - эт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коррекционно-реабилитационно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. Оно заключается в использовании физкультурно-оздоровительных, психо- коррекционных, физиотерапевтических и других мероприятий и средств, направленных на коррекцию имеющихся нарушений здоровья и реабилитацию после заболеваний детей и обучающихся. Это могут быть следующие средства; ЛФК, коррекция нарушений речи, массаж, дыхательная гимнастика, фитотерап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16360" y="2060640"/>
            <a:ext cx="4035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Monotype Corsiva"/>
              </a:rPr>
              <a:t>Девятое</a:t>
            </a:r>
            <a:r>
              <a:rPr b="1" lang="en-US" sz="1700" spc="-1" strike="noStrike">
                <a:solidFill>
                  <a:srgbClr val="000000"/>
                </a:solidFill>
                <a:latin typeface="Monotype Corsiva"/>
              </a:rPr>
              <a:t> -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Monotype Corsiva"/>
              </a:rPr>
              <a:t>образовательно-воспитательное</a:t>
            </a:r>
            <a:r>
              <a:rPr b="1" lang="en-US" sz="1700" spc="-1" strike="noStrike">
                <a:solidFill>
                  <a:srgbClr val="000000"/>
                </a:solidFill>
                <a:latin typeface="Monotype Corsiva"/>
              </a:rPr>
              <a:t> направление, которое предполагает реализацию в условиях образовательного учреждения обучения, воспитания и формирования у учащихся культуры здоровья и ЗОЖ в единстве ее по­знавательного, мотивационного и поведенческого компонентов. Осуществляется это направление оздоровительной деятельности через предметы стандарта образования, факультативные занятия, уроки вариативной части учебного плана и различные формы внеурочной деятельности (классные часы, праздники, лекции и др.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447840"/>
            <a:ext cx="75438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Условия для организации и проведения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ЗДОРОВЬЕСБЕРЕГАЮЩЕГО СОПРОВОЖДЕНИЯ В ОБРАЗОВАТЕЛЬНОМ ПРОЦЕССЕ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35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ff0000"/>
                </a:solidFill>
                <a:latin typeface="Monotype Corsiva"/>
              </a:rPr>
              <a:t>Десятое</a:t>
            </a: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 направление - это 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Monotype Corsiva"/>
              </a:rPr>
              <a:t>работа с педагогическим коллективом</a:t>
            </a: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, направленная н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повышение квалификации учителей по вопросам возрастной психологии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и физиологи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обучение различным здоровьесберегаюшим технология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Monotype Corsiva"/>
              </a:rPr>
              <a:t>Одиннадцатое</a:t>
            </a: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 направление - 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Monotype Corsiva"/>
              </a:rPr>
              <a:t>работа с родителями</a:t>
            </a: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, которая заключается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в просвещении их в области здоровья и здорового образа жизни и привлечение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к совместной оздоровительной деятель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16360" y="2060640"/>
            <a:ext cx="4035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Monotype Corsiva"/>
              </a:rPr>
              <a:t>Двенадцатое </a:t>
            </a: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направление - осуществление вневедомственных связей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данного образовательного учреждения по вопросам сохранения и укрепления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Monotype Corsiva"/>
              </a:rPr>
              <a:t>здоровья детей и воспитанников и, в целях получения квалифицированной научно-методической помощи, по вопросам здоровьесберегающей деятельно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049480" cy="2665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8:27:27Z</dcterms:created>
  <dc:creator>я</dc:creator>
  <dc:description/>
  <dc:language>en-US</dc:language>
  <cp:lastModifiedBy>я</cp:lastModifiedBy>
  <dcterms:modified xsi:type="dcterms:W3CDTF">2007-06-18T07:55:09Z</dcterms:modified>
  <cp:revision>4</cp:revision>
  <dc:subject/>
  <dc:title>СОДЕРЖАНИЕ ЗДОРОВЬЕСБЕРЕГАЮЩЕГО СОПРОВОЖДЕНИЯ В ОБРАЗОВАТЕЛЬНОМ ПРОЦЕССЕ</dc:title>
</cp:coreProperties>
</file>