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11.jpeg" ContentType="image/jpeg"/>
  <Override PartName="/ppt/media/image9.jpeg" ContentType="image/jpeg"/>
  <Override PartName="/ppt/media/image28.gif" ContentType="image/gif"/>
  <Override PartName="/ppt/media/image14.jpeg" ContentType="image/jpeg"/>
  <Override PartName="/ppt/media/image30.gif" ContentType="image/gif"/>
  <Override PartName="/ppt/media/image6.gif" ContentType="image/gif"/>
  <Override PartName="/ppt/media/image2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media/image5.gif" ContentType="image/gif"/>
  <Override PartName="/ppt/media/image1.wmf" ContentType="image/x-wmf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24.gif" ContentType="image/gif"/>
  <Override PartName="/ppt/media/image20.wmf" ContentType="image/x-wmf"/>
  <Override PartName="/ppt/media/image19.wmf" ContentType="image/x-wmf"/>
  <Override PartName="/ppt/media/image10.jpeg" ContentType="image/jpeg"/>
  <Override PartName="/ppt/media/image21.gif" ContentType="image/gif"/>
  <Override PartName="/ppt/media/image22.png" ContentType="image/png"/>
  <Override PartName="/ppt/media/image23.jpeg" ContentType="image/jpeg"/>
  <Override PartName="/ppt/media/image29.gif" ContentType="image/gi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38F-92C0-4ED4-92C4-74DB74AD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5EE-39DF-48F4-A76E-94CE62EB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827-3BF0-40B2-9F60-FD65AE8C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F25-2691-44B1-A380-B89C82B3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D73-3631-4498-9875-A7B576E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088-6B25-4078-9AAF-C626DBC8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744-92D1-464D-87AD-D947A4E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60E-9D93-4A5D-92E6-499AAED9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974-93F0-4562-98D2-3CC452EF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CDD-04BB-4323-ACD9-7C2605E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F76-E65B-47C5-B894-222A661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B49-D537-4690-8FDA-0B4B6BD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E95-138E-4B9E-9724-C79271EA2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447920"/>
            <a:ext cx="85341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Игр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Всё обо всём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81080" y="3809880"/>
            <a:ext cx="4724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имнастика для гл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ransition advTm="1000"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2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13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154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36576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14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760" y="3645000"/>
            <a:ext cx="7632720" cy="14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743200"/>
            <a:ext cx="1981080" cy="7826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104760 h 782640"/>
              <a:gd name="textAreaBottom" fmla="*/ 677880 h 78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164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6056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292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0056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128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40560" y="35956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8964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82000" y="35956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2964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20920" y="35956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3280" y="35956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743200"/>
            <a:ext cx="2133360" cy="77940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104400 h 779400"/>
              <a:gd name="textAreaBottom" fmla="*/ 675000 h 77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828800" cy="85572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14480 h 855720"/>
              <a:gd name="textAreaBottom" fmla="*/ 7412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657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7   16   20    19  23   22   26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249640" cy="157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057400" y="9144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должи ряд чис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00600" cy="378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9600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91636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47636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236000" y="580860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8405640" y="5808600"/>
            <a:ext cx="1476720" cy="933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3280" y="4724280"/>
            <a:ext cx="57636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4724280"/>
            <a:ext cx="5760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4724280"/>
            <a:ext cx="5760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6000" y="4724280"/>
            <a:ext cx="5760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4724280"/>
            <a:ext cx="57636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724280"/>
            <a:ext cx="5760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839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Метро, кенгуру, кино, пальто, кашне, шоссе, шимпанзе, кафе, домино, какаду, фортепиано, пенс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57800"/>
            <a:ext cx="152388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04920" y="380880"/>
            <a:ext cx="4952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читайте правильно 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04920"/>
            <a:ext cx="4203720" cy="60958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На какой сигнал светофора можно переходить улиц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акие существуют правила перехода улицы, где нет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де нужно стоять в ожидании троллейбуса, автобу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Что означает красный сигнал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 каком возрасте разрешается езда на велосипеде по улицам и дорог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ак необходимо обходить стоящий на остановке трамв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43352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371600" cy="213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29000" y="4419720"/>
            <a:ext cx="189864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870680" y="4419720"/>
            <a:ext cx="971640" cy="21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28600" y="3049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Мимикой и жестами покаж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то обозначают 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90512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е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не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в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ятё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   РЕ  ТА  ГИЕ  РО  БЯ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ДРА  ВАС  ВЛЯ  ПО  Ю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 КОМ  ПРАЗ  Д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ЖИ  ВАС  ЕТ  ДА  ПРИЗ СЮ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сё обо всё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397160"/>
          <a:ext cx="8382240" cy="509580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ccff99"/>
                        </a:gs>
                        <a:gs pos="100000">
                          <a:srgbClr val="99ff6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44" name=""/>
          <p:cNvSpPr txBox="1"/>
          <p:nvPr/>
        </p:nvSpPr>
        <p:spPr>
          <a:xfrm>
            <a:off x="533520" y="182880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еремен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160020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уть к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доровью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72200" y="1600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гадки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шут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5880" y="32767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есёла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рифмети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35053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аламбу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2680" y="525780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ветофори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5880" y="51055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ойми мен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525780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Угадай-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1401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19764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43400" y="4419720"/>
            <a:ext cx="17874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191120"/>
            <a:ext cx="1846440" cy="213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90656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00600" y="533520"/>
            <a:ext cx="165888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2860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Наши любимые животные"/>
          <p:cNvPicPr/>
          <p:nvPr/>
        </p:nvPicPr>
        <p:blipFill>
          <a:blip r:embed="rId1"/>
          <a:stretch/>
        </p:blipFill>
        <p:spPr>
          <a:xfrm>
            <a:off x="1447920" y="2971800"/>
            <a:ext cx="1314360" cy="140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Наши любимые животные"/>
          <p:cNvPicPr/>
          <p:nvPr/>
        </p:nvPicPr>
        <p:blipFill>
          <a:blip r:embed="rId2"/>
          <a:stretch/>
        </p:blipFill>
        <p:spPr>
          <a:xfrm>
            <a:off x="3124080" y="990720"/>
            <a:ext cx="4021200" cy="5541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952880"/>
            <a:ext cx="2438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зн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Наши любимые животные"/>
          <p:cNvPicPr/>
          <p:nvPr/>
        </p:nvPicPr>
        <p:blipFill>
          <a:blip r:embed="rId1"/>
          <a:stretch/>
        </p:blipFill>
        <p:spPr>
          <a:xfrm>
            <a:off x="304920" y="3124080"/>
            <a:ext cx="2290680" cy="168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Наши любимые животные"/>
          <p:cNvPicPr/>
          <p:nvPr/>
        </p:nvPicPr>
        <p:blipFill>
          <a:blip r:embed="rId2"/>
          <a:stretch/>
        </p:blipFill>
        <p:spPr>
          <a:xfrm>
            <a:off x="2209680" y="1752480"/>
            <a:ext cx="6710400" cy="4465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Наши любимые животные"/>
          <p:cNvPicPr/>
          <p:nvPr/>
        </p:nvPicPr>
        <p:blipFill>
          <a:blip r:embed="rId1"/>
          <a:stretch/>
        </p:blipFill>
        <p:spPr>
          <a:xfrm>
            <a:off x="457200" y="2666880"/>
            <a:ext cx="2205000" cy="164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Наши любимые животные"/>
          <p:cNvPicPr/>
          <p:nvPr/>
        </p:nvPicPr>
        <p:blipFill>
          <a:blip r:embed="rId2"/>
          <a:stretch/>
        </p:blipFill>
        <p:spPr>
          <a:xfrm>
            <a:off x="2895480" y="1371600"/>
            <a:ext cx="5761080" cy="5046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блю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Наши любимые животные"/>
          <p:cNvPicPr/>
          <p:nvPr/>
        </p:nvPicPr>
        <p:blipFill>
          <a:blip r:embed="rId1"/>
          <a:stretch/>
        </p:blipFill>
        <p:spPr>
          <a:xfrm>
            <a:off x="457200" y="2286000"/>
            <a:ext cx="2349360" cy="212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Наши любимые животные"/>
          <p:cNvPicPr/>
          <p:nvPr/>
        </p:nvPicPr>
        <p:blipFill>
          <a:blip r:embed="rId2"/>
          <a:stretch/>
        </p:blipFill>
        <p:spPr>
          <a:xfrm>
            <a:off x="3200400" y="21906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Наши любимые животные"/>
          <p:cNvPicPr/>
          <p:nvPr/>
        </p:nvPicPr>
        <p:blipFill>
          <a:blip r:embed="rId1"/>
          <a:stretch/>
        </p:blipFill>
        <p:spPr>
          <a:xfrm>
            <a:off x="838080" y="1752480"/>
            <a:ext cx="1658880" cy="150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Наши любимые животные"/>
          <p:cNvPicPr/>
          <p:nvPr/>
        </p:nvPicPr>
        <p:blipFill>
          <a:blip r:embed="rId2"/>
          <a:stretch/>
        </p:blipFill>
        <p:spPr>
          <a:xfrm>
            <a:off x="3352680" y="1523880"/>
            <a:ext cx="4532400" cy="5105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месяц короче все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ли кулик прикусить себе язы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мы смотрим на цифру 2, а говорим 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человека одно, у ворона два, у медведя ни од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гребешком никто не чеш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930240" cy="99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38080" y="990720"/>
            <a:ext cx="1038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1067040" cy="95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924680" y="5486400"/>
            <a:ext cx="105120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05520" y="4876920"/>
            <a:ext cx="361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omic Sans MS"/>
              </a:rPr>
              <a:t>О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00ff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 4</cp:lastModifiedBy>
  <dcterms:modified xsi:type="dcterms:W3CDTF">2012-01-30T11:16:4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