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4.png" ContentType="image/png"/>
  <Override PartName="/ppt/media/image11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6.jpeg" ContentType="image/jpeg"/>
  <Override PartName="/ppt/media/image5.jpeg" ContentType="image/jpeg"/>
  <Override PartName="/ppt/media/image32.jpeg" ContentType="image/jpeg"/>
  <Override PartName="/ppt/media/image35.png" ContentType="image/pn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20.png" ContentType="image/png"/>
  <Override PartName="/ppt/media/image28.png" ContentType="image/png"/>
  <Override PartName="/ppt/media/image7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6.png" ContentType="image/png"/>
  <Override PartName="/ppt/media/image18.jpeg" ContentType="image/jpeg"/>
  <Override PartName="/ppt/media/image13.jpeg" ContentType="image/jpeg"/>
  <Override PartName="/ppt/media/image34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0.png" ContentType="image/png"/>
  <Override PartName="/ppt/media/image3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7D39-13B1-424D-B64F-61AC885EA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144A-B10F-40F9-81A7-82C216210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0CE4-7CB3-4FAD-BC72-789A8BCE0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E693-8B67-473B-967D-4C2CDE932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226E-14D8-498C-8C5A-0C575A7C3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2EFC-DB2D-4B1E-990C-89E9D51F8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E5AD-2185-4E8E-ABDC-A2974805A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5D57-98E0-407E-86C6-0441B73F0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8356-62AC-42E1-BD6D-9D8CA9518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27A1-534D-468F-9A76-8308D78E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1011-3CCF-483E-B2A8-3F3EABA2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17A3-08AC-4423-8A54-1CE51A3E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2d0"/>
            </a:gs>
            <a:gs pos="50000">
              <a:srgbClr val="d1d5d1"/>
            </a:gs>
            <a:gs pos="100000">
              <a:srgbClr val="d6b2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16ED7-6164-4B67-8467-503EC32E70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image" Target="../media/image24.pn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6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9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2.png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60;&#1072;&#1081;&#1083;:Gold&amp;kadr.jpg&amp;filetimestamp=2007120317545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2d0"/>
            </a:gs>
            <a:gs pos="50000">
              <a:srgbClr val="d1d5d1"/>
            </a:gs>
            <a:gs pos="100000">
              <a:srgbClr val="d6b2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резентация внеклассного мероприятия по математике на тему: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Золотое сечение»</a:t>
            </a:r>
            <a:br>
              <a:rPr sz="32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404640"/>
            <a:ext cx="446544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униципальное бюджетное 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станская средняя общеобразовательная шко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55640" y="3573360"/>
            <a:ext cx="8512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полнили: Ученицы 7 «Б» класса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Русова Марина, Рыбакова Татьяна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Руководитель: учитель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математики Лебедева Анна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Владимировн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348000" y="630864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2 год, п. У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68360" y="4005360"/>
            <a:ext cx="2303640" cy="20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2d0"/>
            </a:gs>
            <a:gs pos="50000">
              <a:srgbClr val="d1d5d1"/>
            </a:gs>
            <a:gs pos="100000">
              <a:srgbClr val="d6b2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ртрет Моны Лизы (Джоконда) привлекает тем, что композиция рисунка построена на "золотых треугольниках", точнее на треугольниках, являющихся кусками правильного звездчатого пятиугольни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88000" y="1916280"/>
            <a:ext cx="36716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дним из высших достижений классического греческого искусства может служить статуя Дорифора, изваянная Поликтетом в V веке до н.э. Эта статуя считается наилучшим примером для анализа пропорций идеального человеческого тела, и напрямую связана с  Золотым сечени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508720" y="3645000"/>
            <a:ext cx="2527200" cy="2808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1116000" y="260280"/>
            <a:ext cx="668016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олотое сечение в  изобразитнльном искусстве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7" name=""/>
          <p:cNvSpPr/>
          <p:nvPr/>
        </p:nvSpPr>
        <p:spPr>
          <a:xfrm rot="10800000">
            <a:off x="3850920" y="6453000"/>
            <a:ext cx="360360" cy="215640"/>
          </a:xfrm>
          <a:custGeom>
            <a:avLst/>
            <a:gdLst>
              <a:gd name="textAreaLeft" fmla="*/ 0 w 360360"/>
              <a:gd name="textAreaRight" fmla="*/ 360720 w 36036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Рисунок 20" descr="http://www.tech-to-life.com/Statii/liza.jpg"/>
          <p:cNvPicPr/>
          <p:nvPr/>
        </p:nvPicPr>
        <p:blipFill>
          <a:blip r:embed="rId2"/>
          <a:stretch/>
        </p:blipFill>
        <p:spPr>
          <a:xfrm>
            <a:off x="755640" y="2852640"/>
            <a:ext cx="2665440" cy="38862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Картинка 17 из 2171"/>
          <p:cNvPicPr/>
          <p:nvPr/>
        </p:nvPicPr>
        <p:blipFill>
          <a:blip r:embed="rId3"/>
          <a:stretch/>
        </p:blipFill>
        <p:spPr>
          <a:xfrm>
            <a:off x="755640" y="2852640"/>
            <a:ext cx="26416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2" dur="3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3000"/>
                            </p:stCondLst>
                            <p:childTnLst>
                              <p:par>
                                <p:cTn id="27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6" dur="3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0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9000"/>
                            </p:stCondLst>
                            <p:childTnLst>
                              <p:par>
                                <p:cTn id="28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4" dur="5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4000"/>
                            </p:stCondLst>
                            <p:childTnLst>
                              <p:par>
                                <p:cTn id="28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8" dur="3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7000"/>
                            </p:stCondLst>
                            <p:childTnLst>
                              <p:par>
                                <p:cTn id="29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2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2d0"/>
            </a:gs>
            <a:gs pos="50000">
              <a:srgbClr val="d1d5d1"/>
            </a:gs>
            <a:gs pos="100000">
              <a:srgbClr val="d6b2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 большинства улиток, которые обладают раковинами, раковина растет в форме логарифмической спирали, которая точно соответствуют "золотой пропорции»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Длина лепестков тоже подчинена золотой пропорци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пиралевидную форму можно увидеть и в расположении семян подсолнечника, и в шишках сосны, в ананасах, кактусах, строении лепестков роз и т.д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Картинка 6 из 1230"/>
          <p:cNvPicPr/>
          <p:nvPr/>
        </p:nvPicPr>
        <p:blipFill>
          <a:blip r:embed="rId1"/>
          <a:stretch/>
        </p:blipFill>
        <p:spPr>
          <a:xfrm>
            <a:off x="468360" y="2997360"/>
            <a:ext cx="2376360" cy="18032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 rot="10800000">
            <a:off x="3708000" y="6524640"/>
            <a:ext cx="360360" cy="216000"/>
          </a:xfrm>
          <a:custGeom>
            <a:avLst/>
            <a:gdLst>
              <a:gd name="textAreaLeft" fmla="*/ 0 w 360360"/>
              <a:gd name="textAreaRight" fmla="*/ 360720 w 360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Рисунок 7" descr="http://www.tech-to-life.com/Statii/rakushka.jpg"/>
          <p:cNvPicPr/>
          <p:nvPr/>
        </p:nvPicPr>
        <p:blipFill>
          <a:blip r:embed="rId2"/>
          <a:stretch/>
        </p:blipFill>
        <p:spPr>
          <a:xfrm>
            <a:off x="2484360" y="4437000"/>
            <a:ext cx="2016360" cy="186840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47" descr="http://www.tech-to-life.com/Statii/golden-plant.gif"/>
          <p:cNvPicPr/>
          <p:nvPr/>
        </p:nvPicPr>
        <p:blipFill>
          <a:blip r:embed="rId3"/>
          <a:stretch/>
        </p:blipFill>
        <p:spPr>
          <a:xfrm>
            <a:off x="5003640" y="2492280"/>
            <a:ext cx="3745080" cy="87624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11" descr="http://www.tech-to-life.com/Statii/shishki.jpg"/>
          <p:cNvPicPr/>
          <p:nvPr/>
        </p:nvPicPr>
        <p:blipFill>
          <a:blip r:embed="rId4"/>
          <a:stretch/>
        </p:blipFill>
        <p:spPr>
          <a:xfrm>
            <a:off x="7596360" y="5300640"/>
            <a:ext cx="1276200" cy="137160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12" descr="http://www.tech-to-life.com/Statii/rozakit.gif"/>
          <p:cNvPicPr/>
          <p:nvPr/>
        </p:nvPicPr>
        <p:blipFill>
          <a:blip r:embed="rId5"/>
          <a:stretch/>
        </p:blipFill>
        <p:spPr>
          <a:xfrm>
            <a:off x="6516720" y="5373720"/>
            <a:ext cx="1352520" cy="135252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10" descr="http://www.tech-to-life.com/Statii/roga.jpg"/>
          <p:cNvPicPr/>
          <p:nvPr/>
        </p:nvPicPr>
        <p:blipFill>
          <a:blip r:embed="rId6"/>
          <a:stretch/>
        </p:blipFill>
        <p:spPr>
          <a:xfrm>
            <a:off x="4932360" y="5373720"/>
            <a:ext cx="1944720" cy="13460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826920" y="260280"/>
            <a:ext cx="762336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деальные пропорции в природе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9" dur="3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3000"/>
                            </p:stCondLst>
                            <p:childTnLst>
                              <p:par>
                                <p:cTn id="30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3" dur="3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6000"/>
                            </p:stCondLst>
                            <p:childTnLst>
                              <p:par>
                                <p:cTn id="30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7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9000"/>
                            </p:stCondLst>
                            <p:childTnLst>
                              <p:par>
                                <p:cTn id="30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1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5" dur="3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3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9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8000"/>
                            </p:stCondLst>
                            <p:childTnLst>
                              <p:par>
                                <p:cTn id="3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3" dur="3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21000"/>
                            </p:stCondLst>
                            <p:childTnLst>
                              <p:par>
                                <p:cTn id="3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7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4000"/>
                            </p:stCondLst>
                            <p:childTnLst>
                              <p:par>
                                <p:cTn id="3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1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27000"/>
                            </p:stCondLst>
                            <p:childTnLst>
                              <p:par>
                                <p:cTn id="3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5" dur="3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2d0"/>
            </a:gs>
            <a:gs pos="50000">
              <a:srgbClr val="d1d5d1"/>
            </a:gs>
            <a:gs pos="100000">
              <a:srgbClr val="d6b2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се кости человека выдержаны в пропорции золотого сечения</a:t>
            </a:r>
            <a:r>
              <a:rPr b="0" lang="en-US" sz="1600" spc="-1" strike="noStrike">
                <a:solidFill>
                  <a:srgbClr val="00ff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порции различных частей нашего тела составляют число, очень близкое к золотому сечению. Если эти пропорции совпадают с формулой золотого сечения, то внешность или тело человека считается идеально сложенны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пропорциональное ли твое тело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900000" y="189000"/>
            <a:ext cx="729612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натомия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2448000" cy="5067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4859280" y="6308640"/>
            <a:ext cx="432000" cy="405000"/>
          </a:xfrm>
          <a:prstGeom prst="leftArrow">
            <a:avLst>
              <a:gd name="adj1" fmla="val 50000"/>
              <a:gd name="adj2" fmla="val 2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2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6000"/>
                            </p:stCondLst>
                            <p:childTnLst>
                              <p:par>
                                <p:cTn id="35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3" dur="3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9000"/>
                            </p:stCondLst>
                            <p:childTnLst>
                              <p:par>
                                <p:cTn id="35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7" dur="3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0" dur="3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2d0"/>
            </a:gs>
            <a:gs pos="50000">
              <a:srgbClr val="d1d5d1"/>
            </a:gs>
            <a:gs pos="100000">
              <a:srgbClr val="d6b2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кружающий мир многообразе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имметрия используется при описании математических понятий, физических явлений и процессов. Различных объектов живой и неживой природы, предметов искус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771640" y="189000"/>
            <a:ext cx="309564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имметрия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1" name="" descr="Картинка 8 из 105353"/>
          <p:cNvPicPr/>
          <p:nvPr/>
        </p:nvPicPr>
        <p:blipFill>
          <a:blip r:embed="rId1"/>
          <a:stretch/>
        </p:blipFill>
        <p:spPr>
          <a:xfrm>
            <a:off x="5651640" y="1413000"/>
            <a:ext cx="2879640" cy="23796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Картинка 83 из 105353"/>
          <p:cNvPicPr/>
          <p:nvPr/>
        </p:nvPicPr>
        <p:blipFill>
          <a:blip r:embed="rId2"/>
          <a:stretch/>
        </p:blipFill>
        <p:spPr>
          <a:xfrm>
            <a:off x="5724360" y="4076640"/>
            <a:ext cx="3024360" cy="22734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564000" y="6453360"/>
            <a:ext cx="431640" cy="404640"/>
          </a:xfrm>
          <a:prstGeom prst="leftArrow">
            <a:avLst>
              <a:gd name="adj1" fmla="val 50000"/>
              <a:gd name="adj2" fmla="val 2666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7" dur="3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3000"/>
                            </p:stCondLst>
                            <p:childTnLst>
                              <p:par>
                                <p:cTn id="3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1" dur="3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4" dur="3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6000"/>
                            </p:stCondLst>
                            <p:childTnLst>
                              <p:par>
                                <p:cTn id="37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8" dur="3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9000"/>
                            </p:stCondLst>
                            <p:childTnLst>
                              <p:par>
                                <p:cTn id="38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2" dur="3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2d0"/>
            </a:gs>
            <a:gs pos="50000">
              <a:srgbClr val="d1d5d1"/>
            </a:gs>
            <a:gs pos="100000">
              <a:srgbClr val="d6b2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рассмотреть правильный пятиугольник , то увидим, что он буквально "заполнен" золотым сечением, так: </a:t>
            </a:r>
            <a:br>
              <a:rPr sz="1800"/>
            </a:br>
            <a:r>
              <a:rPr b="0" lang="ru-RU" sz="1800" spc="-1" strike="noStrike">
                <a:solidFill>
                  <a:srgbClr val="00ff00"/>
                </a:solidFill>
                <a:latin typeface="Arial"/>
              </a:rPr>
              <a:t>  </a:t>
            </a:r>
            <a:br>
              <a:rPr sz="1800"/>
            </a:br>
            <a:r>
              <a:rPr b="0" lang="ru-RU" sz="18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116000" y="2852640"/>
            <a:ext cx="3024360" cy="7923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Правильный пятиугольник"/>
          <p:cNvPicPr/>
          <p:nvPr/>
        </p:nvPicPr>
        <p:blipFill>
          <a:blip r:embed="rId2"/>
          <a:stretch/>
        </p:blipFill>
        <p:spPr>
          <a:xfrm>
            <a:off x="5076720" y="2492280"/>
            <a:ext cx="3024360" cy="29941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>
            <a:off x="1187280" y="333360"/>
            <a:ext cx="6553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ентагональная симметр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9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3000"/>
                            </p:stCondLst>
                            <p:childTnLst>
                              <p:par>
                                <p:cTn id="39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3" dur="3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6000"/>
                            </p:stCondLst>
                            <p:childTnLst>
                              <p:par>
                                <p:cTn id="39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7" dur="3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9000"/>
                            </p:stCondLst>
                            <p:childTnLst>
                              <p:par>
                                <p:cTn id="39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1" dur="3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2d0"/>
            </a:gs>
            <a:gs pos="50000">
              <a:srgbClr val="d1d5d1"/>
            </a:gs>
            <a:gs pos="100000">
              <a:srgbClr val="d6b2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нтагональная симметрия встречается только в живой природе и является отличительной чертой саморегулирующихся систем. Например, в кристаллах, двойная спираль ДН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поперечном сече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076720" y="1700280"/>
            <a:ext cx="2216160" cy="250488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13" descr="http://www.tech-to-life.com/Statii/dnk.jpg"/>
          <p:cNvPicPr/>
          <p:nvPr/>
        </p:nvPicPr>
        <p:blipFill>
          <a:blip r:embed="rId2"/>
          <a:stretch/>
        </p:blipFill>
        <p:spPr>
          <a:xfrm>
            <a:off x="2340000" y="4653000"/>
            <a:ext cx="2305080" cy="170352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15" descr="http://www.tech-to-life.com/Statii/snow1.jpg"/>
          <p:cNvPicPr/>
          <p:nvPr/>
        </p:nvPicPr>
        <p:blipFill>
          <a:blip r:embed="rId3"/>
          <a:stretch/>
        </p:blipFill>
        <p:spPr>
          <a:xfrm>
            <a:off x="6659640" y="4508640"/>
            <a:ext cx="1904760" cy="19047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4859280" y="6453360"/>
            <a:ext cx="432000" cy="404640"/>
          </a:xfrm>
          <a:prstGeom prst="leftArrow">
            <a:avLst>
              <a:gd name="adj1" fmla="val 50000"/>
              <a:gd name="adj2" fmla="val 2669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8" dur="3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3000"/>
                            </p:stCondLst>
                            <p:childTnLst>
                              <p:par>
                                <p:cTn id="41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2" dur="3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6000"/>
                            </p:stCondLst>
                            <p:childTnLst>
                              <p:par>
                                <p:cTn id="41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6" dur="3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9000"/>
                            </p:stCondLst>
                            <p:childTnLst>
                              <p:par>
                                <p:cTn id="4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0" dur="3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2d0"/>
            </a:gs>
            <a:gs pos="50000">
              <a:srgbClr val="d1d5d1"/>
            </a:gs>
            <a:gs pos="100000">
              <a:srgbClr val="d6b2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оверь, пропорциональное ли твое тел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Если принять центром человеческого тела точку пупа, а расстояние между ступней человека и точкой пупа за единицу измерения, то рост человека эквивалентен числу 1.618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асстояние от уровня плеча до макушки головы и размера головы равно 1:1.618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асстояние от точки пупа до макушки головы и от уровня плеча до макушки головы равно 1:1.618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асстояние точки пупа до коленей и от коленей до ступней равно 1:1.618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асстояние от кончика подбородка до кончика верхней губы и от кончика верхней губы до ноздрей равно 1:1.618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обственно точное наличие золотой пропорции в лице человека и есть идеал красоты для человеческого взора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асстояние от кончика подбородка до верхней линии бровей и от верхней линии бровей до макушки равно 1:1.618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асстояние от кончика подбородка до верхней линии бровей и от верхней линии бровей до макушки равно 1:1.618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ысота лица / ширина лица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Центральная точка соединения губ д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снования носа / длина носа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ысота лица / расстояние от конч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дбородка до центральной точки соединения губ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Ширина рта / ширина носа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Ширина носа / расстояние между ноздрями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асстояние между зрачками / расстоя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ежду бровями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588000" y="4365720"/>
            <a:ext cx="2292480" cy="24922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3995640" y="6453360"/>
            <a:ext cx="432000" cy="404640"/>
          </a:xfrm>
          <a:prstGeom prst="leftArrow">
            <a:avLst>
              <a:gd name="adj1" fmla="val 50000"/>
              <a:gd name="adj2" fmla="val 2669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4400"/>
                            </p:stCondLst>
                            <p:childTnLst>
                              <p:par>
                                <p:cTn id="43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6400"/>
                            </p:stCondLst>
                            <p:childTnLst>
                              <p:par>
                                <p:cTn id="43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8400"/>
                            </p:stCondLst>
                            <p:childTnLst>
                              <p:par>
                                <p:cTn id="44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0400"/>
                            </p:stCondLst>
                            <p:childTnLst>
                              <p:par>
                                <p:cTn id="45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2400"/>
                            </p:stCondLst>
                            <p:childTnLst>
                              <p:par>
                                <p:cTn id="46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2d0"/>
            </a:gs>
            <a:gs pos="50000">
              <a:srgbClr val="d1d5d1"/>
            </a:gs>
            <a:gs pos="100000">
              <a:srgbClr val="d6b2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статочно лишь приблизить сейчас вашу ладонь к себе и внимательно посмотреть на указательный палец, и вы сразу же найдете в нем формулу золотого сечения (проверьте пропорционально ли ваше тело?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Рисунок 4" descr="http://www.tech-to-life.com/Statii/ruka.gif"/>
          <p:cNvPicPr/>
          <p:nvPr/>
        </p:nvPicPr>
        <p:blipFill>
          <a:blip r:embed="rId1"/>
          <a:stretch/>
        </p:blipFill>
        <p:spPr>
          <a:xfrm>
            <a:off x="5364000" y="1773360"/>
            <a:ext cx="33735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9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2000"/>
                            </p:stCondLst>
                            <p:childTnLst>
                              <p:par>
                                <p:cTn id="47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3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2d0"/>
            </a:gs>
            <a:gs pos="50000">
              <a:srgbClr val="d1d5d1"/>
            </a:gs>
            <a:gs pos="100000">
              <a:srgbClr val="d6b2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ждый палец нашей руки состоит из трех фаланг. Сумма двух первых фаланг пальца в соотношении со всей длиной пальца и дает число золотого сечения (за исключением большого пальца)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роме того, соотношение между средним пальцем и мизинцем также равно числу золотого сечения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900000" y="3500280"/>
            <a:ext cx="309564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0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2000"/>
                            </p:stCondLst>
                            <p:childTnLst>
                              <p:par>
                                <p:cTn id="48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4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2d0"/>
            </a:gs>
            <a:gs pos="50000">
              <a:srgbClr val="d1d5d1"/>
            </a:gs>
            <a:gs pos="100000">
              <a:srgbClr val="d6b2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писок литера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-to-life@yandex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ozercaem.com.ua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kipedia®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OOMRU.RU compan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.zoomru.r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>
            <a:hlinkClick r:id="rId1" action="ppaction://hlinksldjump"/>
          </p:cNvPr>
          <p:cNvSpPr/>
          <p:nvPr/>
        </p:nvSpPr>
        <p:spPr>
          <a:xfrm>
            <a:off x="3780000" y="6453360"/>
            <a:ext cx="431640" cy="404640"/>
          </a:xfrm>
          <a:prstGeom prst="leftArrow">
            <a:avLst>
              <a:gd name="adj1" fmla="val 50000"/>
              <a:gd name="adj2" fmla="val 2666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2500"/>
                            </p:stCondLst>
                            <p:childTnLst>
                              <p:par>
                                <p:cTn id="49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8" dur="2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4500"/>
                            </p:stCondLst>
                            <p:childTnLst>
                              <p:par>
                                <p:cTn id="50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2" dur="2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6500"/>
                            </p:stCondLst>
                            <p:childTnLst>
                              <p:par>
                                <p:cTn id="50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6" dur="2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8500"/>
                            </p:stCondLst>
                            <p:childTnLst>
                              <p:par>
                                <p:cTn id="50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0" dur="2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0500"/>
                            </p:stCondLst>
                            <p:childTnLst>
                              <p:par>
                                <p:cTn id="5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4" dur="20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2d0"/>
            </a:gs>
            <a:gs pos="50000">
              <a:srgbClr val="d1d5d1"/>
            </a:gs>
            <a:gs pos="100000">
              <a:srgbClr val="d6b2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1.Понятие золотого сеч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мечательные математические крив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Логарифмическая спира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Кардиои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Синусоид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Искусств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Музы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Архитекту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Изобразительное искусст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Кинематогра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Природ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Идеальные пропорции в природ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Анатом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Симметр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Пентагональная симмет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Список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484360" y="0"/>
            <a:ext cx="439272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Содержание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179280" y="0"/>
            <a:ext cx="85075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2d0"/>
            </a:gs>
            <a:gs pos="50000">
              <a:srgbClr val="d1d5d1"/>
            </a:gs>
            <a:gs pos="100000">
              <a:srgbClr val="d6b2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2268360" y="404640"/>
            <a:ext cx="475632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пасибо за внимание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0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2d0"/>
            </a:gs>
            <a:gs pos="50000">
              <a:srgbClr val="d1d5d1"/>
            </a:gs>
            <a:gs pos="100000">
              <a:srgbClr val="d6b2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8200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marL="116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66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олотое сечение – это такое пропорциональное деление отрезка на неравные части, при котором весь отрезок так относится к большей части, как сама большая часть относится к меньшей; или другими словами, меньший отрезок так относится к большему, как больший ко всему</a:t>
            </a:r>
            <a:br>
              <a:rPr sz="2000"/>
            </a:br>
            <a:br>
              <a:rPr sz="20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: b = b : c или с : b = b : а.</a:t>
            </a:r>
            <a:br>
              <a:rPr sz="2800"/>
            </a:br>
            <a:br>
              <a:rPr sz="2800"/>
            </a:b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66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ff00"/>
                </a:solidFill>
                <a:latin typeface="Arial"/>
              </a:rPr>
              <a:t>                                                                                                                           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Золотое сечение и гармония в искусстве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993366"/>
                </a:solidFill>
                <a:latin typeface="Arial"/>
              </a:rPr>
              <a:t>                                                                                                     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700360" y="189000"/>
            <a:ext cx="3632040" cy="8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олотое сечени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97080" y="3428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12" descr="Золотое сечение"/>
          <p:cNvPicPr/>
          <p:nvPr/>
        </p:nvPicPr>
        <p:blipFill>
          <a:blip r:embed="rId2"/>
          <a:stretch/>
        </p:blipFill>
        <p:spPr>
          <a:xfrm>
            <a:off x="1908000" y="4149720"/>
            <a:ext cx="5832720" cy="1333440"/>
          </a:xfrm>
          <a:prstGeom prst="rect">
            <a:avLst/>
          </a:prstGeom>
          <a:ln w="0">
            <a:noFill/>
          </a:ln>
        </p:spPr>
      </p:pic>
      <p:sp>
        <p:nvSpPr>
          <p:cNvPr id="60" name="">
            <a:hlinkClick r:id="rId3" action="ppaction://hlinksldjump"/>
          </p:cNvPr>
          <p:cNvSpPr/>
          <p:nvPr/>
        </p:nvSpPr>
        <p:spPr>
          <a:xfrm>
            <a:off x="2268360" y="6453360"/>
            <a:ext cx="432000" cy="404640"/>
          </a:xfrm>
          <a:prstGeom prst="leftArrow">
            <a:avLst>
              <a:gd name="adj1" fmla="val 50000"/>
              <a:gd name="adj2" fmla="val 2669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3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6000"/>
                            </p:stCondLst>
                            <p:childTnLst>
                              <p:par>
                                <p:cTn id="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2d0"/>
            </a:gs>
            <a:gs pos="50000">
              <a:srgbClr val="d1d5d1"/>
            </a:gs>
            <a:gs pos="100000">
              <a:srgbClr val="d6b2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а кривая такая необычная.  Ее название происходит от слова “сердце”, так как она похожа сердце Нарисовать эту кривую просто. Так и получается кардиои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627280" y="549360"/>
            <a:ext cx="3711600" cy="80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ардиоид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5" name="" descr="Картинка 2 из 16211"/>
          <p:cNvPicPr/>
          <p:nvPr/>
        </p:nvPicPr>
        <p:blipFill>
          <a:blip r:embed="rId1"/>
          <a:stretch/>
        </p:blipFill>
        <p:spPr>
          <a:xfrm>
            <a:off x="4716360" y="1628640"/>
            <a:ext cx="4103640" cy="2562480"/>
          </a:xfrm>
          <a:prstGeom prst="rect">
            <a:avLst/>
          </a:prstGeom>
          <a:ln w="0">
            <a:noFill/>
          </a:ln>
        </p:spPr>
      </p:pic>
      <p:sp>
        <p:nvSpPr>
          <p:cNvPr id="66" name="">
            <a:hlinkClick r:id="rId2" action="ppaction://hlinksldjump"/>
          </p:cNvPr>
          <p:cNvSpPr/>
          <p:nvPr/>
        </p:nvSpPr>
        <p:spPr>
          <a:xfrm>
            <a:off x="1042920" y="6453360"/>
            <a:ext cx="432000" cy="404640"/>
          </a:xfrm>
          <a:prstGeom prst="leftArrow">
            <a:avLst>
              <a:gd name="adj1" fmla="val 50000"/>
              <a:gd name="adj2" fmla="val 2669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rId3" action="ppaction://hlinksldjump"/>
          </p:cNvPr>
          <p:cNvSpPr/>
          <p:nvPr/>
        </p:nvSpPr>
        <p:spPr>
          <a:xfrm>
            <a:off x="8748720" y="6524640"/>
            <a:ext cx="395280" cy="333360"/>
          </a:xfrm>
          <a:prstGeom prst="rightArrow">
            <a:avLst>
              <a:gd name="adj1" fmla="val 50000"/>
              <a:gd name="adj2" fmla="val 296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000"/>
                            </p:stCondLst>
                            <p:childTnLst>
                              <p:par>
                                <p:cTn id="4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6000"/>
                            </p:stCondLst>
                            <p:childTnLst>
                              <p:par>
                                <p:cTn id="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3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2d0"/>
            </a:gs>
            <a:gs pos="50000">
              <a:srgbClr val="d1d5d1"/>
            </a:gs>
            <a:gs pos="100000">
              <a:srgbClr val="d6b2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та кривая лучше известна школьникам как график функции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у = sin x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кже эту функцию изучают на уроках физики как иллюстрацию колебательных процессов. Но, видимо, колебательные процессы встречаются и в мире живой природы. Поэтому, присмотритесь в лесу к деревьям и кустарника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700360" y="189000"/>
            <a:ext cx="3252600" cy="73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инусоид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2" name="" descr="Картинка 6 из 26092"/>
          <p:cNvPicPr/>
          <p:nvPr/>
        </p:nvPicPr>
        <p:blipFill>
          <a:blip r:embed="rId1"/>
          <a:stretch/>
        </p:blipFill>
        <p:spPr>
          <a:xfrm>
            <a:off x="3995640" y="3789360"/>
            <a:ext cx="4826160" cy="2932200"/>
          </a:xfrm>
          <a:prstGeom prst="rect">
            <a:avLst/>
          </a:prstGeom>
          <a:ln w="0">
            <a:noFill/>
          </a:ln>
        </p:spPr>
      </p:pic>
      <p:sp>
        <p:nvSpPr>
          <p:cNvPr id="73" name="">
            <a:hlinkClick r:id="rId2" action="ppaction://hlinksldjump"/>
          </p:cNvPr>
          <p:cNvSpPr/>
          <p:nvPr/>
        </p:nvSpPr>
        <p:spPr>
          <a:xfrm>
            <a:off x="1908000" y="6453360"/>
            <a:ext cx="432000" cy="404640"/>
          </a:xfrm>
          <a:prstGeom prst="leftArrow">
            <a:avLst>
              <a:gd name="adj1" fmla="val 50000"/>
              <a:gd name="adj2" fmla="val 2669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rId3" action="ppaction://hlinksldjump"/>
          </p:cNvPr>
          <p:cNvSpPr/>
          <p:nvPr/>
        </p:nvSpPr>
        <p:spPr>
          <a:xfrm>
            <a:off x="8748720" y="6524640"/>
            <a:ext cx="395280" cy="333360"/>
          </a:xfrm>
          <a:prstGeom prst="rightArrow">
            <a:avLst>
              <a:gd name="adj1" fmla="val 50000"/>
              <a:gd name="adj2" fmla="val 296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6000"/>
                            </p:stCondLst>
                            <p:childTnLst>
                              <p:par>
                                <p:cTn id="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3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9000"/>
                            </p:stCondLst>
                            <p:childTnLst>
                              <p:par>
                                <p:cTn id="7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3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2d0"/>
            </a:gs>
            <a:gs pos="50000">
              <a:srgbClr val="d1d5d1"/>
            </a:gs>
            <a:gs pos="100000">
              <a:srgbClr val="d6b2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-360" y="1557000"/>
            <a:ext cx="44276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зучение свойств               логарифмичес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пирали был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ведено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Якобом Бернул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каменной плите, водруженной на могиле этого знаменитого математика, изображены витки логарифмической спира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547640" y="260280"/>
            <a:ext cx="6050160" cy="8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огарифмическая спираль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08200" y="64738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Картинка 3 из 112"/>
          <p:cNvPicPr/>
          <p:nvPr/>
        </p:nvPicPr>
        <p:blipFill>
          <a:blip r:embed="rId1"/>
          <a:stretch/>
        </p:blipFill>
        <p:spPr>
          <a:xfrm>
            <a:off x="179280" y="1413000"/>
            <a:ext cx="1793880" cy="2016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Картинка 2 из 850"/>
          <p:cNvPicPr/>
          <p:nvPr/>
        </p:nvPicPr>
        <p:blipFill>
          <a:blip r:embed="rId2"/>
          <a:stretch/>
        </p:blipFill>
        <p:spPr>
          <a:xfrm>
            <a:off x="4643280" y="1628640"/>
            <a:ext cx="4111920" cy="4248360"/>
          </a:xfrm>
          <a:prstGeom prst="rect">
            <a:avLst/>
          </a:prstGeom>
          <a:ln w="0">
            <a:noFill/>
          </a:ln>
        </p:spPr>
      </p:pic>
      <p:sp>
        <p:nvSpPr>
          <p:cNvPr id="82" name="">
            <a:hlinkClick r:id="rId3" action="ppaction://hlinksldjump"/>
          </p:cNvPr>
          <p:cNvSpPr/>
          <p:nvPr/>
        </p:nvSpPr>
        <p:spPr>
          <a:xfrm>
            <a:off x="1835280" y="6453360"/>
            <a:ext cx="431640" cy="404640"/>
          </a:xfrm>
          <a:prstGeom prst="leftArrow">
            <a:avLst>
              <a:gd name="adj1" fmla="val 50000"/>
              <a:gd name="adj2" fmla="val 2666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rId4" action="ppaction://hlinksldjump"/>
          </p:cNvPr>
          <p:cNvSpPr/>
          <p:nvPr/>
        </p:nvSpPr>
        <p:spPr>
          <a:xfrm>
            <a:off x="8748720" y="6524640"/>
            <a:ext cx="395280" cy="333360"/>
          </a:xfrm>
          <a:prstGeom prst="rightArrow">
            <a:avLst>
              <a:gd name="adj1" fmla="val 50000"/>
              <a:gd name="adj2" fmla="val 296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4000"/>
                            </p:stCondLst>
                            <p:childTnLst>
                              <p:par>
                                <p:cTn id="9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6000"/>
                            </p:stCondLst>
                            <p:childTnLst>
                              <p:par>
                                <p:cTn id="9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8000"/>
                            </p:stCondLst>
                            <p:childTnLst>
                              <p:par>
                                <p:cTn id="10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30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2d0"/>
            </a:gs>
            <a:gs pos="50000">
              <a:srgbClr val="d1d5d1"/>
            </a:gs>
            <a:gs pos="100000">
              <a:srgbClr val="d6b2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тдельные временные интервалы музыкального произведения, соединяемые «кульминационным событием», как правило, находятся в соотношении Золотого сечения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Наибольшее количество произведений, в которых имеется Золоте сечение, у Аренского (95%), Бетховена (97%), Гайдна (97%), Моцарта (91%), Шопена (92%), Шуберта (91%)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rId1" action="ppaction://hlinksldjump"/>
          </p:cNvPr>
          <p:cNvSpPr/>
          <p:nvPr/>
        </p:nvSpPr>
        <p:spPr>
          <a:xfrm>
            <a:off x="1908000" y="6453360"/>
            <a:ext cx="432000" cy="404640"/>
          </a:xfrm>
          <a:prstGeom prst="leftArrow">
            <a:avLst>
              <a:gd name="adj1" fmla="val 50000"/>
              <a:gd name="adj2" fmla="val 2669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rId2" action="ppaction://hlinksldjump"/>
          </p:cNvPr>
          <p:cNvSpPr/>
          <p:nvPr/>
        </p:nvSpPr>
        <p:spPr>
          <a:xfrm>
            <a:off x="8748720" y="6524640"/>
            <a:ext cx="395280" cy="333360"/>
          </a:xfrm>
          <a:prstGeom prst="rightArrow">
            <a:avLst>
              <a:gd name="adj1" fmla="val 50000"/>
              <a:gd name="adj2" fmla="val 296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476360" y="404640"/>
            <a:ext cx="597204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олотое сечение в музыке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755640" y="4365720"/>
            <a:ext cx="990720" cy="14284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2268360" y="2852640"/>
            <a:ext cx="1133640" cy="14288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4140360" y="4365720"/>
            <a:ext cx="1009440" cy="14284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6"/>
          <a:stretch/>
        </p:blipFill>
        <p:spPr>
          <a:xfrm>
            <a:off x="5796000" y="2852640"/>
            <a:ext cx="1076400" cy="14288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7"/>
          <a:stretch/>
        </p:blipFill>
        <p:spPr>
          <a:xfrm>
            <a:off x="7380360" y="4365720"/>
            <a:ext cx="1152360" cy="14284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84360" y="58770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юдвиг Бетхов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68360" y="436572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Йозеф Гайд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67280" y="602136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царт В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24360" y="4437000"/>
            <a:ext cx="13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редерик Шоп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451640" y="602136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ранц Шубе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3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6000"/>
                            </p:stCondLst>
                            <p:childTnLst>
                              <p:par>
                                <p:cTn id="12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3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9000"/>
                            </p:stCondLst>
                            <p:childTnLst>
                              <p:par>
                                <p:cTn id="1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8000"/>
                            </p:stCondLst>
                            <p:childTnLst>
                              <p:par>
                                <p:cTn id="1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0000"/>
                            </p:stCondLst>
                            <p:childTnLst>
                              <p:par>
                                <p:cTn id="16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1000"/>
                            </p:stCondLst>
                            <p:childTnLst>
                              <p:par>
                                <p:cTn id="17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3000"/>
                            </p:stCondLst>
                            <p:childTnLst>
                              <p:par>
                                <p:cTn id="17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2d0"/>
            </a:gs>
            <a:gs pos="50000">
              <a:srgbClr val="d1d5d1"/>
            </a:gs>
            <a:gs pos="100000">
              <a:srgbClr val="d6b2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д «правилом золотого сечения» в архитектуре и искусстве обычно понимаются асимметричные композиции, не обязательно содержащие золотое сечение математичес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Картинка 16 из 1006"/>
          <p:cNvPicPr/>
          <p:nvPr/>
        </p:nvPicPr>
        <p:blipFill>
          <a:blip r:embed="rId1"/>
          <a:stretch/>
        </p:blipFill>
        <p:spPr>
          <a:xfrm>
            <a:off x="4643280" y="1628640"/>
            <a:ext cx="3203640" cy="20163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43280" y="3645000"/>
            <a:ext cx="282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асад древнегрече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рама Парфен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Рисунок 51" descr="http://www.tech-to-life.com/Statii/pyramida-gs2.jpg"/>
          <p:cNvPicPr/>
          <p:nvPr/>
        </p:nvPicPr>
        <p:blipFill>
          <a:blip r:embed="rId2"/>
          <a:stretch/>
        </p:blipFill>
        <p:spPr>
          <a:xfrm>
            <a:off x="971640" y="4149720"/>
            <a:ext cx="2376360" cy="18874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85800" y="6093000"/>
            <a:ext cx="307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ирамида Хеопса в Егип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08360" y="6453360"/>
            <a:ext cx="432000" cy="404640"/>
          </a:xfrm>
          <a:prstGeom prst="leftArrow">
            <a:avLst>
              <a:gd name="adj1" fmla="val 50000"/>
              <a:gd name="adj2" fmla="val 2669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32000" y="333360"/>
            <a:ext cx="65149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рхитетура и золотое сече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5003640" y="4365720"/>
            <a:ext cx="2519640" cy="1830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859280" y="6093000"/>
            <a:ext cx="28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крашение из гробницы Тутанхамо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1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" dur="3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6000"/>
                            </p:stCondLst>
                            <p:childTnLst>
                              <p:par>
                                <p:cTn id="19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9000"/>
                            </p:stCondLst>
                            <p:childTnLst>
                              <p:par>
                                <p:cTn id="20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3000"/>
                            </p:stCondLst>
                            <p:childTnLst>
                              <p:par>
                                <p:cTn id="21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4000"/>
                            </p:stCondLst>
                            <p:childTnLst>
                              <p:par>
                                <p:cTn id="21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5000"/>
                            </p:stCondLst>
                            <p:childTnLst>
                              <p:par>
                                <p:cTn id="2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8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8000"/>
                            </p:stCondLst>
                            <p:childTnLst>
                              <p:par>
                                <p:cTn id="23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2d0"/>
            </a:gs>
            <a:gs pos="50000">
              <a:srgbClr val="d1d5d1"/>
            </a:gs>
            <a:gs pos="100000">
              <a:srgbClr val="d6b2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ергей Эйзенштейн искусственно построил фильм «Броненосец Потёмкин» по правилам золотого сечения. Он разбил ленту на пять частей. В первых трёх действие развивается на корабле. В двух последних — в Одессе, где разворачивается восстание. Этот переход в город происходит точно в точке золотого сече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ругим примером использования правила «золотого сечения» в киноискусстве служит расположение основных компонентов кадра в особых точках — «зрительных центрах». Часто используются четыре точки, расположенные на расстоянии 3/8 и 5/8 от соответствующих краёв плоск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1" descr="http://upload.wikimedia.org/wikipedia/commons/f/ff/Gold%26kad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3500280"/>
            <a:ext cx="2951280" cy="24591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708360" y="6453360"/>
            <a:ext cx="432000" cy="404640"/>
          </a:xfrm>
          <a:prstGeom prst="leftArrow">
            <a:avLst>
              <a:gd name="adj1" fmla="val 50000"/>
              <a:gd name="adj2" fmla="val 2669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411280" y="404640"/>
            <a:ext cx="453708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инематограф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1403280" y="3573360"/>
            <a:ext cx="1704960" cy="21481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311120" y="6113520"/>
            <a:ext cx="1460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45440" y="5805360"/>
            <a:ext cx="23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ргей Эйзенштей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2" dur="3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6" dur="3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6000"/>
                            </p:stCondLst>
                            <p:childTnLst>
                              <p:par>
                                <p:cTn id="2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0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9000"/>
                            </p:stCondLst>
                            <p:childTnLst>
                              <p:par>
                                <p:cTn id="25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3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5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9:46:18Z</dcterms:created>
  <dc:creator>DNA7 X86</dc:creator>
  <dc:description/>
  <dc:language>en-US</dc:language>
  <cp:lastModifiedBy>1</cp:lastModifiedBy>
  <dcterms:modified xsi:type="dcterms:W3CDTF">2012-02-20T07:00:33Z</dcterms:modified>
  <cp:revision>16</cp:revision>
  <dc:subject/>
  <dc:title>Слайд 1</dc:title>
</cp:coreProperties>
</file>