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F3D-31B4-4047-873B-68936230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A7F-F8A2-4715-A3BC-5BDF2C9B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444-372A-40BF-A642-9304BD19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B7D-8D0F-454E-BD29-FFF729E3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85A2-357F-4D6F-80CA-4DA6CD8C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256-516A-4FF5-B6C1-1138BC1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1BDE-F6C1-43A3-B05C-9D77074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574-36ED-4F51-8CA2-64D76851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0CBF-0F9F-430F-B8FE-6514B87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17A1-D7B6-44B0-B9C8-A1013FC2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2C33-BF83-401D-A3CA-A47A2E5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B24-1CEC-4283-B61C-6AD88E4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984-D1B8-4465-9BB9-F8D440E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A85-4F19-4A9C-93D0-C57DB78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B2E-DEDC-4F90-BE1F-A149595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C59B-5B29-42F1-8249-3D06F8F5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6C2F-6BC5-4D77-80F3-1F016D90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471-D1F1-46D9-B7BB-0425176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D38-CB26-4A26-84C9-6C537FF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A59-5CFA-4E39-9828-0981219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735-23BC-416F-9A8E-54CBB1A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939-6283-4105-989E-4338E74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EDB-3947-45CA-8B47-81C4DDA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2C5-5F7F-4FD7-ABDE-ADD905A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07A3-9611-4A7F-A3BF-5BAE3792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59A-1F0C-4307-B1EA-21A500F9A0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14920" y="4643280"/>
            <a:ext cx="35035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4bb2"/>
                </a:solidFill>
                <a:latin typeface="Arial"/>
              </a:rPr>
              <a:t>Кожахметова Ж.Б. учитель географии сш.№40 г.Петропавловска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32767"/>
                </a:solidFill>
                <a:latin typeface="Arial"/>
              </a:rPr>
              <a:t>Общая характеристика развитых стр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Четвертый цикл – электротехника,автомобилестроение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Пятый цикл – начало третьей промышленной революции,получили развитие электроника,лазерная техника,биотехнология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Откройте учебники на стр.11 табл.1.Сделаем вывод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Вывод:Западная Европа опережает Восточную Европу и Россию на один цикличный период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Мировое хозяйство , в свою очередь состоит из национальных экономик отдельных стран и состовлящих их отраслей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ировое хозяй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17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8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8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18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19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928800" y="2714760"/>
            <a:ext cx="17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786120" y="2643120"/>
            <a:ext cx="15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572160" y="250020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Рассмотрим рис.1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Таблица 2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оморф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Это когда контуры изображенных на карте территорий , хотя и фиксируют географическое положение этих стран,но не показывает размеры их площади,наоборот,показатели,обозначенные на карте,связываются с определенными величинами взятой территории.Рис.2 показана площадь терр.стран Америки в соответствии с объемом производимого ВВП и числ.нас-я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овые циви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Западноатлантиче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Латиноамерикан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Славяно-православн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Мусульманский мир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Потенциальная африкан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Западный фрагмент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Индуист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Конфуциан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Японска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4bb2"/>
                </a:solidFill>
                <a:latin typeface="Arial"/>
              </a:rPr>
              <a:t>Прочитать параграф 2,ответить на вопросы на стр.14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Задание на дом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720" y="285480"/>
            <a:ext cx="65437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,входящие в «Большую семерк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ФРГ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Великобритани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Франци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Канада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571840" y="1947960"/>
            <a:ext cx="60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2767"/>
                </a:solidFill>
                <a:latin typeface="Arial"/>
              </a:rPr>
              <a:t>Уровень экономического развития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2643120" y="286236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2767"/>
                </a:solidFill>
                <a:latin typeface="Arial"/>
              </a:rPr>
              <a:t>Социальная структура хозяйства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643120" y="357192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2767"/>
                </a:solidFill>
                <a:latin typeface="Arial"/>
              </a:rPr>
              <a:t>Тип совершенствования национальной экономики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2571840" y="450072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2767"/>
                </a:solidFill>
                <a:latin typeface="Arial"/>
              </a:rPr>
              <a:t>Характер и степень внешнеторговых связей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85840"/>
            <a:ext cx="5848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знаки деления государств на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3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6200" y="167652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ь государства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П</a:t>
            </a:r>
            <a:endParaRPr b="0" lang="en-US" sz="3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2767"/>
                </a:solidFill>
                <a:latin typeface="Arial"/>
              </a:rPr>
              <a:t>Валовой внутренний продукт(ВВП)на душу населения . ВВП-это суммарная стоимость всех потребительских товаров ,оказываемых услуг и совокупного капитала на территории данной страны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ВНП-валовой национальный продукт.Инвестиции инностранных компаний,их доход,вывезенный за рубеж,заработная плата инностранных рабочих,не принимаемых при расчете ВВП(ВНП низкий в Сингапуре,Южной Корее,на Тайване и в Малайзии)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В высокоразвитых странах в этих двух цифрах нет большой разницы.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индустриальное  развитие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триальное развитие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индустриальное развитие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2767"/>
                </a:solidFill>
                <a:latin typeface="Arial"/>
              </a:rPr>
              <a:t>Ступени развития мирового хозяйства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07172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Нулевой цикл-развитие мануфактуры и ремесел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Начальный цикл период первой промышленной революции - текстильная промышленность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Второй цикл – текстильная пром-ть, переработка черных металлов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32767"/>
                </a:solidFill>
                <a:latin typeface="Arial"/>
              </a:rPr>
              <a:t>Третий цикл период третьей промышленной революции– металлургия , химическая пром-ть , тяжелое машиностроение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57:42Z</dcterms:created>
  <dc:creator>Абылайхан</dc:creator>
  <dc:description/>
  <dc:language>en-US</dc:language>
  <cp:lastModifiedBy>Абылайхан</cp:lastModifiedBy>
  <dcterms:modified xsi:type="dcterms:W3CDTF">2011-09-26T17:12:28Z</dcterms:modified>
  <cp:revision>10</cp:revision>
  <dc:subject/>
  <dc:title>Общая характеристика развитых стран</dc:title>
</cp:coreProperties>
</file>