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1F0-E6BB-49F5-ABC4-F5A2DB1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932-9FBA-4700-9D8B-190FC538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566-9D6B-41C8-AA06-AFD23460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D03-6578-4C82-9694-FC21D922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033-4475-4B24-B52A-97B9BE9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563-71B6-4593-B883-36957CC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4A1-54CE-4738-B60E-BCFEFF0D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23F-D37C-4965-B93B-C592C4EF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943-E59C-4498-AE40-8F84FA39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C8E-DA70-4F63-8F9F-665BC17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289-78C5-40A6-AB28-7F537FE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998-4000-46DE-9ACF-885CAB0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A72-3846-4453-B9EE-E70626DCE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лаг"/>
          <p:cNvPicPr/>
          <p:nvPr/>
        </p:nvPicPr>
        <p:blipFill>
          <a:blip r:embed="rId1"/>
          <a:stretch/>
        </p:blipFill>
        <p:spPr>
          <a:xfrm>
            <a:off x="500040" y="428760"/>
            <a:ext cx="8356680" cy="6072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одское и сельское нас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"/>
          <p:cNvPicPr/>
          <p:nvPr/>
        </p:nvPicPr>
        <p:blipFill>
          <a:blip r:embed="rId1"/>
          <a:stretch/>
        </p:blipFill>
        <p:spPr>
          <a:xfrm>
            <a:off x="450720" y="1054080"/>
            <a:ext cx="8242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отность и распределение насе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7 чел.на км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авноме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8,5 % - в европейской части (ср.плотн.36,7человека на км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ая высокая плотность - 324 чел.на км2 приходится на Центральную Росс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жчины от 16 до 60 лет, женщины от 16 до 55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оспособное население 60 % всего на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% являются безработ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ень развития хозяйства России и его специализ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 rot="10800000">
            <a:off x="1856520" y="3643200"/>
            <a:ext cx="68295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трасли хозяйства состоят из государственных,кооперативных и акционерных предприятий.70% внутренного продукта приходится на негосударственные предприя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"/>
          <p:cNvPicPr/>
          <p:nvPr/>
        </p:nvPicPr>
        <p:blipFill>
          <a:blip r:embed="rId1"/>
          <a:stretch/>
        </p:blipFill>
        <p:spPr>
          <a:xfrm>
            <a:off x="438120" y="2419200"/>
            <a:ext cx="82677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дущая роль принадлежит промышленности – на ее долю приходится 1/4 общего внутренного производства ,2/3 всего промышленного производства приходится на долю тяжелой промыш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осла роль добывающих отрас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выпуску ВВП на 45 месте ,объем ВВП России равен 10,6 % объема ВВП С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текст учебника, таблицу 16 сделать диаграмму о доле основных отраслей промышленности в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Э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хема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я крупная 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ее долю приходится ¼ промышленной продукции и значит. часть валю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дущее место нефть и га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ие неравномерно, потребители находятся в европейской части, а 80% топлива в восточных район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C:\Documents and Settings\Сергей\Рабочий стол\урок в картинках 9 класс\Dlya-devochek.png"/>
          <p:cNvPicPr/>
          <p:nvPr/>
        </p:nvPicPr>
        <p:blipFill>
          <a:blip r:embed="rId1"/>
          <a:stretch/>
        </p:blipFill>
        <p:spPr>
          <a:xfrm>
            <a:off x="4992840" y="3852720"/>
            <a:ext cx="3730320" cy="2840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тя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запасам сырья (2 млрд.тонн)занимает 2 мес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ы – Западная Сибирь,бассейн Волги и Урала,Коми,Сахалин,Северный Кавказ (рис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1999 года добыча нефти рас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орт в страны СНГ (в 2003 г.-3 млн.т),Восточной и Западной Европы(2003г-74 млн.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 государства - г. Моск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площадь территории - 17 млн.075 тыс.км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енность населения – 145 млн.ч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тяженность границ – 20017 к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ициальный язык – рус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правления – федеративная респуб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а государства – презид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одательный орган – двухпалатное Федеральное Собр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зов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есто по добыче и переработ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е запасы – 160 трлн.м3(б. 40 % мировых запа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зы – Западная Сибирь,Оренбур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страхань.Коми,Северный Кавказ и Яку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Газпром» обеспечивает 47 %потребности газа стран Западной Евр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0-90-е гг – 640 млрд.м3,в 1997г спад,в 2004г- 632 млрд.м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зовое хозяйство обеспечивает Польшу,Чехию,Венгрию,Болгарию,Францию,Германию и Итал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голь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ризи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разведанным запасам на 1 ме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3 % его запасов в вост. части, а потребители в европейской ч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зы – Кузбасский, Канско-Ачинский, Печорский и Донец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0 % добычи приходится на Кузбас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56 млн.т угля в год ( рис. 2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.объем добычи уг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оэнерг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производству уступает США,в 2002 г. 910 млрд.кВт.ч (диаграмма 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годны гидроэлектроста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нейшие – Красноярская, Саяно- Шушенская, Братская, Усть –Илим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нейшие ТЭС в Сургуте,Костроме и Рефтин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АЭС  - со стр.90 выпис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117"/>
          <p:cNvPicPr/>
          <p:nvPr/>
        </p:nvPicPr>
        <p:blipFill>
          <a:blip r:embed="rId1"/>
          <a:stretch/>
        </p:blipFill>
        <p:spPr>
          <a:xfrm>
            <a:off x="7715160" y="4143240"/>
            <a:ext cx="1928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аллургический компле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"/>
          <p:cNvPicPr/>
          <p:nvPr/>
        </p:nvPicPr>
        <p:blipFill>
          <a:blip r:embed="rId1"/>
          <a:stretch/>
        </p:blipFill>
        <p:spPr>
          <a:xfrm>
            <a:off x="390600" y="1566720"/>
            <a:ext cx="831996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приятия по производству черных мета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бладают заводы полного цикла, на их долю приходится 2/3 всей производимой ста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бинаты располагаются вблизи железных руд, крупных угольных бассейнов или м/у ни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запасам ж.руды занимает вед.мест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пасы – 55,6 млрд.т,79 % запасов приходится на долю КМА (44 млрд.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ностью  обеспечена ж.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0% вывозится на экспор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аст вр. Россия произв. 35 млн.т чугуна,59,8 млн.т ста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производству стали  4 место после Китая,Японии и СШ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од производит 48,7 млн.т готового прок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о черных металлов сосредоточено на 3 мет.базах – Урал, Центральный район и Сиби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сурсы марганцевых руд в Западной Сибири ,хромовые руды – на Ур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ветная металлур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438120" y="1139760"/>
            <a:ext cx="84312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ность, гибкость, устойчивость к корроз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 алюминий, титан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изводство тяготеет к дешевой электроэнергии, н-р Краснотуринский алюминиевый завод на Урал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деплавильные и свинцово-цинковые предпр.размещают у сырья,н-р: Кыштымский медеплавильный и Челябинский цинковый заводый на Урал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запасам цветных металлов Россия занимает ведущее место в мире. Медь и никель. Они встреч. в Восточной Сибири, на европейском Севере, медь на Урале, в Восточной Сибири, сырье алюминия на Урале, севере, олово на Дальнем Востоке, свинец, цинк на Северном Кавказе, в Западной Сибир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ыработке золота 177 т в 2003 г.1 место в СНГ и 5 место в мире после ЮАР,  США, Канады и Австрал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я добычи золота в мире 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гата алмазами ,его запасы составляют 200 млн.карат, 2 место в мире (Мирный,Айхал,Удачна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о цветных металлов сниж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экспорту алюминия 2 место после С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512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аны, граничащие с Росси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сть границ,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ст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ь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лору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зербайдж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зах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нго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верная Коре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шиностроительный компле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70 отраслей, схема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ыв связи м/у странами СНГ - огромные убы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отечественных машин низ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риятия размещены равноме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сохимический комплек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титы- Хибины,фосфориты- Центральный район и калийные соли- на северном Урале(Соликамск,Березники) -ведущее место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выделяют  4 крупные лесохимические базы- стр.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и биологических ресурсов важным явл . Л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ные районы площадь,которых 756 млн.га,65 % территории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е запасы древесины – 81,6 млрд.м3,по запасам леса 1 место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богатые лесом районы – Восточная Сибирь,Дальний Восток,европейский север,Урал и Волгл-Вят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ет северную часть Евраз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щадь терр.17,1 млн.км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тяженность с запада на восток – 9 тыс.к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севера на юг – 4 тыс.к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ритория России находится в 11 часовых пояс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протяженность границы – 57,67 тыс.км(20,02 тыс.км – сухопутная и 37,65 тыс.км –водная)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я  77% площади и 51 % населения С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 % ВВП и 50 % промышленной проду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экономическому потенциалу она находится на уровне Франции,Италии,Великобритании и Индии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5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8240"/>
          </a:xfrm>
          <a:prstGeom prst="rect">
            <a:avLst/>
          </a:prstGeom>
          <a:ln w="0">
            <a:noFill/>
          </a:ln>
        </p:spPr>
      </p:pic>
      <p:grpSp>
        <p:nvGrpSpPr>
          <p:cNvPr id="52" name="Группа 6"/>
          <p:cNvGrpSpPr/>
          <p:nvPr/>
        </p:nvGrpSpPr>
        <p:grpSpPr>
          <a:xfrm>
            <a:off x="2857680" y="285840"/>
            <a:ext cx="3143160" cy="1071360"/>
            <a:chOff x="2857680" y="285840"/>
            <a:chExt cx="3143160" cy="1071360"/>
          </a:xfrm>
        </p:grpSpPr>
        <p:sp>
          <p:nvSpPr>
            <p:cNvPr id="53" name="Овал 7"/>
            <p:cNvSpPr/>
            <p:nvPr/>
          </p:nvSpPr>
          <p:spPr>
            <a:xfrm>
              <a:off x="2857680" y="285840"/>
              <a:ext cx="3143160" cy="1071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Овал 4"/>
            <p:cNvSpPr/>
            <p:nvPr/>
          </p:nvSpPr>
          <p:spPr>
            <a:xfrm>
              <a:off x="3317760" y="442440"/>
              <a:ext cx="222264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Calibri"/>
                </a:rPr>
                <a:t>21 республика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политическое по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текст учебника стр.80-81 выделить особенности ГПП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родные бога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я занимает ведущее место по разведанным запасам минерального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20 тыс.месторождений 37 % разрабатыв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драх России (11,5 % всей суши) сосредоточено мировых запасов…стр.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селение и трудовые ресурсы Р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место после Китая, Индии, США, Индонезии, Бразилии, Пакистана и Бангладе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циональный состав насе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9 народов и националь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 языковые семьи: индоевропейская, алтайская, кавказская, ураль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онно русские территории – Северный, Северо- Западный  и Центральный экономические рай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их – 79,8 %, татаров – 3,8 %, украинцев – 2,2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89 субъектов РФ в 77 преобладают рус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4:35:46Z</dcterms:created>
  <dc:creator>Абылайхан</dc:creator>
  <dc:description/>
  <dc:language>en-US</dc:language>
  <cp:lastModifiedBy>Абылайхан</cp:lastModifiedBy>
  <dcterms:modified xsi:type="dcterms:W3CDTF">2011-10-13T04:37:11Z</dcterms:modified>
  <cp:revision>36</cp:revision>
  <dc:subject/>
  <dc:title>Слайд 1</dc:title>
</cp:coreProperties>
</file>