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6C4-09F2-4325-8D6F-7C027A669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4DD2-BFC6-4D18-B35D-4C49E6224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FAA-A2E5-4F84-B217-DCD4E998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8AF-DEBF-4054-B312-4EF60FD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D13-7D06-44A0-A497-9BC71E93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499-DAB1-40A7-AF0C-A2DD25AA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3C2-5588-4D42-A0FA-CCE0EE5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396-439A-4AA3-8EEE-8F73E48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4ED-0247-4977-9A9F-741BA9BA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410-5633-4B00-9BC4-81DAC1F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1EE-411B-4CD7-9174-A7E86BE4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FBE-789C-4150-8D69-808BCEF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D74-38B8-4BDD-81F9-4D98434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0B0-53DF-47DD-ACBA-F8D2078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6E85-FB1D-4873-8F96-657E3423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0" y="333360"/>
            <a:ext cx="8697960" cy="2200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99640" y="2852640"/>
            <a:ext cx="7853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У математиков существует сво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формул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фья Ковалевска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143240" y="6072120"/>
            <a:ext cx="7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759040" cy="33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Давайте посчита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667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)   47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3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----------------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7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+2*27*13+13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)  39,5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3,5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----------------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7,5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14,5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)49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2*49*29+29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----------------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19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)   17,5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9,5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----------------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1,5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3,5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663560" cy="177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508720" y="2492280"/>
            <a:ext cx="14666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;1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3213000"/>
            <a:ext cx="1467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1;1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Попробуй - докаж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)   (2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3)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(2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 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1)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елится на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) 41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+19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елится на 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)   (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n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(2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1)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елится на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)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9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³- 2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елится на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663560" cy="177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525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9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333399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9у-5а)(9у+5а)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333399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5х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+16;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333399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64-6а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4)  0;      5)25а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6)   36а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+49в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7)  56;    8)(8а+в)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9)  (х+2)(7х+24)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0) 1;-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)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2х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9;  2) 0;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)(10у-2а)(10у+2а)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) (3а -в)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;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)3а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12а+75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) (х+2)(3х+4);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)0;    8)9а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) 16а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25в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) -1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80440" y="508464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Продолжи одно из предлож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Мне понят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Я за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Мне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Я дум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59640" y="414972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857680" cy="3667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80000" y="22050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92360" y="981000"/>
            <a:ext cx="15397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у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300720" y="981000"/>
            <a:ext cx="1584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рхим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00360" y="3170160"/>
            <a:ext cx="41036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1. (x + 2)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. (x - 3)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. x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4+2x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. x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+4+4x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. x+4+4x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. x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+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 x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-3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 x+9-6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x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-6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 x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. (2a - 3)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 (2a + b)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28640"/>
          <a:ext cx="8229600" cy="4497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. 4a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6a+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. 4a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2a+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. 2a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2a+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. 4a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 4a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b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 4a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ab+b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4a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b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ab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 2a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ab+b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750080" y="5372280"/>
            <a:ext cx="1393920" cy="148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(4x - 3y)(4x+3y)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(x -7y)(7y +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. 4x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3y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. 4x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y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. 16x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y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. 16x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+9y </a:t>
                      </a: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 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-7y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 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y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 x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+49y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8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663560" cy="177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47640" y="3284640"/>
            <a:ext cx="1571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, Б,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64000" y="2997360"/>
            <a:ext cx="1571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, В,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Найди ошиб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Arial"/>
                <a:ea typeface="Times New Roman"/>
              </a:rPr>
              <a:t>(в- у)</a:t>
            </a:r>
            <a:r>
              <a:rPr b="1" i="1" lang="en-US" sz="66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333399"/>
                </a:solidFill>
                <a:latin typeface="Arial"/>
                <a:ea typeface="Times New Roman"/>
              </a:rPr>
              <a:t> =в-2ву+у</a:t>
            </a:r>
            <a:r>
              <a:rPr b="1" i="1" lang="en-US" sz="66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(7+с)</a:t>
            </a:r>
            <a:r>
              <a:rPr b="1" i="1" lang="en-US" sz="6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=49-14с+с</a:t>
            </a:r>
            <a:r>
              <a:rPr b="1" i="1" lang="en-US" sz="6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Arial"/>
                <a:ea typeface="Times New Roman"/>
              </a:rPr>
              <a:t>(р-10)</a:t>
            </a:r>
            <a:r>
              <a:rPr b="1" i="1" lang="en-US" sz="66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333399"/>
                </a:solidFill>
                <a:latin typeface="Arial"/>
                <a:ea typeface="Times New Roman"/>
              </a:rPr>
              <a:t>=р</a:t>
            </a:r>
            <a:r>
              <a:rPr b="1" i="1" lang="en-US" sz="66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333399"/>
                </a:solidFill>
                <a:latin typeface="Arial"/>
                <a:ea typeface="Times New Roman"/>
              </a:rPr>
              <a:t>-20р+10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(2а+1)</a:t>
            </a:r>
            <a:r>
              <a:rPr b="1" i="1" lang="en-US" sz="6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=4а</a:t>
            </a:r>
            <a:r>
              <a:rPr b="1" i="1" lang="en-US" sz="6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+2а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80440" y="5084640"/>
            <a:ext cx="1663560" cy="177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8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Заполни пропус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2x + y)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= 4x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+… + y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3a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 …)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= …+ 6a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b + b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a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…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= (3a + 2b)(3a –2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y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 …= (3x + …)(… -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es-E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m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 9n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(5m + 3n)(…-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+ 20b +…= (… + …)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5x +…)(5x -…)=(… - 0,16y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 </a:t>
                      </a:r>
                      <a:r>
                        <a:rPr b="1" lang="pt-B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14b + 49 = (… +… )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380360" y="5418000"/>
            <a:ext cx="1350720" cy="144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2:58Z</dcterms:created>
  <dc:creator>Home</dc:creator>
  <dc:description/>
  <dc:language>en-US</dc:language>
  <cp:lastModifiedBy>www.PHILka.RU</cp:lastModifiedBy>
  <dcterms:modified xsi:type="dcterms:W3CDTF">2012-02-28T15:50:20Z</dcterms:modified>
  <cp:revision>37</cp:revision>
  <dc:subject/>
  <dc:title>Формулы сокращённого умно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