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946-9FEA-485A-8081-7C90EBBB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601-56EE-41FE-97C2-30658CE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3F6-1694-4130-BC12-6B829A06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DB2-0393-4455-A45B-8D83483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121-A8F9-4A2D-9EC5-A3416B04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A0D-B739-4105-9768-C01E9098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140-27CB-4F8C-8A71-2037E6D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C47-530E-46A7-B686-8ADDFB1C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2D9-759A-46BC-A600-AB9E1F9F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C13-CE97-4A87-B863-660AE05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D3B-D319-434B-8846-256F452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270-DAD7-46D1-88C0-4B0BA7F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DB58-C4D6-4994-88B1-C33FCD22F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ambler.ru/cgibin/pic.cgi?words=%F1%EB%E5%E4%F1%F2%E2%E8%E5+%E2%E5%E4%F3%F2+%EA%EE%EB%EE%E1%EA%E8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826920" y="549360"/>
            <a:ext cx="7560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о  о  фартуках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98960" y="479736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Авторы проект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хмедова Д., Хромова А.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пшова Т.,Киракосян К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ученицы 5 класса, МОУ Коляновская СОШ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Ты и Я - 10 -Coimbra.mp3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2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7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609120" y="333360"/>
            <a:ext cx="81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асход ткани на девочку из Лилипут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06080" y="1668600"/>
            <a:ext cx="807624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удник: а = 15 : 9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 1,7см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20: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2,2см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нагрудник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3,7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з : а = 40:9 ≈ 4,4см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50 : 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,5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низ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4,2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бщ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7,9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бщая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,79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Итог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30,73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портной1"/>
          <p:cNvPicPr/>
          <p:nvPr/>
        </p:nvPicPr>
        <p:blipFill>
          <a:blip r:embed="rId1"/>
          <a:stretch/>
        </p:blipFill>
        <p:spPr>
          <a:xfrm>
            <a:off x="5796000" y="4149720"/>
            <a:ext cx="2417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-360" y="333360"/>
            <a:ext cx="87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асход ткани на девочку из Бробдингнег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6920" y="1452600"/>
            <a:ext cx="864216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удник: а = 15 × 9 = 135см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0 × 9=180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нагрудн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43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 : а = 40 × 9 = 360 см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50 × 9 = 450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из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620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бщ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863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бщая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3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тог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0493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портной1"/>
          <p:cNvPicPr/>
          <p:nvPr/>
        </p:nvPicPr>
        <p:blipFill>
          <a:blip r:embed="rId1"/>
          <a:stretch/>
        </p:blipFill>
        <p:spPr>
          <a:xfrm>
            <a:off x="5796000" y="4149720"/>
            <a:ext cx="2417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122560" y="476280"/>
            <a:ext cx="43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щий расход ткан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47840" y="1863720"/>
            <a:ext cx="808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530 + 30,734 + 204930 = 207490,73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0040" y="2997360"/>
            <a:ext cx="78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равни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оличество ткани в наличии и расх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92200" y="467208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  <a:ea typeface="Arial"/>
              </a:rPr>
              <a:t>140000 см</a:t>
            </a:r>
            <a:r>
              <a:rPr b="0" lang="ru-RU" sz="3200" spc="-1" strike="noStrike" baseline="30000">
                <a:solidFill>
                  <a:srgbClr val="a50021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7490,734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800"/>
                            </p:stCondLst>
                            <p:childTnLst>
                              <p:par>
                                <p:cTn id="4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300"/>
                            </p:stCondLst>
                            <p:childTnLst>
                              <p:par>
                                <p:cTn id="4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800"/>
                            </p:stCondLst>
                            <p:childTnLst>
                              <p:par>
                                <p:cTn id="5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ол5"/>
          <p:cNvPicPr/>
          <p:nvPr/>
        </p:nvPicPr>
        <p:blipFill>
          <a:blip r:embed="rId1"/>
          <a:stretch/>
        </p:blipFill>
        <p:spPr>
          <a:xfrm>
            <a:off x="539640" y="3213000"/>
            <a:ext cx="3978360" cy="31813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3851280" y="2637000"/>
            <a:ext cx="2808360" cy="1511280"/>
          </a:xfrm>
          <a:prstGeom prst="wedgeRoundRectCallout">
            <a:avLst>
              <a:gd name="adj1" fmla="val -83462"/>
              <a:gd name="adj2" fmla="val 126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девочки, ткани будет малова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493800" y="549360"/>
            <a:ext cx="15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ыв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олковый словарь русского языка Ожегова и Шведовой Ф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dict.tsk.ru/d-encyclopaedical/b/Q62D30UHG8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Толковый словарь Ушакова ДЮЙ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ict.myfind.ru/article/196/222/index.ht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mbler.ru/cgibin/pic.cgi?words=%F1%EB%E5%E4%F1%F2%E2%E8%E5+%E2%E5%E4%F3%F2+%EA%EE%EB%EE%E1%EA%E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вифт, Д. Путишествия Лемюэля Гулливера. – М.:Металлургия, 1984. – 34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500"/>
                            </p:stCondLst>
                            <p:childTnLst>
                              <p:par>
                                <p:cTn id="5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826920" y="1197000"/>
            <a:ext cx="7561440" cy="35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47182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100000">
                    <a:srgbClr val="47182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47182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внима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100000">
                    <a:srgbClr val="47182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4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Рисунок4"/>
          <p:cNvPicPr/>
          <p:nvPr/>
        </p:nvPicPr>
        <p:blipFill>
          <a:blip r:embed="rId1"/>
          <a:stretch/>
        </p:blipFill>
        <p:spPr>
          <a:xfrm>
            <a:off x="250920" y="692280"/>
            <a:ext cx="3025800" cy="2728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492360" y="423720"/>
            <a:ext cx="56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тективное агентство обра-тились 3 обворожительные осо-бы, представительницы трёх государств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осс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анечка Лапшова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Лилипут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Бробдингнег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следние два придумал английский писатель  Д. Свифт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73520" y="4724280"/>
            <a:ext cx="89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лись с просьбой выяснить хватит ли им кус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и на пошив фарту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792000" y="4762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енты согласились провести расследовани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765000"/>
            <a:ext cx="4932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оставили пла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ыяснить размеры ткан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Узнать расход материала на фартуки д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ек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Сделать выво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кол7"/>
          <p:cNvPicPr/>
          <p:nvPr/>
        </p:nvPicPr>
        <p:blipFill>
          <a:blip r:embed="rId1"/>
          <a:stretch/>
        </p:blipFill>
        <p:spPr>
          <a:xfrm>
            <a:off x="5003640" y="3860640"/>
            <a:ext cx="3765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15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7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35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ол1"/>
          <p:cNvPicPr/>
          <p:nvPr/>
        </p:nvPicPr>
        <p:blipFill>
          <a:blip r:embed="rId1"/>
          <a:stretch/>
        </p:blipFill>
        <p:spPr>
          <a:xfrm>
            <a:off x="250920" y="1341360"/>
            <a:ext cx="3097080" cy="3114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3419640" y="1413000"/>
            <a:ext cx="2950920" cy="1617480"/>
          </a:xfrm>
          <a:prstGeom prst="wedgeRoundRectCallout">
            <a:avLst>
              <a:gd name="adj1" fmla="val -62856"/>
              <a:gd name="adj2" fmla="val 7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н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овский сите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130920" y="284040"/>
            <a:ext cx="32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азмеры ткан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кань"/>
          <p:cNvPicPr/>
          <p:nvPr/>
        </p:nvPicPr>
        <p:blipFill>
          <a:blip r:embed="rId2"/>
          <a:stretch/>
        </p:blipFill>
        <p:spPr>
          <a:xfrm rot="9859200">
            <a:off x="6227640" y="2852640"/>
            <a:ext cx="2602080" cy="2175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403280" y="4630680"/>
            <a:ext cx="48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ина - 140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- 10 м = 1000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ина × дли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40 × 1000 =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40000 см</a:t>
            </a:r>
            <a:r>
              <a:rPr b="1" lang="ru-RU" sz="2800" spc="-1" strike="noStrike" baseline="30000">
                <a:solidFill>
                  <a:srgbClr val="a50021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55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8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95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4788000" y="3500280"/>
            <a:ext cx="4065840" cy="2980440"/>
            <a:chOff x="4788000" y="3500280"/>
            <a:chExt cx="4065840" cy="2980440"/>
          </a:xfrm>
        </p:grpSpPr>
        <p:sp>
          <p:nvSpPr>
            <p:cNvPr id="56" name="Line 16"/>
            <p:cNvSpPr/>
            <p:nvPr/>
          </p:nvSpPr>
          <p:spPr>
            <a:xfrm>
              <a:off x="6227640" y="3860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2"/>
            <p:cNvGrpSpPr/>
            <p:nvPr/>
          </p:nvGrpSpPr>
          <p:grpSpPr>
            <a:xfrm>
              <a:off x="4788000" y="3500280"/>
              <a:ext cx="4065840" cy="2980440"/>
              <a:chOff x="4788000" y="3500280"/>
              <a:chExt cx="4065840" cy="2980440"/>
            </a:xfrm>
          </p:grpSpPr>
          <p:grpSp>
            <p:nvGrpSpPr>
              <p:cNvPr id="58" name="Group 12"/>
              <p:cNvGrpSpPr/>
              <p:nvPr/>
            </p:nvGrpSpPr>
            <p:grpSpPr>
              <a:xfrm>
                <a:off x="4788000" y="3931560"/>
                <a:ext cx="3816360" cy="2066400"/>
                <a:chOff x="4788000" y="3931560"/>
                <a:chExt cx="3816360" cy="2066400"/>
              </a:xfrm>
            </p:grpSpPr>
            <p:sp>
              <p:nvSpPr>
                <p:cNvPr id="59" name="Rectangle 7"/>
                <p:cNvSpPr/>
                <p:nvPr/>
              </p:nvSpPr>
              <p:spPr>
                <a:xfrm>
                  <a:off x="5653440" y="4867920"/>
                  <a:ext cx="2087280" cy="1130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8"/>
                <p:cNvSpPr/>
                <p:nvPr/>
              </p:nvSpPr>
              <p:spPr>
                <a:xfrm>
                  <a:off x="6229440" y="3931560"/>
                  <a:ext cx="914400" cy="914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9"/>
                <p:cNvSpPr/>
                <p:nvPr/>
              </p:nvSpPr>
              <p:spPr>
                <a:xfrm>
                  <a:off x="7740720" y="4867920"/>
                  <a:ext cx="863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0"/>
                <p:cNvSpPr/>
                <p:nvPr/>
              </p:nvSpPr>
              <p:spPr>
                <a:xfrm flipH="1">
                  <a:off x="4788000" y="4867920"/>
                  <a:ext cx="865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AutoShape 11"/>
                <p:cNvSpPr/>
                <p:nvPr/>
              </p:nvSpPr>
              <p:spPr>
                <a:xfrm>
                  <a:off x="6301080" y="5155200"/>
                  <a:ext cx="790560" cy="504720"/>
                </a:xfrm>
                <a:prstGeom prst="flowChartManualOperati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Line 13"/>
              <p:cNvSpPr/>
              <p:nvPr/>
            </p:nvSpPr>
            <p:spPr>
              <a:xfrm>
                <a:off x="7956720" y="486828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5"/>
              <p:cNvSpPr/>
              <p:nvPr/>
            </p:nvSpPr>
            <p:spPr>
              <a:xfrm>
                <a:off x="5653440" y="6092280"/>
                <a:ext cx="20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7"/>
              <p:cNvSpPr/>
              <p:nvPr/>
            </p:nvSpPr>
            <p:spPr>
              <a:xfrm>
                <a:off x="7237440" y="39315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8"/>
              <p:cNvSpPr/>
              <p:nvPr/>
            </p:nvSpPr>
            <p:spPr>
              <a:xfrm>
                <a:off x="6232320" y="3500280"/>
                <a:ext cx="91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5см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9"/>
              <p:cNvSpPr/>
              <p:nvPr/>
            </p:nvSpPr>
            <p:spPr>
              <a:xfrm>
                <a:off x="7167240" y="4147560"/>
                <a:ext cx="91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20см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0"/>
              <p:cNvSpPr/>
              <p:nvPr/>
            </p:nvSpPr>
            <p:spPr>
              <a:xfrm>
                <a:off x="7940160" y="5103360"/>
                <a:ext cx="91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40см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1"/>
              <p:cNvSpPr/>
              <p:nvPr/>
            </p:nvSpPr>
            <p:spPr>
              <a:xfrm>
                <a:off x="6232320" y="6021000"/>
                <a:ext cx="91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50см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Text Box 23"/>
          <p:cNvSpPr/>
          <p:nvPr/>
        </p:nvSpPr>
        <p:spPr>
          <a:xfrm>
            <a:off x="2408040" y="426960"/>
            <a:ext cx="52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нимем мерки с Танеч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6" descr="100_2217"/>
          <p:cNvPicPr/>
          <p:nvPr/>
        </p:nvPicPr>
        <p:blipFill>
          <a:blip r:embed="rId1"/>
          <a:stretch/>
        </p:blipFill>
        <p:spPr>
          <a:xfrm>
            <a:off x="250920" y="119700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699640" y="571680"/>
            <a:ext cx="39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асход материа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08200" y="1719360"/>
            <a:ext cx="77245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нагрудн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5 × 20 = 300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низ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0 × 50 = 2000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общ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300 + 2000 = 2300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% о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общ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дёт на отделк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00 : 100 × 10 = 230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того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: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фартук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2300 + 230 = 2530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5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5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15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8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15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150"/>
                            </p:stCondLst>
                            <p:childTnLst>
                              <p:par>
                                <p:cTn id="21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4" descr="кол3"/>
          <p:cNvPicPr/>
          <p:nvPr/>
        </p:nvPicPr>
        <p:blipFill>
          <a:blip r:embed="rId1"/>
          <a:stretch/>
        </p:blipFill>
        <p:spPr>
          <a:xfrm>
            <a:off x="1547640" y="2349360"/>
            <a:ext cx="5905800" cy="425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245240" y="22860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ки удалось снять только с Танюш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ыть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908000" y="1268280"/>
            <a:ext cx="3168720" cy="1871640"/>
          </a:xfrm>
          <a:prstGeom prst="wedgeRoundRectCallout">
            <a:avLst>
              <a:gd name="adj1" fmla="val 5208"/>
              <a:gd name="adj2" fmla="val 81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ы знаем о девочках из Лилипутии и Бробдингнега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5580000" y="1700280"/>
            <a:ext cx="2786040" cy="1008000"/>
          </a:xfrm>
          <a:prstGeom prst="wedgeRectCallout">
            <a:avLst>
              <a:gd name="adj1" fmla="val -45671"/>
              <a:gd name="adj2" fmla="val 183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мся к первоисточни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240" y="26028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утешествие Лемюэля Гулливера в Лилипутию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493800" y="69228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не более 6 дюймо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8480" y="1197000"/>
            <a:ext cx="506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юйм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ая мера дл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дюй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,54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жителей = 2,54 × 6 = 15,24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240" y="314172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утешествие Лемюэля Гулливера в Бробдингнег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620720" y="3573360"/>
            <a:ext cx="75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ятилетняя дочь хозяйки…была для своих л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ого роста-всего около сорока футо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53320" y="4653000"/>
            <a:ext cx="581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у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нглийская мера дл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ф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0,3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девочки = 0,3 × 40 = 12м = 1200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574a61436c4d46c39fe790e129042249"/>
          <p:cNvPicPr/>
          <p:nvPr/>
        </p:nvPicPr>
        <p:blipFill>
          <a:blip r:embed="rId1"/>
          <a:stretch/>
        </p:blipFill>
        <p:spPr>
          <a:xfrm>
            <a:off x="6489720" y="4643280"/>
            <a:ext cx="2654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15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2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50"/>
                            </p:stCondLst>
                            <p:childTnLst>
                              <p:par>
                                <p:cTn id="2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4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75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35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625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169640" y="58896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08280" y="1290600"/>
            <a:ext cx="814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а из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Лилипут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9 раз меньше Танюш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40 см : 15,24с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 9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а и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Бробдингне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9 раз больш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200 : 1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 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гулливер2"/>
          <p:cNvPicPr/>
          <p:nvPr/>
        </p:nvPicPr>
        <p:blipFill>
          <a:blip r:embed="rId1"/>
          <a:stretch/>
        </p:blipFill>
        <p:spPr>
          <a:xfrm>
            <a:off x="622764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ол1"/>
          <p:cNvPicPr/>
          <p:nvPr/>
        </p:nvPicPr>
        <p:blipFill>
          <a:blip r:embed="rId2"/>
          <a:stretch/>
        </p:blipFill>
        <p:spPr>
          <a:xfrm>
            <a:off x="536400" y="3500280"/>
            <a:ext cx="3097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5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65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2:10:13Z</dcterms:created>
  <dc:creator>1</dc:creator>
  <dc:description/>
  <dc:language>en-US</dc:language>
  <cp:lastModifiedBy>SamLab.ws</cp:lastModifiedBy>
  <dcterms:modified xsi:type="dcterms:W3CDTF">2012-01-06T19:32:34Z</dcterms:modified>
  <cp:revision>20</cp:revision>
  <dc:subject/>
  <dc:title>Слайд 1</dc:title>
</cp:coreProperties>
</file>