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6BF-021D-4EC1-B8FF-EA7776D2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DE4-D2DE-42ED-AF6F-40A5CE43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6ED-4D47-444C-9273-B1E2586E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E77-77F2-49B3-AC9A-E576DFAE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1E2E-6DC4-4D44-A82E-BA242223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3099-8B2F-4F04-BBAE-E5FA93B2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92F9-C96D-401E-A364-033F278B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F0CB-9826-459D-BE8D-2217AF22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158-7C4A-4ABD-843F-44C00CC0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21DA-B2A1-4453-A41D-A7136BE5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85F6-7248-4EC8-B033-FA68FA6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E15-53EC-44E9-A8B1-0D335012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D7D9-96D9-4322-8BDD-A8732CE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4792-5C45-4A69-95D9-8F291408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78BF-3B5D-429D-AA90-D9ADE5ED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9776-92DF-4ED5-8B0D-FD6F169A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7757-AB30-40C5-A432-13757F80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7EF-4DA2-4F78-9DAD-C0D92C98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FEC-A3D4-4D80-8001-69A62ED6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2F0-B637-4AC0-ADA7-08752201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6CB-E3F9-4A2C-9DCC-D5459C15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11E-C069-4627-8C55-DBCF723E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E3F-71B1-48CD-B836-595E0F10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F6E-9F9B-4831-8773-0F289A8B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4620-64B6-4422-8FC7-DEABF3443B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CA62-E3EC-42B1-976F-882B791560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734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0605a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30605a"/>
                </a:solidFill>
                <a:latin typeface="Arial"/>
              </a:rPr>
              <a:t>Конспект</a:t>
            </a:r>
            <a:br>
              <a:rPr sz="6000"/>
            </a:br>
            <a:r>
              <a:rPr b="0" lang="ru-RU" sz="6000" spc="-1" strike="noStrike">
                <a:solidFill>
                  <a:srgbClr val="30605a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интегрированного занятия 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в группе предшкольного         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       образования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«Сказочно – красивые платки»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50288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:  Сергеева Надежда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.п. Татищево 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5280" y="36360"/>
            <a:ext cx="67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тский сад № 1 р.п. Татищево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ищевского района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-1143000"/>
            <a:ext cx="7324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73915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04920"/>
            <a:ext cx="754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бята, а чем похожи все эти пла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Яркие, красивые, нарядные, празднич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осмотрите внимательнее, чем они отлич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цветом, фор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вета использованы в раскраши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сновные и называются дополнительные ц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кт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ки какой формы вы вид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вадратной, треугольной, круглой, прямоуголь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чем ещё платки отлич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личи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жите, где расположен самый большой пла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расположен самый маленький пла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можно сказать про расположение платка треугольной фор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77720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7314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4560" y="36360"/>
            <a:ext cx="74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 сейчас запомните хорошо как расположены пл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играем в игру «Что изменилос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-1447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700992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049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игры дети садятся за ст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" y="9334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-1447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7009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5040" y="264960"/>
            <a:ext cx="7226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ята, предметы делают из разных матери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йчас я предлагаю вам открыть учебник «Учимся дум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. 41 (4 и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: раскрась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оспитатель объясняет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каждого материала задан свой ц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рево – жё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кло – голу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алл –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жа – чё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кань – зелё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жа –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стмасса – роз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ень – корич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ядом с рисунком в таблице нужно раскрасить знак цве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ответствующим материалу, из которого может быть изгото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исованный предм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ьте внимательны. Правильность выполнения контролиру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ети выполняют зад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73911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70862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4565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66800" y="74671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7314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280" y="51444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-1295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7009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280" y="4381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-1295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71629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8400" y="344520"/>
            <a:ext cx="711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улице весна, солныш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ет тёплый вете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вайте встанем около стульч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делаем заря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ет ветер нам в лицо – дети выполн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ижение р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ачалось деревцо – дети выполн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лоны вправо и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ерок всё тише, тише – дети медл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е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евцо всё выше, выше – дети подтяги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носочках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7695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700992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49536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700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74671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1960" y="268200"/>
            <a:ext cx="6941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ычай носить платки на Р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 давню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рию. Ещё в глубокой древности женщ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ы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у куском ткани – платом, который поз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 назы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ком. Сначала его носили поверх гол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ора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и повязывать прямо на вол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оказываю иллюстр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711160"/>
            <a:ext cx="2379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7238880" y="73915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5040" y="189000"/>
            <a:ext cx="725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605a"/>
                </a:solidFill>
                <a:latin typeface="Arial"/>
              </a:rPr>
              <a:t>Интегрирова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 раздел Предмет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раздел Учимся рис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605a"/>
                </a:solidFill>
                <a:latin typeface="Arial"/>
              </a:rPr>
              <a:t>Пособ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имся рисовать - Салмина Н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ебова А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мся думать -   Салмина Н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605a"/>
                </a:solidFill>
                <a:latin typeface="Arial"/>
              </a:rPr>
              <a:t>Материал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атки разного цвета, размера, формы,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енные из разного материала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ёвочка для вывешивания платков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щепки, сундучок; платочки для игры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остань платочек»; платки дл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еров; силуэты солнышек и ту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605a"/>
                </a:solidFill>
                <a:latin typeface="Arial"/>
              </a:rPr>
              <a:t>Картин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ак носили платки в ста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я ткацких ст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я платков стари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71625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76957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52280" y="434880"/>
            <a:ext cx="75438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-1295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7086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2280" y="5144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70862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72385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12680"/>
            <a:ext cx="79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вным-давно крестьяне ткали платки дома, на самодельных станк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рашали разными узорами (демонстрация картин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71625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73915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280" y="4381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00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723852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28600" y="49536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7238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2385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08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22860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днее были созданы заводы и фабрики для изготовления пла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иллюстр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8600" y="95256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74671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7086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7640" y="344520"/>
            <a:ext cx="757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ята, а для чего люди используют пла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тветы де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обходилось, да и теперь не об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уси праздничный женский наряд без краси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зочного пла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теперь дорогие мои, нам пора немного по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познакомлю. Вас с русской народной иг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стань платоче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игра проводилась на ярмарках и праздн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очки подвешивались так, что дос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было только подпрыгну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ети прыгают в высоту, пытаясь достать платоч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7162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746712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7314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7162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280" y="4381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72385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73148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6560" y="115920"/>
            <a:ext cx="733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рядные платки стали в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ни модной деталью одежды. Платок придаё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лекательность и неповтор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йчас мы с вами поиграем в иг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емонстрация модел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имся на пары, один – модель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другой – модель и поучимся повязывать пл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ак, демонстрация мод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ядный б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жер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ок – галст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очек - шарф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-1052640"/>
            <a:ext cx="3362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7314840"/>
            <a:ext cx="803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6880" y="344520"/>
            <a:ext cx="74228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30605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изировать познавательный интерес дет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комя их с деталью одежды – плат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ь использовать платок, как мод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ременный аксессуар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ражнять в различении орнаментов по форм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ти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ть элементарный самоконт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лять знания детей об основ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льных цветах спек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умение анализировать фор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комых предметов, замечать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ранственных 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лять умен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знавать изделия, сделанные из разны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ывать творческие способности, эсте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ус у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 за осанко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729936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7086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533520" y="7238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7162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8600" y="5144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7162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73148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" y="49536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228600" y="7162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70862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5716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76197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73915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49536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7238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74671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8600" y="49536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228600" y="7086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228600" y="7314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8600" y="5716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228600" y="7314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76201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2280" y="49536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7086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72385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8600" y="5716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7086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7009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28600" y="49536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9880" y="-1143000"/>
            <a:ext cx="7096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93960" y="74671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4680" y="320760"/>
            <a:ext cx="7419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Ход:</a:t>
            </a: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 стоят полукругом. У воспитател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ках сунду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Ребята, в этом сундучке спрята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есная вещь. Я загадаю загадку, а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гадав её, узнаете, что же это та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редмет одежды – кусок ткани. Женщ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язывают его на голову, шею, поя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мужчины носят в кармане, на 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же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Дет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Это плат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, это платок. Давайте посмот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Воспитатель достаёт платок из сундуч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лагает его  и ещё другие пл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рассматривания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76197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7314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304920"/>
            <a:ext cx="75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ята, вы научились модно, совреме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о повязывать платки. Понравилось ли вам это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ого вы могли бы научить делать так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ейчас приглашаю вас в мастерскую по раскрашиванию платков и сделаем сказочно – красивые платки. И кто знает, может наши с вами Татищевские платки прославятся на весь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ем учебник по рисованию № 4 стр.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 и 1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оспитатель читает задание, дети выполня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будьте внимательны, контролируйте прав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я задания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0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7314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76201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7238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7162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52280" y="36180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152640" y="70862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700992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6120" y="192240"/>
            <a:ext cx="6709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331e"/>
                </a:solidFill>
                <a:latin typeface="Arial"/>
              </a:rPr>
              <a:t>Итог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, у вас в розеточках лежат силуэты солныше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чек. Если вам было интересно и всё понравило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нимите солнышко. А если вам было не очень интерес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быть грустно – поднимите ту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оспитатель делает вывод по итогу поднятых силуэ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594360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71625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1920" y="70862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52280" y="419040"/>
            <a:ext cx="74678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81080" y="-15238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7009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700992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13716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980720" y="7391160"/>
            <a:ext cx="73105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8000" y="189000"/>
            <a:ext cx="679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оспитат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мотрите, потрогайте из ч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н этот плат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з шерст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он какой? (шерстян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от этот из чего сделан? (из шёл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он – (шёлков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ок, сделанный из пуха? (пухо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Воспитатель развешивает платки раз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а, размера, формы на верёво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крепляет её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62320" y="7086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4953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-664200"/>
            <a:ext cx="671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7086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2:31:48Z</dcterms:created>
  <dc:creator>User</dc:creator>
  <dc:description/>
  <dc:language>en-US</dc:language>
  <cp:lastModifiedBy>User</cp:lastModifiedBy>
  <dcterms:modified xsi:type="dcterms:W3CDTF">2010-03-30T16:47:34Z</dcterms:modified>
  <cp:revision>7</cp:revision>
  <dc:subject/>
  <dc:title>      Конспект</dc:title>
</cp:coreProperties>
</file>