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1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D632-CEDB-47AE-8D78-8ABA3ED4A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6C00-1DFF-4242-8E68-4C058DFB2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86A6-2153-48EF-A3EE-5789C722B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B6E2-2971-4A83-ABE3-02DC97F77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091C-CDAB-4469-A282-A2B0EA75B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FB3A-E4E8-45CD-A989-110ABE332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1D4-B412-4D10-B4A8-E5D039508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E9F8-180D-46C8-8BF4-C3CAE29CF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0C08-3008-4C76-B565-4A5D80082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787-2A25-4928-B6FA-D2255E9C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540-9E92-4C1B-BCB9-81560A7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6B6-1E16-4E51-A017-5E98B004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C75-7BA2-4C06-88C2-2AA00EFB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1F92-8676-4585-9149-844EEA13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72EC-7ECD-4137-BDC3-88AF3C91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D77B-2810-44AA-BC53-AD9802E7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A27C-830A-48A0-8287-430BAB0C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26B5-61B3-4FCE-BC95-D12534B9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0800-3E92-4884-AAD9-E11DF296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EC05-36E8-476A-917F-3C219469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F09-0EFE-4A6A-87BC-4D94A267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BC0F-B661-4CAE-AF8E-5F149DA7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88F7-8939-4816-87C5-44B84CE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7BA6-DF15-4036-A36F-761BECCA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FD84-E3D5-42ED-AA88-15F30E54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A2BA-B9A0-4BC3-ABD2-F85926D8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F72-2E88-41C3-8FC5-EE3263B4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902-BEAC-45C4-8F36-AB0A1FA1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334-F034-4259-A5FF-93549708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D0E-4137-4843-964D-839C38D9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01B-224C-4BA8-B2A7-3120A379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D9B-0A10-4957-8C62-6E747BD4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158-7134-4607-9631-ABB24D4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59EF-989C-436C-B02E-78EFAA937E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E546-0557-46B0-AA7A-53B045478C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56;&#1048;&#1047;" TargetMode="External"/><Relationship Id="rId2" Type="http://schemas.openxmlformats.org/officeDocument/2006/relationships/hyperlink" Target="http://ru.wikipedia.org/wiki/&#1040;&#1083;&#1100;&#1090;&#1096;&#1091;&#1083;&#1083;&#1077;&#1088;,_&#1043;&#1077;&#1085;&#1088;&#1080;&#1093;_&#1057;&#1072;&#1091;&#1083;&#1086;&#1074;&#1080;&#1095;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730404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5f5f5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ИГРОВЫЕ ТЕХНОЛОГИИ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в детском саду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знаками гуманно-личностной ориентации применительно к образовательным технологиям являю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оминирование в работе учреждения целей личностного, интеллектуального, деятельностного и профессионального развития ребен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кцент на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отивацию его достижений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и успехов, направленность на поддержку индивидуального развит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кцент на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амопроектирование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и самоуправлени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артнерское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заимодействие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участников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иалог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как форма и средство обмена информацией, личностными оценками и ценн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едоставление учащимся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вободы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выбора и личная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тветственность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за принятые реш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эмоциональная сопричастность и проживание образовательных ситуаций и событ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Заголовок 2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15968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000" y="1674720"/>
            <a:ext cx="8127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Уровень и характер применения: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бщепедагогическ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Методологический подход: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личностно ориентирован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Преобладающие методы: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бъяснительно-иллюстративные, игровые с элементами проблемности, творчества. Игровые методы – основа учебного процес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Подход к ребенку: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гуманно-личностный, педагогика сотруднич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Векторы це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тановление, развитие и воспитание в ребенке благородного человека путем раскрытия его личных кач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благораживание души и сердца ребен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азвитие и становление познавательных сил ребен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беспечение условий для расширенного и углубленного объема знаний и ум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тремление к идеалу воспитания – самовоспита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Заголовок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46920" cy="93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игровые технологии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ехнологии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роблемного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обучения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исковые, исследовательские, проектные, творческие , продуктивные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(ребенок вводится в ситуации, требующие от него самостоятельного поиска выхода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интерактивные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технологии, или технологии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межличностной коммуникации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(дебаты, мозговой штурм, критическое мышление и др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ехнологии формирования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субъектной активности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человека (лидерства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социальной активности, самозащитных качеств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личности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60280"/>
            <a:ext cx="86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Технологии, в которых цели и средства активизации составляю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главную идею и становятся основой эффективности результат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77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Под </a:t>
            </a:r>
            <a:r>
              <a:rPr b="1" lang="ru-RU" sz="1800" spc="-1" strike="noStrike">
                <a:solidFill>
                  <a:srgbClr val="990033"/>
                </a:solidFill>
                <a:latin typeface="Verdana"/>
              </a:rPr>
              <a:t>проблемным обучением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технологией проблемного обучения) понимается такая организация образовательного процесса, которая предполагает создание в сознании детей под руководством педагога проблемных ситуаций и организацию активной самостоятельной деятельности детей по их разрешению, в результате чего и происходит творческое овладение ЗУН и развитие мыслительных процес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А.М. Матюшкин,М.И. Махмутов, А.В. Брушлинский, Т.В. Кудрявцев, И.Я. Лернер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Verdana"/>
              </a:rPr>
              <a:t>Целевые ориентир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Приобретение (усвоение)ЗУН учащих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Повышение прочности зна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Усвоение способов самостоятельной деятельности (СУД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Формирование поисковых и исследовательских умений и навык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Развитие познавательных и творческих способнос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Заголовок 2" descr=""/>
          <p:cNvPicPr/>
          <p:nvPr/>
        </p:nvPicPr>
        <p:blipFill>
          <a:blip r:embed="rId1"/>
          <a:stretch/>
        </p:blipFill>
        <p:spPr>
          <a:xfrm>
            <a:off x="1368360" y="379440"/>
            <a:ext cx="73137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5640" y="1700280"/>
            <a:ext cx="806436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Методические приемы 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оздания  проблемных ситуаций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- Педагог подводит детей к противоречию и предлагает им самим найти способ его разрешени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- Сталкивает противоречия практической деятельностью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- Излагает различные точки зрения на  один и тот же вопрос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- Предлагает рассмотреть явление с разных позиций (командир, юрист, эколог, воспитатель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- Побуждает делать сравнения, обобщения, выводы, сопоставлять факты (побуждающий диалог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- Ставит конкретные вопросы (на обобщение, обоснование, конкретизацию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- Определяет проблемные задани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- Формулирует проблемные задачи (с неопределенностью в постановке вопроса, противоречивыми данными, заведомо допущенными ошибками, ограниченным временем решения и т.д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ccc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333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  <a:ea typeface="Arial"/>
              </a:rPr>
              <a:t>Психологическая проблемная ситуация -</a:t>
            </a:r>
            <a:r>
              <a:rPr b="1" lang="en-US" sz="1800" spc="-1" strike="noStrike" u="sng">
                <a:solidFill>
                  <a:srgbClr val="990033"/>
                </a:solidFill>
                <a:uFillTx/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  <a:ea typeface="Arial"/>
              </a:rPr>
              <a:t> сугубо индивидуальное явление: «вопросное состояние», поисковая деятельность сознания, психологический дискомфор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2" descr=""/>
          <p:cNvPicPr/>
          <p:nvPr/>
        </p:nvPicPr>
        <p:blipFill>
          <a:blip r:embed="rId1"/>
          <a:stretch/>
        </p:blipFill>
        <p:spPr>
          <a:xfrm>
            <a:off x="1604880" y="314280"/>
            <a:ext cx="6654960" cy="936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6920" y="1628640"/>
            <a:ext cx="806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Проектное мышление, проектная деятельность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– процесс обобщенного и опосредованного познания действительности, при которой человек использует технологические, технические, экономические и другие знания для выполнения проектов по созданию культурных ценнос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Проект в контексте образования - результативная деятельность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, совершаемая в специально организованных педагогом условия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оектное обучение отличается от проблемного тем, что деятельность детей имеет характер проектирования, подразумевающего получение конкретного (практического) результата и его  публичного представ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ебенок с большим увлечением выполняет ту деятельность, которая свободно выбрана им самим(У. Килпатрик, Э. Коллингс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Эту идею в России  реализовал С.Т. Шацк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71640" y="184464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етод проектов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ориентирован на интерес, на творческую самореализацию развивающейся личности ребенка, развитие его интеллектуальных и физических возможностей, волевых качеств и творческих способностей в деятельности по решению какой-либо интересующей его пробле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ектирование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– целенаправленная деятельность, позволяющая найти решение проблем и осуществить изменения в окружающей среде (искусственной и естественной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Суть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проживание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приобщение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(проникновение в глубь явлений) +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конструирование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новых процессов, объектов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301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етод проектов – способ организации самостоятельной деятельности воспитанников по достижению определенного результата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99640" y="1744560"/>
            <a:ext cx="7696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Формирование проектной деятельности, проектного мыш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Verdana"/>
              </a:rPr>
              <a:t>Стимулирование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мотивации детей на приобретение зна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Включение </a:t>
            </a:r>
            <a:r>
              <a:rPr b="1" i="1" lang="en-US" sz="1800" spc="-1" strike="noStrike">
                <a:solidFill>
                  <a:srgbClr val="990033"/>
                </a:solidFill>
                <a:latin typeface="Verdana"/>
              </a:rPr>
              <a:t>всех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детей в режим самостоятельной рабо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Verdana"/>
              </a:rPr>
              <a:t>Самостоятельное приобретение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недостающих зна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азвитие умений пользоваться этими знаниями для решения новых познавательных и практических зада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азвитие способности </a:t>
            </a:r>
            <a:r>
              <a:rPr b="1" i="1" lang="en-US" sz="1800" spc="-1" strike="noStrike">
                <a:solidFill>
                  <a:srgbClr val="990033"/>
                </a:solidFill>
                <a:latin typeface="Verdana"/>
              </a:rPr>
              <a:t>применять знания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к жизненным ситуация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азвитие способностей к </a:t>
            </a:r>
            <a:r>
              <a:rPr b="1" i="1" lang="en-US" sz="1800" spc="-1" strike="noStrike">
                <a:solidFill>
                  <a:srgbClr val="990033"/>
                </a:solidFill>
                <a:latin typeface="Verdana"/>
              </a:rPr>
              <a:t>аналитическому, критическому и творческому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мышлен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азвитие важнейших компетенций для жизн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способности брать на себя ответственность, делать выбо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аствовать в совместном принятии решения, владеть общение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егулировать конфликты ненасильственным путем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азвитие </a:t>
            </a:r>
            <a:r>
              <a:rPr b="1" i="1" lang="en-US" sz="1800" spc="-1" strike="noStrike">
                <a:solidFill>
                  <a:srgbClr val="990033"/>
                </a:solidFill>
                <a:latin typeface="Verdana"/>
              </a:rPr>
              <a:t>исследовательских умений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:  анализа, наблюдения, построения гипотез, экспериментирования, обобщения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Целевые ориенти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907920"/>
            <a:ext cx="813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Включение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всех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  детей в режим самостоятельной рабо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Самостоятельное приобретение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недостающих зна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азвитие умений пользоваться этими знаниями для решения новых познавательных и практических задач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азвитие способности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применять знания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к жизненным ситуация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азвитие способностей к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аналитическому, критическому и творческому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мышлен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азвитие важнейших компетенций для жизн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способности брать на себя ответственность, делать выбор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участвовать в совместном принятии решения, владеть общение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егулировать конфликты ненасильственным путем и д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азвитие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исследовательских умений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:  анализа, наблюдения, построения гипотез, экспериментирования, обобщ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560" y="1700280"/>
            <a:ext cx="7696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исследовательские (по структуре приближены к научному исследованию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творческие (подчиняются  жанру конечного результата (газета, фильм, праздник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информационные (сбор, обобщение, ознакомление заинтересованных лиц с информацией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социально значимые (четко обозначен результат деятельности, ориентированный на интересы какой-либо группы людей; требуют распределения ролей, плана действий, внешней экспертиз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313760" cy="8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ипы  проект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9280" y="1916280"/>
            <a:ext cx="70563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  <a:ea typeface="Arial"/>
              </a:rPr>
              <a:t>Технологический подход – одно из средств обобщения и систематизации опыта педагогических инноваций, авторских школ и учителей – новаторов, результатов психолого-педагог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  <a:ea typeface="Arial"/>
              </a:rPr>
              <a:t>Селевк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62064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Технологический под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01480" y="836640"/>
            <a:ext cx="8391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гра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 – вид деятельности в ситуациях, направленных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гровая деятельность выполняет функции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развлекательную (развлечь, воодушевить, пробудить интерес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коммуникативную (освоение диалектики общения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самореализации в игре как полигоне человеческой практик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игротерапевтическую (преодоление различных трудностей, возникающих в других видах жизнедеятельности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диагностическую  (выявление отклонений от нормального поведения, самопознание в процессе игры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коррекции  (внесение позитивных изменений в структуру личностных показателей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межнациональной коммуникации (усвоение  единых для всех людей социально-культурных ценностей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социализации (включение в систему общественных отношений, усвоение норм человеческого общежития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Главные черты игры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свободная  развивающая деятельност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творческий, импровизационный, активный характер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эмоциональная приподнятость деятельнос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наличие правил, содержания, логики и временной последовательности                              развит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3137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гровые технологи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5120" y="431640"/>
            <a:ext cx="6105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гровая деятельно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Игра наряду с трудом и ученьем - один из основных видов деятельности человека, удивительный феномен нашего существ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По определению, игра - </a:t>
            </a:r>
            <a:r>
              <a:rPr b="0" i="1" lang="en-US" sz="2000" spc="-1" strike="noStrike">
                <a:solidFill>
                  <a:srgbClr val="990033"/>
                </a:solidFill>
                <a:latin typeface="Verdana"/>
              </a:rPr>
              <a:t>это вид деятельности в условиях ситуаций, направленных на воссоздание и усвоение общественного опыта, в котором складывается и                    совершенствуется самоуправление</a:t>
            </a:r>
            <a:r>
              <a:rPr b="1" i="1" lang="en-US" sz="20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990033"/>
                </a:solidFill>
                <a:latin typeface="Verdana"/>
              </a:rPr>
              <a:t>повед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Игра является ведущим видом детской деятель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2880" y="431640"/>
            <a:ext cx="61056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Функции иг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43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0033"/>
                </a:solidFill>
                <a:latin typeface="Verdana"/>
              </a:rPr>
              <a:t>развлекательная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(это основная функция игры - развлечь, доставить довольствие, воодушевить, пробудить интерес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0033"/>
                </a:solidFill>
                <a:latin typeface="Verdana"/>
              </a:rPr>
              <a:t>коммуникативная: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освоение диалектики общ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0033"/>
                </a:solidFill>
                <a:latin typeface="Verdana"/>
              </a:rPr>
              <a:t>самореализация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в игре как полигоне человеческой практик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0033"/>
                </a:solidFill>
                <a:latin typeface="Verdana"/>
              </a:rPr>
              <a:t>игротерапевтическая: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преодоление различных трудностей, возникающих в других видах жизнедеятельност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0033"/>
                </a:solidFill>
                <a:latin typeface="Verdana"/>
              </a:rPr>
              <a:t>диагностическая: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выявление отклонений от нормативного поведения, самопознание в процессе игры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функция </a:t>
            </a:r>
            <a:r>
              <a:rPr b="1" i="1" lang="ru-RU" sz="1900" spc="-1" strike="noStrike">
                <a:solidFill>
                  <a:srgbClr val="990033"/>
                </a:solidFill>
                <a:latin typeface="Verdana"/>
              </a:rPr>
              <a:t>коррекции: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внесение позитивных изменений в структуру личностных показателе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0033"/>
                </a:solidFill>
                <a:latin typeface="Verdana"/>
              </a:rPr>
              <a:t>межнациональная коммуникация:</a:t>
            </a:r>
            <a:r>
              <a:rPr b="0" i="1" lang="ru-RU" sz="1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усвоение единых для всех людей социально-культурных ценносте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функция </a:t>
            </a:r>
            <a:r>
              <a:rPr b="1" i="1" lang="ru-RU" sz="1900" spc="-1" strike="noStrike">
                <a:solidFill>
                  <a:srgbClr val="990033"/>
                </a:solidFill>
                <a:latin typeface="Verdana"/>
              </a:rPr>
              <a:t>социализации: </a:t>
            </a:r>
            <a:r>
              <a:rPr b="0" lang="ru-RU" sz="1900" spc="-1" strike="noStrike">
                <a:solidFill>
                  <a:srgbClr val="990033"/>
                </a:solidFill>
                <a:latin typeface="Verdana"/>
              </a:rPr>
              <a:t>включение в систему    общественных отношений, усвоение норм человеческого общежит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труктура игры как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деятельност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Целеполагание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Планирование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Реализация цел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Анализ результатов, в которых личность полностью реализует себя как субъект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гра как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метод обучения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33"/>
                </a:solidFill>
                <a:latin typeface="Verdana"/>
              </a:rPr>
              <a:t>  </a:t>
            </a:r>
            <a:r>
              <a:rPr b="0" lang="en-US" sz="2100" spc="-1" strike="noStrike">
                <a:solidFill>
                  <a:srgbClr val="990033"/>
                </a:solidFill>
                <a:latin typeface="Verdana"/>
              </a:rPr>
              <a:t>в качестве самостоятельных технологий для освоения понятия, темы и даже раздела учебного предмет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33"/>
                </a:solidFill>
                <a:latin typeface="Verdana"/>
              </a:rPr>
              <a:t>как элементы (иногда весьма существенные) более обширной технологи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990033"/>
                </a:solidFill>
                <a:latin typeface="Verdana"/>
              </a:rPr>
              <a:t>в качестве занятия или его части (введения, объяснения, закрепления, упражнения, контроля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33"/>
                </a:solidFill>
                <a:latin typeface="Verdana"/>
              </a:rPr>
              <a:t>как технологии свободной деятельнос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2" descr=""/>
          <p:cNvPicPr/>
          <p:nvPr/>
        </p:nvPicPr>
        <p:blipFill>
          <a:blip r:embed="rId1"/>
          <a:stretch/>
        </p:blipFill>
        <p:spPr>
          <a:xfrm>
            <a:off x="900000" y="0"/>
            <a:ext cx="7745400" cy="1601640"/>
          </a:xfrm>
          <a:prstGeom prst="rect">
            <a:avLst/>
          </a:prstGeom>
          <a:ln w="0">
            <a:noFill/>
          </a:ln>
        </p:spPr>
      </p:pic>
      <p:pic>
        <p:nvPicPr>
          <p:cNvPr id="143" name="Содержимое 3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29152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2268360" y="2924280"/>
          <a:ext cx="6407280" cy="1792080"/>
        </p:xfrm>
        <a:graphic>
          <a:graphicData uri="http://schemas.openxmlformats.org/drawingml/2006/table">
            <a:tbl>
              <a:tblPr/>
              <a:tblGrid>
                <a:gridCol w="1378080"/>
                <a:gridCol w="1655640"/>
                <a:gridCol w="1582920"/>
                <a:gridCol w="1790640"/>
              </a:tblGrid>
              <a:tr h="17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Обучающ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Тренингов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Контролирую-щ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Обобщающ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c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Познава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Воспитывающ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Развивающ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Исследовательс-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c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Репродуктив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Продуктив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Проектировоч-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Твор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cb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Коммуникатив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Диагност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Профориентацион-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Реабилитацио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d0d0d"/>
                          </a:solidFill>
                          <a:latin typeface="Arial"/>
                          <a:ea typeface="Arial"/>
                        </a:rPr>
                        <a:t>Психотерапевт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cbe0"/>
                    </a:solidFill>
                  </a:tcPr>
                </a:tc>
              </a:tr>
            </a:tbl>
          </a:graphicData>
        </a:graphic>
      </p:graphicFrame>
      <p:pic>
        <p:nvPicPr>
          <p:cNvPr id="145" name="Таблица 5" descr=""/>
          <p:cNvPicPr/>
          <p:nvPr/>
        </p:nvPicPr>
        <p:blipFill>
          <a:blip r:embed="rId3"/>
          <a:stretch/>
        </p:blipFill>
        <p:spPr>
          <a:xfrm>
            <a:off x="2050920" y="4653000"/>
            <a:ext cx="6785280" cy="1701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4" descr=""/>
          <p:cNvPicPr/>
          <p:nvPr/>
        </p:nvPicPr>
        <p:blipFill>
          <a:blip r:embed="rId1"/>
          <a:stretch/>
        </p:blipFill>
        <p:spPr>
          <a:xfrm>
            <a:off x="0" y="403200"/>
            <a:ext cx="8242200" cy="645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2556000" y="620640"/>
          <a:ext cx="5761080" cy="2808000"/>
        </p:xfrm>
        <a:graphic>
          <a:graphicData uri="http://schemas.openxmlformats.org/drawingml/2006/table">
            <a:tbl>
              <a:tblPr/>
              <a:tblGrid>
                <a:gridCol w="1103760"/>
                <a:gridCol w="1101240"/>
                <a:gridCol w="1105200"/>
                <a:gridCol w="1101240"/>
                <a:gridCol w="1349640"/>
              </a:tblGrid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Математические, химиче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ие, биолог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еские, физиче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ие, эколог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Музыкальные, литературны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театра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Труд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вы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технически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роизводств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изку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турны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Спорти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ы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военно-прикл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ы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туристически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ар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бще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воведчески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правленчески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Эконо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еские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мер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556000" y="4005360"/>
          <a:ext cx="5832360" cy="2592000"/>
        </p:xfrm>
        <a:graphic>
          <a:graphicData uri="http://schemas.openxmlformats.org/drawingml/2006/table">
            <a:tbl>
              <a:tblPr/>
              <a:tblGrid>
                <a:gridCol w="1352520"/>
                <a:gridCol w="1563480"/>
                <a:gridCol w="1459080"/>
                <a:gridCol w="1457280"/>
              </a:tblGrid>
              <a:tr h="25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Без предм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тов –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с предме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асто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ы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мнатны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личны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а мест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мпью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ые, телевизионны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ТСО, телеком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икаци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Техниче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и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со средствами передвиж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900000" y="134136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предметной обла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4797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игровой сред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1628280"/>
            <a:ext cx="769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Дидактические: расширение кругозора, познавательная деятельность; применение ЗУН в практической деятельности; формирование определенных умений и навыков, необходимых в практической  деятельности; развитие общеучебных умений и навыков; развитие трудовых навыков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Воспитывающие: воспитание самостоятельности, воли; формирование определенных подходов, позиций, нравственных, эстетических и мировоззренческих установок; воспитание сотрудничества, коллективизма, общительности, коммуникатив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Развивающие: развитие внимания, памяти, речи, мышления, умений сравнивать, сопоставлять, находить аналогии, воображения, фантазии;  творческих способностей, эмпатии, рефлексии, умения находить оптимальные решения; развитие мотивации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Социализирующие: приобщение к нормам и ценностям общества;  адаптация к условиям среды; стрессовый контроль, саморегуляция; обучение общению; психотерап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313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Целевые  ориент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8360" y="379080"/>
            <a:ext cx="731376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гровая технолог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троится как целостное образование, охватывающее определенную часть учебного процесса и объединенное общим содержанием, сюжетом, персонаже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нее включаются последовательно игры и упражнения, формирующие умение выделять основные, характерные признаки предметов, сравнивать, сопоставлять их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группы игр на обобщение предметов по определенным признакам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При этом игровой сюжет развивается параллельно основному содержанию обучения, помогает активизировать учебный процесс, осваивать ряд учебных элемент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Обучение в форме игры может и должно быть интересным, занимательным, но не развлекательны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0033"/>
                </a:solidFill>
                <a:latin typeface="Times New Roman"/>
              </a:rPr>
              <a:t>Составление игровых технологий</a:t>
            </a:r>
            <a:r>
              <a:rPr b="0" i="1" lang="en-US" sz="2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990033"/>
                </a:solidFill>
                <a:latin typeface="Times New Roman"/>
              </a:rPr>
              <a:t>из отдельных игр и                   элементов - забота каждого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 педагога</a:t>
            </a:r>
            <a:r>
              <a:rPr b="0" lang="en-US" sz="26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620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Игра – это дело серьёзно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Как и любая технология, педагогическая представляет собой процесс, при котором происходит качественное изменение воздействия на обучаем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руктура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 педагогической технологии содержит три основных взаимосвязанных компонент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учный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: технология является научно разработанным решением определенной проблемы, основанной на достижениях педагогической теории и передовой практи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формализованно-описательный: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технология представляется моделью, описанием (вербальным, текстовым, схемным) целей,  содержания, методов и средств, алгоритмов действий, применяемых для достижения  планируемых результа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оцессуально-деятельностный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: технология предстает как сам процесс осуществления деятельности объектов и субъектов, их целеполагание, планирование, организацию, реализацию целей и анализ результа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Заголовок 2" descr=""/>
          <p:cNvPicPr/>
          <p:nvPr/>
        </p:nvPicPr>
        <p:blipFill>
          <a:blip r:embed="rId1"/>
          <a:stretch/>
        </p:blipFill>
        <p:spPr>
          <a:xfrm>
            <a:off x="900000" y="0"/>
            <a:ext cx="7775640" cy="1432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8920" y="301320"/>
            <a:ext cx="38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атрализованная деятельно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81774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Цель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990033"/>
                </a:solidFill>
                <a:latin typeface="Verdana"/>
              </a:rPr>
              <a:t>развитие творческих способностей</a:t>
            </a:r>
            <a:r>
              <a:rPr b="1" i="1" lang="en-US" sz="1600" spc="-1" strike="noStrike">
                <a:solidFill>
                  <a:srgbClr val="800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Verdana"/>
              </a:rPr>
              <a:t>- развивать творческое воображение, фантаз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Verdana"/>
              </a:rPr>
              <a:t>- побуждать к импровизации с использованием доступных ребенку средств выразительности (мимика, жесты, движения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Verdana"/>
              </a:rPr>
              <a:t>- учить согласовывать свои действия с действиями партнера (слушать, не перебивая, говорить, обращаясь к партнеру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Verdana"/>
              </a:rPr>
              <a:t>- вызывать желание участвовать в праздниках и развлечен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 rot="21126000">
            <a:off x="324000" y="333000"/>
            <a:ext cx="3743280" cy="2497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7280" y="1989000"/>
            <a:ext cx="68709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етоды работы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 детьми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628640"/>
            <a:ext cx="5111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Последовате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знакомств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детей 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видами теат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3068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Поэтапное освоен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детьми видов творчеств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по возрастным группа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4221000"/>
            <a:ext cx="457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Работа над реч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интонаци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157720"/>
            <a:ext cx="457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Раскрепощен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omic Sans MS"/>
              </a:rPr>
              <a:t>ребен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3600360" cy="2400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иды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еатрализованных игр и упражнений</a:t>
            </a:r>
            <a:br>
              <a:rPr sz="24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990033"/>
                </a:solidFill>
                <a:latin typeface="Verdana"/>
              </a:rPr>
              <a:t>С движения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990033"/>
                </a:solidFill>
                <a:latin typeface="Verdana"/>
              </a:rPr>
              <a:t>На имитацию голос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990033"/>
                </a:solidFill>
                <a:latin typeface="Verdana"/>
              </a:rPr>
              <a:t>Игры – пантомимы, Игры  - превращ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990033"/>
                </a:solidFill>
                <a:latin typeface="Verdana"/>
              </a:rPr>
              <a:t>Театральные игр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990033"/>
                </a:solidFill>
                <a:latin typeface="Verdana"/>
              </a:rPr>
              <a:t>На развитие слухового восприя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en-US" sz="2900" spc="-1" strike="noStrike">
                <a:solidFill>
                  <a:srgbClr val="990033"/>
                </a:solidFill>
                <a:latin typeface="Verdana"/>
              </a:rPr>
              <a:t>и творческого воображ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47640" y="333360"/>
            <a:ext cx="56149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Логические блок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Золтона Дьенеш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Courier New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 rot="20964600">
            <a:off x="323640" y="259920"/>
            <a:ext cx="2590560" cy="1997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4000" y="2133720"/>
            <a:ext cx="856764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Цели и задачи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операции над множествами (сравнение, разбиение, классификация, абстрагирование, кодирование 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Помочь 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Воспитывать самостоятельность, инициативу, настойчивость в достижении цел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Развивать реч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  <a:ea typeface="Arial"/>
              </a:rPr>
              <a:t>- Помочь 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2951280" cy="2950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35120" y="502920"/>
            <a:ext cx="6105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лочки Дж.Кюизене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2792520" cy="2881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58920" y="16905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Цель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  <a:ea typeface="Arial"/>
              </a:rPr>
              <a:t>развитие у дошкольников представлений о числе на основе счета и измерения, овладение сенсорными эталонами, умением сравнивать, сопоставлять предметы. Подвести детей к пониманию различных абстрактных понят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35120" y="431640"/>
            <a:ext cx="6105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огико малыш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 rot="21005400">
            <a:off x="2340000" y="2924280"/>
            <a:ext cx="2271600" cy="3168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 rot="448200">
            <a:off x="4932000" y="3213000"/>
            <a:ext cx="2351160" cy="2903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42920" y="18334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35120" y="431640"/>
            <a:ext cx="6105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огический экр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4033800" cy="3944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508720" y="1844640"/>
            <a:ext cx="316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  <a:ea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  <a:ea typeface="Arial"/>
              </a:rPr>
              <a:t>развитие умения анализировать, сравнивать, классифицировать, развитие обучаемости, любознательности, уверенности в себ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77080" y="4076640"/>
            <a:ext cx="1727280" cy="2205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597320" cy="1873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1727280" cy="1717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771640" y="47628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492360" y="249228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 rot="21211200">
            <a:off x="5292360" y="2599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 rot="21310200">
            <a:off x="395280" y="260280"/>
            <a:ext cx="2581200" cy="1771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9280" y="220500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Волшебный квадра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3645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Тангра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4365720"/>
            <a:ext cx="59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  <a:ea typeface="Arial"/>
              </a:rPr>
              <a:t>Игры развивают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  <a:ea typeface="Arial"/>
              </a:rPr>
              <a:t>- Творческие способност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33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  <a:ea typeface="Arial"/>
              </a:rPr>
              <a:t>Логическое и пространственное мышлени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33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  <a:ea typeface="Arial"/>
              </a:rPr>
              <a:t>Воображение, память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33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  <a:ea typeface="Arial"/>
              </a:rPr>
              <a:t>Умение сравнивать, обобщать, анализировать, планировать, объединять в целое и т.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5661000"/>
            <a:ext cx="7889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 ее основу была положена теория решения изобретательских задач (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ТРИЗ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) отечественной (то есть российской, а еще точнее советской) школы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Г. С. 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Альтшуллер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ТРИЗ-педагогика ставит целью формирование сильного мышления и воспитание творческой личности, подготовленной к решению сложных проблем в различных областях деятельности.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собенностью работы с каждой возрастной группой являются выбор объектов изобретательской деятельности, соответствующих возраст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549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ТРИЗ-педагог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10" descr="http://im5-tub-ru.yandex.net/i?id=168084249-18-72"/>
          <p:cNvPicPr/>
          <p:nvPr/>
        </p:nvPicPr>
        <p:blipFill>
          <a:blip r:embed="rId3"/>
          <a:stretch/>
        </p:blipFill>
        <p:spPr>
          <a:xfrm>
            <a:off x="6948360" y="620640"/>
            <a:ext cx="156060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доровьеформирующие техноло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Логоритми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Логоритмические занятия направлены на всестороннее развитие ребёнка, совершенствование его речи, овладение двигательными навыками, умение ориентироваться в окружающем мире, понимание смысла предлагаемых заданий, на способность преодолевать трудности, творчески проявлять себ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Основной принцип построения логоритмических занятий — тесная связь с музыкой. Музыка с её огромным эмоциональным влиянием позволяет бесконечно разнообразить приёмы движения и характер упражн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1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824220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Заголовок 2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55820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Пальчиковая гимнастика</a:t>
            </a:r>
            <a:br>
              <a:rPr sz="32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стые движения рук помогают убрать напряжение не только с самих рук, но и с губ, снимают умственную усталость. Они способны улучшить произношение многих звуков, а значит развивать речь ребенка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0033"/>
                </a:solidFill>
                <a:latin typeface="Arial"/>
              </a:rPr>
              <a:t>Физкультминутки -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проводится, с целью активно изменить деятельность детей и этим ослабить утомление, а затем снова переключить их на продолжение занятие, развивать речь, координацию движения и мелкую моторику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0033"/>
                </a:solidFill>
                <a:latin typeface="Arial"/>
              </a:rPr>
              <a:t>Зрительная гимнастика -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улучшает кровоснабжение глазных яблок, нормализует тонус  глазодвигательных мышц, способствует быстрому снятию зрительного утом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0033"/>
                </a:solidFill>
                <a:latin typeface="Arial"/>
              </a:rPr>
              <a:t>Дыхательная гимнастика -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правильное дыхание стимулирует работу сердца, головного мозга и нервной системы, избавляет человека от многих болезней, улучшает пищеварение</a:t>
            </a:r>
            <a:r>
              <a:rPr b="0" lang="ru-RU" sz="1500" spc="-1" strike="noStrike">
                <a:solidFill>
                  <a:srgbClr val="990033"/>
                </a:solidFill>
                <a:latin typeface="Verdana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эффективная профилактика снижения заболеваемост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Рисунок 1" descr="http://im6-tub-ru.yandex.net/i?id=395197753-46-72"/>
          <p:cNvPicPr/>
          <p:nvPr/>
        </p:nvPicPr>
        <p:blipFill>
          <a:blip r:embed="rId1"/>
          <a:stretch/>
        </p:blipFill>
        <p:spPr>
          <a:xfrm>
            <a:off x="395280" y="5291280"/>
            <a:ext cx="1800360" cy="13446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http://im7-tub-ru.yandex.net/i?id=439655536-63-72"/>
          <p:cNvPicPr/>
          <p:nvPr/>
        </p:nvPicPr>
        <p:blipFill>
          <a:blip r:embed="rId2"/>
          <a:stretch/>
        </p:blipFill>
        <p:spPr>
          <a:xfrm>
            <a:off x="3276720" y="5445000"/>
            <a:ext cx="1655640" cy="12369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7" descr="http://im7-tub-ru.yandex.net/i?id=590213386-02-72"/>
          <p:cNvPicPr/>
          <p:nvPr/>
        </p:nvPicPr>
        <p:blipFill>
          <a:blip r:embed="rId3"/>
          <a:stretch/>
        </p:blipFill>
        <p:spPr>
          <a:xfrm>
            <a:off x="6300720" y="5391000"/>
            <a:ext cx="1656000" cy="1236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489800" cy="79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4360" y="1711440"/>
            <a:ext cx="820872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Все перечисленные выше качества представляют собой  одновременно и методологические требования к технологиям, и критерии технологичности. Наличие и степень проявления этих качеств являются мерой технологичности педагогического процесс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Источники и составные части инновационной педагогической технологи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социальные преобразования и новое педагогическое мышле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нау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передовой педагогический опы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достижения технического процесс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опыт прошлого, отечественный и зарубежны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 народная педагогика (этнопедагогик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иды педагогических технолог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«Здоровьесберегающая» технолог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Технология «ТРИЗ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Технология «Проблемного обучения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Технология «Марии Монтессори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Гуманно-личностная технология (Ш.Амонашвили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Педагогика сотрудниче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990033"/>
                </a:solidFill>
                <a:latin typeface="Verdana"/>
              </a:rPr>
              <a:t>«Игровая» технология и др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Уровень и характер применения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: 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метатехнология как общая платформа  большинства современных образовательных технолог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Методологический подход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личностно ориентированный, комплексный, деятельностный, социокультурный, коммуникативны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Преобладающие методы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роблемно-поисковые, творческие, диалогические, игровы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Подход к ребенку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гуманно-личностный, субъект-субъектны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Целевые ориентиры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ереход от педагогики требований к педагогике отнош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Гуманно-личностный подход к ребен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Единство обучения и воспит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Концепция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едагогика сотрудничества – это совместная развивающая деятельность взрослых и детей, скрепленная взаимопониманием, проникновением в духовный мир друг друга, совместным анализом хода и результатов этой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Заголовок 2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Гуманно-личностный подход к ребен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Дидактический активизирующий  и развивающий комплек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Концепция гуманистического коллективного воспит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Педагогизация окружающей сред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Гуманно-личностный подход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к ребенку в УВП  - это ключевое звено, коммуникативная основа личностно ориентированных педагогических технологий. Он  объединяет иде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взгляд на личность как цель образования (личность проявляется в раннем детстве; личность субъект образовательного процесса; каждый ребенок талантлив; приоритетными качествами являются высшие этические ценности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гуманизация и демократизация педагогических отношений (любовь и терпимость к детям, вера в ребенка, сотрудничество, отсутствие прямого принуждения, приоритет положительного стимулирования, право ребенка на свободный выбор и на ошибку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тказ от прямого принуждения (доверие и требовательность, увлеченность от интересного преподавания,  желание успеха, самостоятельность детей, косвенные требования через коллектив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принцип учета возрастных и индивидуальных особенностей (ориентация на лучшие качества личности, учет особенностей, прогнозирование развития, конструирование индивидуальных программ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Формирование положительной Я-концепции 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Заголовок 2" descr=""/>
          <p:cNvPicPr/>
          <p:nvPr/>
        </p:nvPicPr>
        <p:blipFill>
          <a:blip r:embed="rId1"/>
          <a:stretch/>
        </p:blipFill>
        <p:spPr>
          <a:xfrm>
            <a:off x="1604880" y="314280"/>
            <a:ext cx="6716880" cy="79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99640" y="1628280"/>
            <a:ext cx="7696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бращения к субъектному опыту ребен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учета психологических закономернос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рименения гибкой системы активного стимулир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труктурирования, дидактического преобразования  учеб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ичностно ориентированный подход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– это методологическая ориентация в педагогической деятельности, позволяющая посредством опоры на систему взаимосвязанных понятий, идей и способов действий обеспечить и поддержать процессы самопознания, самостроительства и самореализации личности ребенка, развитие его неповторимой индивидуальности (Е.Н. Степанов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Заголовок 2" descr=""/>
          <p:cNvPicPr/>
          <p:nvPr/>
        </p:nvPicPr>
        <p:blipFill>
          <a:blip r:embed="rId1"/>
          <a:stretch/>
        </p:blipFill>
        <p:spPr>
          <a:xfrm>
            <a:off x="1604880" y="314280"/>
            <a:ext cx="6973920" cy="79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0:12:11Z</dcterms:created>
  <dc:creator>User</dc:creator>
  <dc:description/>
  <dc:language>en-US</dc:language>
  <cp:lastModifiedBy>Елена</cp:lastModifiedBy>
  <dcterms:modified xsi:type="dcterms:W3CDTF">2012-02-16T18:38:19Z</dcterms:modified>
  <cp:revision>91</cp:revision>
  <dc:subject/>
  <dc:title>ИГРОВЫЕ ТЕХНОЛОГИИ</dc:title>
</cp:coreProperties>
</file>