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4BE-D158-4137-91F8-D3A15977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789-40AE-4479-9B63-1FA5C372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DF8-10B7-4447-A2CC-E318454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4B1-27A5-4CAF-9D83-E1702D92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9A8C-2157-4D41-A2C0-54A6C13A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DE02-D764-460C-A318-E589EEC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4D8-D14D-4B95-8D94-9AA9BC41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106-FE05-49FC-A8C8-3492FBB4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66AA-515E-44DA-B8C4-580E24E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33D-153A-48D9-89FF-D36BABC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4F1-990F-4389-9DBE-26E6BCD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C7A-7CFD-4E34-BF10-427553D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4C06-B9E2-47E1-8196-C23E750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34B-83FF-4B95-A54E-07290D4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DCD-F327-4CED-B373-13279BF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615-3510-4F5A-AAAA-A6EBFE71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0F35-9D0A-4D49-B560-317826A8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C29-6489-4D19-9172-11C75C0F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80D-5225-44B0-96EF-9666D9E9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D06-1249-4453-A9D4-7B6FA88C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27A-EF88-4D43-BA5D-D0E43C9E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BC1-9827-4174-9315-7D165431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5EC-0A0E-4B33-8B7A-EC6691F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983-7BDA-4A44-83E4-4AF1E47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09E-A081-4EB0-98BB-975555DAC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ED3-8F7B-422E-9F8E-C554F5FB5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21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1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964080"/>
            <a:ext cx="822960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Georgia"/>
              </a:rPr>
              <a:t>Добыча торф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938160"/>
            <a:ext cx="8785440" cy="5730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892080"/>
            <a:ext cx="822960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Georgia"/>
              </a:rPr>
              <a:t>клюк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497800" cy="568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1.66667E-006 -3.57987E-006 C 0.06892 -3.57987E-006 0.125 0.02852 0.125 0.064 C 0.125 0.09901 0.06892 0.12776 1.66667E-006 0.12776 C -0.0691 0.12776 -0.125 0.09901 -0.125 0.064 C -0.125 0.02852 -0.0691 -3.57987E-006 1.66667E-006 -3.57987E-006 Z">
                                      <p:cBhvr>
                                        <p:cTn id="30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360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964080"/>
            <a:ext cx="822960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Georgia"/>
              </a:rPr>
              <a:t>черни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64216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2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2296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Georgia"/>
              </a:rPr>
              <a:t>болот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47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Georgia"/>
              </a:rPr>
              <a:t>Пищевая цеп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16360" y="1700280"/>
            <a:ext cx="2676240" cy="302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867280" y="1700280"/>
            <a:ext cx="3046680" cy="30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5317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Georgia"/>
              </a:rPr>
              <a:t>Пищевая цеп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003640" y="40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675000"/>
            <a:ext cx="82296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Georgia"/>
              </a:rPr>
              <a:t>ПИЩЕВАЯ ЦЕП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89440" cy="273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765000"/>
            <a:ext cx="403236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388908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932360" y="386064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24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50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Georgia"/>
              </a:rPr>
              <a:t>Торф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705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Georgia"/>
              </a:rPr>
              <a:t>Полезные свойства торф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943280" cy="2084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989000"/>
            <a:ext cx="4038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4254480" cy="489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527640" cy="2405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9:46:23Z</dcterms:created>
  <dc:creator>Пользователь</dc:creator>
  <dc:description/>
  <dc:language>en-US</dc:language>
  <cp:lastModifiedBy>Пользователь</cp:lastModifiedBy>
  <dcterms:modified xsi:type="dcterms:W3CDTF">2012-02-28T19:09:29Z</dcterms:modified>
  <cp:revision>21</cp:revision>
  <dc:subject/>
  <dc:title>болото</dc:title>
</cp:coreProperties>
</file>