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006-9624-495C-9706-DA3F2EDA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8A9-78B4-42FC-A637-5D7C61D4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C9F-9DBA-42C9-91E5-36403B51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795-B6F6-43A0-AE63-B50C5A30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A0BF-F3B1-4D37-BB88-074D75A3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FD41-858E-4308-B94B-4B863DD6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5EBD-0B07-4093-B32B-B86BF183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B99F-2B46-4D96-86A0-97E6AAE4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81B7-66D3-4423-80B5-8D63FFE5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DB67-F57F-4CA4-8E0E-78CA0986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6E55-D19E-4FCF-918D-24C8FC09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2BBB-E3D7-4996-A0C9-DF852786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5999-8AF8-4117-8F7F-2B05E6E2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C0D8-8BEA-44C0-918E-0CEF8240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6EDD-2C2B-403E-8300-2BD7CB02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4002-6295-4E6B-8315-06F0FE6F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0FEE-D1D7-49B1-8F6E-7DA19675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711-6B12-4A60-95BF-8B2E19AD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F01-0879-438D-A4EF-19D5530A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8F5-351C-4357-BF0C-74D722EE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3C1A-1486-47BE-A734-82EF5C46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4FB-CB39-4502-AD1C-C0ED2027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594-BDB9-45D8-8938-F38C22E3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637-BC82-4084-B0D6-F791845D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93B6-6BFA-4724-833B-E8FCDE0F43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DE6B-9681-4921-9918-205BFC12558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Рабы, крестьяне и ремесленники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в Древнем Египт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191120" y="4887720"/>
            <a:ext cx="358128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руппа учащихся 5 «в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80880" y="3265560"/>
            <a:ext cx="30481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09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«Слуги царя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ие поля, урожай с которых шел в государственные амбары, обрабатывались отрядами работников, именовавшимися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«слугами царя»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их снабжали орудиями, скотом, посевным зерном, кормили за счет казны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лугами царя» были и ремесленники различных специальностей. До нас дошли изображения различных мастерских - ювелирных, ткацких, пивоварен, булочных; причем везде изображены и начальники - с плетками, палками. Изображения показывают и иноплеменников - в виде пленных со связанными руками. Вероятно, их превращали в рабов и использовали на работах в царско-храмовых государственных хозяйств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- что удивительно! - всех производителей и вообще работающих называли одним термином «мерет» (причем, термин не имел четкого правового и социального содержания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2695680" cy="2743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6172200" y="1371600"/>
            <a:ext cx="26668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441972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эпоху Среднего царства идет процесс складывания рынка. Денег как таковых еще не было. Мерилом ценности выступало зерно, затем - одежда, реже - медь, серебро или золот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месленники престижных профессий (ювелиры, каменотесы и др.) уже не считались принадлежностью царско-храмовых хозяйств; они вели свое дело, работали на заказ или на рынок (конечно, отдавая казне долю своего продукта, неся обязательную трудовую повинност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91320" y="304920"/>
            <a:ext cx="2778120" cy="34290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791320" y="3962520"/>
            <a:ext cx="281916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4191120" cy="33591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3409920" cy="46479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609480" y="4317840"/>
            <a:ext cx="426744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301320" y="228240"/>
            <a:ext cx="8537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исло рабов возросло, в том числе и частных. Но последних было немного, стоили они очень дорого. Даже знатный человек - чиновник, на которого работали сотни «слуг царя», гордился приобретением хотя бы одного раба или рабыни, о чем свидетельствуют письменные источники. Порабощение соплеменников-египтян («долговое рабство») было очень редким и официально не допускалос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2514600" cy="29718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2743200" cy="18144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5791320" y="3429000"/>
            <a:ext cx="31240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406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ная жизнь древних египтян зависела от сельскохозяйственного цикла. Было три времени года: «ахет» (разлив, половодье), «перет» (сезон сева, «прорастание всходов») и «шему» («засуха», сезон сбора урожая) - по 4 месяца. В Египте было много праздников, но самое большое число, конечно, приходилось на сезон «ахет», когда замирали все сельскохозяйственные работ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4038480" cy="26319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419720" y="3429000"/>
            <a:ext cx="2295360" cy="25909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6934320" y="3429000"/>
            <a:ext cx="2128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bl</cp:lastModifiedBy>
  <dcterms:modified xsi:type="dcterms:W3CDTF">2010-12-22T11:57:0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