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8C0-8395-41D3-9444-56F88823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78E-ECBB-4841-9709-77F172E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A60-E7DC-4756-BF9B-E6B3AAE5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E73-0421-49A6-9FEB-B36AA342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8B9-40F9-4D7D-952A-AB8AEB13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8D8-1561-45E1-9BC0-A5D9C404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78F-2677-46E4-BF7E-04C61524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670-460A-4E69-8ACE-EB0E3D2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D4E-11F3-4053-8F0F-0E5B687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CAA-1ECC-4597-ACC5-05D1C22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6B1-807E-425C-A083-75C6D5A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083-F0E4-4155-9E1C-69DA8E8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231A-C789-454A-B660-4CC04F28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77;&#1081;&#1086;&#1079;.swf" TargetMode="External"/><Relationship Id="rId2" Type="http://schemas.openxmlformats.org/officeDocument/2006/relationships/hyperlink" Target="file:///&#1052;&#1077;&#1081;&#1086;&#1079;.sw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мотреть особенности  мей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авнить механизм и биологическое значение митоза и мейо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692280"/>
            <a:ext cx="6324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йоз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ета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по принципу митоза, но при гаплоидном наборе хром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Хромосомы, состоящие из 2 хромат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агаются по экватору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ити веретена присоединяются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омерам (по одной с раз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41986" t="34221" r="41986" b="51571"/>
          <a:stretch/>
        </p:blipFill>
        <p:spPr>
          <a:xfrm>
            <a:off x="3124080" y="4019400"/>
            <a:ext cx="3429000" cy="2433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Ана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сходит по принципу ми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люсам расходятся дочерние хромосомы, состоящие из одной хрома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42012" t="34368" r="41983" b="51718"/>
          <a:stretch/>
        </p:blipFill>
        <p:spPr>
          <a:xfrm>
            <a:off x="2556000" y="3500280"/>
            <a:ext cx="403848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Тело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по принципу ми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ются 4 гаплоид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ы в каждой из клеток однохромати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42240" t="34110" r="41939" b="40348"/>
          <a:stretch/>
        </p:blipFill>
        <p:spPr>
          <a:xfrm>
            <a:off x="6095880" y="1752480"/>
            <a:ext cx="26560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Биологическое значение мей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ет определенное и постоянное число хромосом во всех поколениях каждого вида живых 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многообразие генетического состава гамет в результате кроссинговера и произвольного расхождения различных по происхождению хромосом в анафаз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 разнообразное и разнокачественное потомство, что имеет большое значение для 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айдите ошибку, допущенную худож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184464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82700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170676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68360" y="4292640"/>
            <a:ext cx="189072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148360" y="4292640"/>
            <a:ext cx="170316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1311480" cy="223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14440" cy="2241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150516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908000" y="1125360"/>
            <a:ext cx="212760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156360" y="4005360"/>
            <a:ext cx="214452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сположите рисунки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3429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ф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63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6308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6080" y="-25560"/>
            <a:ext cx="59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митоза и мей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476280"/>
          <a:ext cx="8569080" cy="6175440"/>
        </p:xfrm>
        <a:graphic>
          <a:graphicData uri="http://schemas.openxmlformats.org/drawingml/2006/table">
            <a:tbl>
              <a:tblPr/>
              <a:tblGrid>
                <a:gridCol w="2952720"/>
                <a:gridCol w="2733480"/>
                <a:gridCol w="2882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й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клетках происходи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ы 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делений вклю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 ДНК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азе перед нача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меж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м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коньюгац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кроссинговер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ы или хромат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ятся при делен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дочерних кле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ется в результат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 в дочерн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а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523800"/>
          <a:ext cx="8568720" cy="6175440"/>
        </p:xfrm>
        <a:graphic>
          <a:graphicData uri="http://schemas.openxmlformats.org/drawingml/2006/table">
            <a:tbl>
              <a:tblPr/>
              <a:tblGrid>
                <a:gridCol w="2678040"/>
                <a:gridCol w="3007440"/>
                <a:gridCol w="288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й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их клетках происходи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матичес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лов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ы 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аза, метафаза, анафаза, тело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делений вклю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с ДНК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азе перед нача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удвоение ДНК (реплика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оисходит меж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м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нтерфазе происхо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ликация Д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аза перед 2 дел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 отсутствуе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ликация ДНК 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коньюгац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в профаз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кроссинговер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в профаз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ы или хромат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ятся при делен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ати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ные хромосо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дочерних кле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ется в результат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 в дочерн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а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572120" y="-1080"/>
            <a:ext cx="59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митоза и мей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41924" t="34667" r="41924" b="41530"/>
          <a:stretch/>
        </p:blipFill>
        <p:spPr>
          <a:xfrm>
            <a:off x="380880" y="1828800"/>
            <a:ext cx="13590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1333" t="34553" r="41363" b="42084"/>
          <a:stretch/>
        </p:blipFill>
        <p:spPr>
          <a:xfrm>
            <a:off x="1905120" y="1828800"/>
            <a:ext cx="1481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40979" t="34627" r="40979" b="42084"/>
          <a:stretch/>
        </p:blipFill>
        <p:spPr>
          <a:xfrm>
            <a:off x="3505320" y="1828800"/>
            <a:ext cx="15508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40713" t="34368" r="40713" b="41862"/>
          <a:stretch/>
        </p:blipFill>
        <p:spPr>
          <a:xfrm>
            <a:off x="5181480" y="1828800"/>
            <a:ext cx="15624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39444" t="34331" r="39444" b="41899"/>
          <a:stretch/>
        </p:blipFill>
        <p:spPr>
          <a:xfrm>
            <a:off x="6934320" y="1828800"/>
            <a:ext cx="17524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6"/>
          <a:srcRect l="42086" t="34553" r="41794" b="51855"/>
          <a:stretch/>
        </p:blipFill>
        <p:spPr>
          <a:xfrm>
            <a:off x="457200" y="3809880"/>
            <a:ext cx="2057400" cy="138744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7"/>
          <a:srcRect l="41986" t="34221" r="41986" b="51571"/>
          <a:stretch/>
        </p:blipFill>
        <p:spPr>
          <a:xfrm>
            <a:off x="2590920" y="3809880"/>
            <a:ext cx="1981080" cy="14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8"/>
          <a:srcRect l="42012" t="34368" r="41983" b="51718"/>
          <a:stretch/>
        </p:blipFill>
        <p:spPr>
          <a:xfrm>
            <a:off x="4648320" y="3809880"/>
            <a:ext cx="213336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9"/>
          <a:srcRect l="42240" t="34110" r="41939" b="40348"/>
          <a:stretch/>
        </p:blipFill>
        <p:spPr>
          <a:xfrm>
            <a:off x="6934320" y="3809880"/>
            <a:ext cx="188892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процессы происходят в каждой ф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ейоз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особый вид деления клетки, при котором число хромосом в дочерних клетках становится гаплои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дит при образовании половых 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82 г.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альтер Флемми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рыл мейоз у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88 г.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Эдвард Страсбург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рыл мейоз у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ханизм мей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ет два последовательных деления клетки, следующих друг за 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819520"/>
            <a:ext cx="2361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2361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ейоз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2361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а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4120"/>
            <a:ext cx="2361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ейоз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352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33520" y="4495680"/>
            <a:ext cx="23619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495680"/>
            <a:ext cx="23619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5909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апливаются энергия и вещества необходимые для обоих делений мей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09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укционно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197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и отсутствует; не происходит репликация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30064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сходит по принципу митоза, но при гаплоидном наборе хромо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ро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6934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ворение ядерной оболочки и ядр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рализация хром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хождение центриолей к     полюсам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нитей веретена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оньюгация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а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jugati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единение) – сближение гомологичных хромосом, образование хромосомных пар - бивал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россингов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(англ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-ove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крест) – обмен участками  между гомологичными хромосо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62485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Метафаза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rcRect l="41333" t="34553" r="41363" b="42084"/>
          <a:stretch/>
        </p:blipFill>
        <p:spPr>
          <a:xfrm>
            <a:off x="6553080" y="380880"/>
            <a:ext cx="232884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а кроссингов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040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ета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ожение пар гомологич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мосом (бивалент) по экват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каждой хромосоме присоединяется нить веретена деления только от одного полю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нские и отцовские по происхождению хромосомы ориентированы к полюсам произво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40979" t="34627" r="40979" b="42084"/>
          <a:stretch/>
        </p:blipFill>
        <p:spPr>
          <a:xfrm>
            <a:off x="6629400" y="457200"/>
            <a:ext cx="22161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Ана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валенты распадаются на две хромос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ые хромосомы конкретной пары расходятся к разным полю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ая хромосома состоит из двух хромат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40713" t="34368" r="40713" b="41862"/>
          <a:stretch/>
        </p:blipFill>
        <p:spPr>
          <a:xfrm>
            <a:off x="3505320" y="3809880"/>
            <a:ext cx="267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Тело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двух дочерних клеток, имеющих гаплоидный набор хром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ая хромосома состоит из двух хромат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азы мей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39444" t="34331" r="39444" b="41899"/>
          <a:stretch/>
        </p:blipFill>
        <p:spPr>
          <a:xfrm>
            <a:off x="2895480" y="3505320"/>
            <a:ext cx="3353040" cy="306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рофаза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 укоро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ссинговер не проис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дит по принципу митоза, но при гаплоидном наборе хром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творение ядерной оболочки и ядр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ирализация хром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хождение центриолей к полюсам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разование нитей веретена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2086" t="34553" r="41794" b="51855"/>
          <a:stretch/>
        </p:blipFill>
        <p:spPr>
          <a:xfrm>
            <a:off x="3124080" y="4800600"/>
            <a:ext cx="2667240" cy="1798560"/>
          </a:xfrm>
          <a:prstGeom prst="rect">
            <a:avLst/>
          </a:prstGeom>
          <a:ln w="9360">
            <a:solidFill>
              <a:srgbClr val="33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arova.ev</cp:lastModifiedBy>
  <dcterms:modified xsi:type="dcterms:W3CDTF">2012-02-28T13:51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